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ECAF-C5A0-4D92-B082-D5EB5E1F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CAB-43F7-4D88-A839-F95B285D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C9ED-D5BE-44E9-B4E2-3CE1EE9F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30D0-934F-4F3E-B106-063DA905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2ED6-B690-4CAF-9627-217292F4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CF0D-465A-42AF-808E-6A46A27F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BD6-FED4-4C8A-9929-45180287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0AA7-EBC3-48F0-826F-1DCFBDCE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FD0-247C-4132-BBFC-ECBB56A9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C873-58BE-401A-8650-176C9EF8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0C9F-7A3B-4E37-9517-8FAAEA70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7C49-C452-4EEF-8F27-E8FC0051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3226-8951-4498-8177-905079634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3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April 25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1066680"/>
            <a:ext cx="77724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-un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2743200"/>
            <a:ext cx="80773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safety-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ll inputs i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there exist a safety-uncontrollable state s’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and an output 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such that  (s’,o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(s,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safety-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1066680"/>
            <a:ext cx="77724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ess Control 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2743200"/>
            <a:ext cx="73915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ere exists an input i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for all states s’ and outputs o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if  (s’,o)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possibleUpdates (s,i)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then  s’ is 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1080" y="556272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1 tran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410080" y="4800240"/>
            <a:ext cx="152640" cy="7621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2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95680" y="1066680"/>
            <a:ext cx="838440" cy="10670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3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114440" y="1066680"/>
            <a:ext cx="762120" cy="1143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4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057040" y="990720"/>
            <a:ext cx="762120" cy="1143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240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66680" y="19810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3657600"/>
            <a:ext cx="373392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53341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41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3915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915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767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862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9436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1676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960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6386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026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96080" y="23623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7240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3915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781680" y="457200"/>
            <a:ext cx="1828800" cy="4648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8320"/>
              <a:gd name="textAreaBottom" fmla="*/ 4559040 h 4648320"/>
            </a:gdLst>
            <a:ahLst/>
            <a:rect l="textAreaLeft" t="textAreaTop" r="textAreaRight" b="textAreaBottom"/>
            <a:pathLst>
              <a:path w="21600" h="54895">
                <a:moveTo>
                  <a:pt x="3600" y="0"/>
                </a:moveTo>
                <a:arcTo wR="3600" hR="3600" stAng="16200000" swAng="-5400000"/>
                <a:lnTo>
                  <a:pt x="0" y="51295"/>
                </a:lnTo>
                <a:arcTo wR="3600" hR="3600" stAng="10800000" swAng="-5400000"/>
                <a:lnTo>
                  <a:pt x="18000" y="548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934320" y="533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58672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3505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1480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32004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004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86200" y="3657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9112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862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911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2578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19320" y="3200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19320" y="14479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828800" y="1752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3880" y="19810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5740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792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143000" y="9144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143000" y="533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2880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8288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1337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812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878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096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057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199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5627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578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627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195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098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3520" y="2895480"/>
            <a:ext cx="373356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0880" y="57150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helpful inputs (ensure progress towards targe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safe inputs (keep plant out of uncontrollable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0880" y="2133720"/>
            <a:ext cx="85345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afety-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 all states in possibleUpdates (s,i) are safety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une from the state machine whose states are the consistent subsets of Safety-controllable and whose outputs ar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 t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without successo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then it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4920" y="457200"/>
            <a:ext cx="8534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ck consistent set of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ty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66880" y="259092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3124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90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343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12408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80880" y="1752480"/>
            <a:ext cx="87631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gress-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 all states in possibleUpdates (s,i)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uct the state machine whose states are the consistent subsets of Safety-controllable without target states (including the empty set Ø), and whose outputs are sa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and there is an acyclic, output-closed subgraph from possibleInitialStates to Ø, then prune away all states not in the subgraph; this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4920" y="457200"/>
            <a:ext cx="8534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ck consistent set of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990720" y="2514600"/>
            <a:ext cx="7391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usual, if the plan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n we need consider only consistent sets of size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other words, the controller always knows the state of the pla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53341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341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3915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915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767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767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862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76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960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386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3026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696080" y="23623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77240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915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457200"/>
            <a:ext cx="1828800" cy="4648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8320"/>
              <a:gd name="textAreaBottom" fmla="*/ 4559040 h 4648320"/>
            </a:gdLst>
            <a:ahLst/>
            <a:rect l="textAreaLeft" t="textAreaTop" r="textAreaRight" b="textAreaBottom"/>
            <a:pathLst>
              <a:path w="21600" h="54895">
                <a:moveTo>
                  <a:pt x="3600" y="0"/>
                </a:moveTo>
                <a:arcTo wR="3600" hR="3600" stAng="16200000" swAng="-5400000"/>
                <a:lnTo>
                  <a:pt x="0" y="51295"/>
                </a:lnTo>
                <a:arcTo wR="3600" hR="3600" stAng="10800000" swAng="-5400000"/>
                <a:lnTo>
                  <a:pt x="18000" y="548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34320" y="533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8672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19920" y="3505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11480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2004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86200" y="3657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19112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62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1911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52578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3200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19320" y="14479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28800" y="1752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23880" y="19810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740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4792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1143000" y="9144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3000" y="533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82880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1337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288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337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812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878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767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2096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7057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199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5627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627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098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33520" y="2895480"/>
            <a:ext cx="373356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580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209680" y="5791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-deterministic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" y="6019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3526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26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54100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17220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15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4100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150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8600" y="6019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yclic, output-closed sub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33526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3526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4100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24852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15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4100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7150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28600" y="6019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u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3244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6386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04920" y="41148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4864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86400" y="607068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5438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4290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038480" y="51055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95880" y="51055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5003640"/>
            <a:ext cx="5335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791320" y="5257800"/>
            <a:ext cx="0" cy="8128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6019920" y="52070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267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371600" y="485136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981080" y="505476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209680" y="4648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0" y="55119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3244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638680" y="5410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962520" y="52070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724280" y="5334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153280" y="4800600"/>
            <a:ext cx="355680" cy="558720"/>
          </a:xfrm>
          <a:custGeom>
            <a:avLst/>
            <a:gdLst/>
            <a:ahLst/>
            <a:rect l="l" t="t" r="r" b="b"/>
            <a:pathLst>
              <a:path w="224" h="352">
                <a:moveTo>
                  <a:pt x="0" y="224"/>
                </a:moveTo>
                <a:cubicBezTo>
                  <a:pt x="80" y="288"/>
                  <a:pt x="160" y="352"/>
                  <a:pt x="192" y="320"/>
                </a:cubicBezTo>
                <a:cubicBezTo>
                  <a:pt x="224" y="288"/>
                  <a:pt x="224" y="64"/>
                  <a:pt x="192" y="32"/>
                </a:cubicBezTo>
                <a:cubicBezTo>
                  <a:pt x="160" y="0"/>
                  <a:pt x="80" y="64"/>
                  <a:pt x="0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001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625880" y="48769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828800" y="685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Gam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981080" y="4267080"/>
            <a:ext cx="114300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1905120" y="2590920"/>
            <a:ext cx="121896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2133720" y="2742840"/>
            <a:ext cx="312408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3962160" y="2742840"/>
            <a:ext cx="297180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6171840" y="2438280"/>
            <a:ext cx="114300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2057040" y="4114440"/>
            <a:ext cx="1219320" cy="1066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5791320" y="4190760"/>
            <a:ext cx="1218960" cy="9903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52280" y="1522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133720" y="396252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6880" y="228600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81952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2819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2286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8195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3733920"/>
            <a:ext cx="434340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4267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37339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nite-state machine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848720" y="28191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51814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system never enters a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1240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lan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24680" y="31240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876920" y="167652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6019920" y="1143000"/>
            <a:ext cx="30456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819520" y="167652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4267080" y="1066680"/>
            <a:ext cx="14479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838080" y="3200400"/>
            <a:ext cx="152424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2285640" y="1066680"/>
            <a:ext cx="3429000" cy="2438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05720" y="320040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05720" y="1143000"/>
            <a:ext cx="53316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638680" y="3808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states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14600" y="4800600"/>
            <a:ext cx="396252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638680" y="3808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states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5715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inputs are sa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5715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subsets are consist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84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3716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81952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315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867280" y="5867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17220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11480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6680" y="1371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am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lant vs.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438280"/>
            <a:ext cx="7543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round consists of two moves: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Controller chooses plant input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Plant chooses plan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able plant stat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controller has a strategy to meet the objective (avoid error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plant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lant has a strategy to violate the objective (reach an error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648320" y="39625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819520" y="5257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23888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781680" y="5562720"/>
            <a:ext cx="457200" cy="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 flipV="1">
            <a:off x="4800600" y="3886200"/>
            <a:ext cx="990720" cy="1447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648320" y="39625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819520" y="5257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11480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23888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781680" y="5562720"/>
            <a:ext cx="457200" cy="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066680"/>
            <a:ext cx="3657600" cy="4648320"/>
          </a:xfrm>
          <a:custGeom>
            <a:avLst/>
            <a:gdLst>
              <a:gd name="textAreaLeft" fmla="*/ 178560 w 3657600"/>
              <a:gd name="textAreaRight" fmla="*/ 3479040 w 3657600"/>
              <a:gd name="textAreaTop" fmla="*/ 178560 h 4648320"/>
              <a:gd name="textAreaBottom" fmla="*/ 4469760 h 4648320"/>
            </a:gdLst>
            <a:ahLst/>
            <a:rect l="textAreaLeft" t="textAreaTop" r="textAreaRight" b="textAreaBottom"/>
            <a:pathLst>
              <a:path w="21600" h="27450">
                <a:moveTo>
                  <a:pt x="3600" y="0"/>
                </a:moveTo>
                <a:arcTo wR="3600" hR="3600" stAng="16200000" swAng="-5400000"/>
                <a:lnTo>
                  <a:pt x="0" y="23850"/>
                </a:lnTo>
                <a:arcTo wR="3600" hR="3600" stAng="10800000" swAng="-5400000"/>
                <a:lnTo>
                  <a:pt x="18000" y="27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105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457200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175248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 objective = SAFET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y away from the states in the set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58128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lant objective = PROGRES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to a state in the set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1981080"/>
            <a:ext cx="7010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ual control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ler attempts to lead the plant into a specified set of states (the “targe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14479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 Control  vs.  Progr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274320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oles of Plant and Controller are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the progress-controllable states are not the safety-uncontrollable, because the game is not symmetric (the controller always moves firs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, the solutions are very simi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12952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 =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335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066680"/>
            <a:ext cx="3657600" cy="4648320"/>
          </a:xfrm>
          <a:custGeom>
            <a:avLst/>
            <a:gdLst>
              <a:gd name="textAreaLeft" fmla="*/ 178560 w 3657600"/>
              <a:gd name="textAreaRight" fmla="*/ 3479040 w 3657600"/>
              <a:gd name="textAreaTop" fmla="*/ 178560 h 4648320"/>
              <a:gd name="textAreaBottom" fmla="*/ 4469760 h 4648320"/>
            </a:gdLst>
            <a:ahLst/>
            <a:rect l="textAreaLeft" t="textAreaTop" r="textAreaRight" b="textAreaBottom"/>
            <a:pathLst>
              <a:path w="21600" h="27450">
                <a:moveTo>
                  <a:pt x="3600" y="0"/>
                </a:moveTo>
                <a:arcTo wR="3600" hR="3600" stAng="16200000" swAng="-5400000"/>
                <a:lnTo>
                  <a:pt x="0" y="23850"/>
                </a:lnTo>
                <a:arcTo wR="3600" hR="3600" stAng="10800000" swAng="-5400000"/>
                <a:lnTo>
                  <a:pt x="18000" y="27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105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ty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457200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457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838080"/>
            <a:ext cx="99036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60199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419720" y="4343040"/>
            <a:ext cx="121896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838080"/>
            <a:ext cx="10666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1676160" y="3505320"/>
            <a:ext cx="685800" cy="259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10:30Z</dcterms:created>
  <dc:creator>tah</dc:creator>
  <dc:description/>
  <dc:language>en-US</dc:language>
  <cp:lastModifiedBy>tah</cp:lastModifiedBy>
  <dcterms:modified xsi:type="dcterms:W3CDTF">2001-04-25T09:03:17Z</dcterms:modified>
  <cp:revision>19</cp:revision>
  <dc:subject/>
  <dc:title>  </dc:title>
</cp:coreProperties>
</file>