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F6C0-2A78-4AB0-AC6F-38EA859B4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E53C-0941-4298-91FC-41E0048B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3246-8DF1-4ADE-A474-FF9998F9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6EBA-AEDE-4796-AD8D-7B22C7522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5744-724B-4347-91C9-4F097D68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B9F2-8C6B-4D60-9679-56E97E91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6B88-9AA3-479D-A520-6D91CE1A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40F2-0937-4F2A-8678-785CD173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C3CF-9F9E-49AD-8E0E-E89C93AE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0F2A-D485-4246-B08B-7B3FBD07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2E9E-AC6A-41F7-B48C-3800894C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B1B6-1750-4FBB-8C20-1DB7F1C6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51D3-6518-4900-A5F9-5252D65A2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3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April 23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52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fet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666880" y="2286000"/>
            <a:ext cx="43434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762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inite-State Safety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10280" y="2819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2286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machin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281952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3733920"/>
            <a:ext cx="4343400" cy="10666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426708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4267080"/>
            <a:ext cx="838440" cy="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37339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nite-state machine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82880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84872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518148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the composite system never enters a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1066680"/>
            <a:ext cx="701064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 the “uncontrollable” states of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2743200"/>
            <a:ext cx="73915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un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ll states 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or all inputs i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there exist an uncontrollable state s’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and an output 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such that  (s’,o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Updates (s,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  s is un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54100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 (cannot prevent error state from being entered in 1 trans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410080" y="4800240"/>
            <a:ext cx="15264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5181480" y="2057400"/>
            <a:ext cx="1067040" cy="9907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66880" y="2286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 (cannot prevent error state from being entered in 2 trans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15000" y="1066680"/>
            <a:ext cx="0" cy="9907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627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9480" y="5105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afe control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066680" y="1066680"/>
            <a:ext cx="701064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 the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66680" y="27432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ach controllable state s of the plant, choose one input i so that possibleUpdates (s,i) contains only controllable st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627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02920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hosen control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133720" y="54100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 : 1 q : 1    r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219320" y="914400"/>
            <a:ext cx="701028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 the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5800" y="2514600"/>
            <a:ext cx="77724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ach controllable state s of the plant, choose one input i so that possibleUpdates (s,i) contains only controllable st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ve the Controller keep track of the state of the Pla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f Plant is output-deterministic,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then Controller looks exactly like the controllable part of Plant, with inputs and outputs swappe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352680" y="2590920"/>
            <a:ext cx="236232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7621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25909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43434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bjec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5320" y="5846760"/>
            <a:ext cx="60948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05320" y="4508640"/>
            <a:ext cx="6094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09880" y="4915080"/>
            <a:ext cx="1800" cy="9316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2133720" y="4799160"/>
            <a:ext cx="1447560" cy="465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2057400" y="5486040"/>
            <a:ext cx="1447920" cy="523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429000" y="4100400"/>
            <a:ext cx="851040" cy="4082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2900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5909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1447920" y="4740120"/>
            <a:ext cx="850680" cy="4082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4343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4382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339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5846760"/>
            <a:ext cx="60948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05320" y="4508640"/>
            <a:ext cx="6094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09880" y="4915080"/>
            <a:ext cx="1800" cy="9316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133720" y="4799160"/>
            <a:ext cx="1447560" cy="465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 flipV="1">
            <a:off x="2057400" y="5486040"/>
            <a:ext cx="1447920" cy="523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429000" y="4100400"/>
            <a:ext cx="851040" cy="4082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42900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5909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1447920" y="4740120"/>
            <a:ext cx="850680" cy="4082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447920" y="4343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4382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339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286000" y="5791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181480" y="502920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the Controller can be made receptive in any wa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1143000" y="27432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f the Plant is not output-deterministic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00800" y="510552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480060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02920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400800" y="510552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480060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02920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105520" y="5715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ither 0 nor 1 is saf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800600" y="504180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562720" y="5181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1219320" y="685800"/>
            <a:ext cx="7010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2:  Design the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62120" y="1676520"/>
            <a:ext cx="80010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Controllable be the controllable states of the Plant.  A subset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ntrollable is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re is an input i such that for all states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ll states in possibleUpdates (s,i) are 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M be the state machine whose states are the consistent subsets of Controllable.  Prune from M the states that have no successor, until no more states can be pru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result contains possibleInitialStates (of the plant) as a state, then it is the desired Controller.  Otherwise, no controller exis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352680" y="2286000"/>
            <a:ext cx="236232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7621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1676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22860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3733920"/>
            <a:ext cx="2362320" cy="10666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426708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426708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1460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55308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3733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51814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the composite (“closed-loop”) system satisfies th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bjectiv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09480" y="44956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sistent sub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752480" y="51055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} : 0, 1   {q} : 1        {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733920" y="510552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,q} : 1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{p,r} : 0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q,r}, {p,q,r}  not consistent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172200" y="4419720"/>
            <a:ext cx="167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} : 0, 1   {q} : 1        {r} : 0        {p,q} : 1     {p,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172200" y="441972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q} : 1        {r} : 0        {p,q} : 1     {p,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172200" y="44197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r} : 0        {p,q} : 1     {p,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172200" y="44197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,q} : 1     {p,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172200" y="4419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,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286000" y="58672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905120" y="59436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419720" y="533412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105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419720" y="533412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105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419720" y="533412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105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419720" y="533412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105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38280" y="11430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 Control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28954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TI Pl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800600" y="504180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562720" y="5181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66680" y="10666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 Simple Linear Systems are Not Finite-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2590920"/>
            <a:ext cx="121932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28954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: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28954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: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4724280"/>
            <a:ext cx="495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y(z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4495680"/>
            <a:ext cx="403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z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S Reference 2"/>
                <a:ea typeface="MS Reference 2"/>
              </a:rPr>
              <a:t>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x(z-1) + x(z)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z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44197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66680" y="10666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 Simple Finite-State Systems are Not Lin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2590920"/>
            <a:ext cx="121932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28954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: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72200" y="28954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: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4724280"/>
            <a:ext cx="495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y(z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449568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(z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’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,  x(z’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’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,   x(z’)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44197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14600" y="2971800"/>
            <a:ext cx="1219320" cy="1066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15000" y="2971800"/>
            <a:ext cx="1219320" cy="1066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35053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3505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209680"/>
            <a:ext cx="1600200" cy="889200"/>
          </a:xfrm>
          <a:custGeom>
            <a:avLst/>
            <a:gdLst/>
            <a:ahLst/>
            <a:rect l="l" t="t" r="r" b="b"/>
            <a:pathLst>
              <a:path w="1008" h="560">
                <a:moveTo>
                  <a:pt x="336" y="560"/>
                </a:moveTo>
                <a:cubicBezTo>
                  <a:pt x="168" y="360"/>
                  <a:pt x="0" y="160"/>
                  <a:pt x="96" y="80"/>
                </a:cubicBezTo>
                <a:cubicBezTo>
                  <a:pt x="192" y="0"/>
                  <a:pt x="816" y="8"/>
                  <a:pt x="912" y="80"/>
                </a:cubicBezTo>
                <a:cubicBezTo>
                  <a:pt x="1008" y="152"/>
                  <a:pt x="840" y="332"/>
                  <a:pt x="672" y="5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2209680"/>
            <a:ext cx="1600200" cy="889200"/>
          </a:xfrm>
          <a:custGeom>
            <a:avLst/>
            <a:gdLst/>
            <a:ahLst/>
            <a:rect l="l" t="t" r="r" b="b"/>
            <a:pathLst>
              <a:path w="1008" h="560">
                <a:moveTo>
                  <a:pt x="336" y="560"/>
                </a:moveTo>
                <a:cubicBezTo>
                  <a:pt x="168" y="360"/>
                  <a:pt x="0" y="160"/>
                  <a:pt x="96" y="80"/>
                </a:cubicBezTo>
                <a:cubicBezTo>
                  <a:pt x="192" y="0"/>
                  <a:pt x="816" y="8"/>
                  <a:pt x="912" y="80"/>
                </a:cubicBezTo>
                <a:cubicBezTo>
                  <a:pt x="1008" y="152"/>
                  <a:pt x="840" y="332"/>
                  <a:pt x="672" y="5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1828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100 /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1828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/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30481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&gt; 100 /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51814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“i”  stands for any input valu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90720" y="1981080"/>
            <a:ext cx="7010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st Finite-State Control Obj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y out of a set of undesirable plant states (the “error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666880" y="2590920"/>
            <a:ext cx="43434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762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inite-State Safety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31240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2590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machin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4343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 s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states of Pl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312408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05:10:30Z</dcterms:created>
  <dc:creator>tah</dc:creator>
  <dc:description/>
  <dc:language>en-US</dc:language>
  <cp:lastModifiedBy>tah</cp:lastModifiedBy>
  <dcterms:modified xsi:type="dcterms:W3CDTF">2001-04-25T09:07:38Z</dcterms:modified>
  <cp:revision>11</cp:revision>
  <dc:subject/>
  <dc:title>  </dc:title>
</cp:coreProperties>
</file>