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C0A31B0-9187-485C-8A4F-1E99D4F54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E148D08-90B6-4B34-8258-30D2A9FD77ED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92160" y="76356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EB9130-248D-4E5E-923B-D19FEB37181B}" type="slidenum">
              <a:rPr b="0" lang="en-US" sz="13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039-72D9-4C0B-B423-28E9CA30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3B1-8D8B-4D2D-99C6-97954FAC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C06FD-32E2-4634-99D0-FD0B35AD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95A71-A9C1-44E7-8651-8927902D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45D6B-0E61-4EB8-84B2-8240A4E7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18DF8-B7FD-4982-871A-9F6A01E2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49163-8A20-4F5D-912A-77F17B77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C5108-20E3-4299-9CFE-DCD5AF0D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8C55C-3A4E-4ED7-A62A-83C4CB45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FDD43-934A-4B55-A698-B14961A4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2E330-662A-4AD6-8886-3BD6B283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5ED00-435E-4AF1-9550-774CBECD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137-C8B2-4E8A-9DC8-FB70F62D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5ECC7-5E3D-4DAC-86D8-44EB07F1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2AD47-7B4E-48D6-BC85-AE25F149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AAF58-12FE-4AF9-BAE7-E8264E40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34EC1-D6A0-42FA-A320-FE936CB5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B4DEA-2067-4227-97A7-E6B2B7FC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73D25-70B1-4E08-A84D-1DD21CE9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7393E-AD27-4D14-A592-2E0920DE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10438-2892-48C4-83CE-22FDC723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7E5F6-B054-4AC0-944E-2519C887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39D7F-3A80-4F12-914B-8693B797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F26-3564-4C54-AA94-9C1E5151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B898D-4D2D-41BA-BB8F-94C10932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37682-AC07-4607-863A-1175EA45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D0B57-ECAF-4AFE-BCAD-93924EF2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4FB41-BA11-4140-9016-034F1032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1BD30-0948-427E-9581-C61C474D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C36E7-E297-446A-A261-72CAE5F6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0C6A8-3B09-4F8F-AF64-6312AEAC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D94E4-49D7-4E9D-BEF4-66A15662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EBC53-3DBA-4FBF-B410-4075D1FF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EBCC2-BA02-4D92-B1BF-B67E935B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445F-B388-42FB-BF0D-024AE939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C9B20-DA81-4152-A2B1-AA0E2F71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339A1-D623-49E3-9DF4-D82A5B34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981B9-4385-45FD-9153-CD6162D8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33DC6-CF4D-49A3-B6C5-3CD41F11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78E74-19AC-4497-8A44-C6571A1D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2C916-9A25-46E9-83C5-2D408B66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693AA-4A4D-45B8-AA8C-6FFB7C17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30D20-ABE3-4598-B061-DE873277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CABC4-FF82-4C15-AF03-715A01AA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A2590-E33D-4962-B94C-EC22AAB7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D24B-72AD-4819-9557-13EEA753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942CD-7FBD-4930-89A5-A13835BE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7F861-1B8E-4490-8250-CA001601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DE276-22EC-4264-907E-C8E45BBB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C408F-BB24-4629-A0D9-CBD839C4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86F1E-B1FB-403E-BF3F-9832EF29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546F89-47B5-4A0D-A079-3D40AFF6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24379-062C-48A4-ABEE-7F8CFA04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CCAC9-C69D-4BB6-A6F1-3E5E55D3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A75E8-BEE3-4D39-A6C3-1AE113C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4D7C0-3FC4-40E6-BFA6-3E3CF0D3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C363-9991-41E3-B1FA-0658E7F4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68D6F-1015-4093-A8D7-1B2A4327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DBD31-B29C-4F7F-9BD6-CE382CFF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879D1-2884-4D39-A088-28D6A51D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278D5-38D0-4AE7-BD59-40A7A938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09D6D-E68A-44DD-80F2-FA4F0C69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EF49A-6F66-4F64-8569-7E64D593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ACE90-EEC7-47FF-8A87-1AD67BA3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2E70F-1477-402D-8527-C0B477CF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AF2FC-48F2-4EA4-9040-5D592EA8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89EF3-D8A0-4147-AA04-1F0F28FB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6812-A467-4352-984F-72B08F22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7E8A8-825C-4FEC-82B5-91FEDFD4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4B92C-F480-4A31-A464-E7F9F8CE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67746-249A-44FF-A7BC-5236642B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FFEFD9-6C0B-47C2-A0B4-E47E2931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B15DC-470C-4240-99E1-63D6DD1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19431-4E16-4C59-BC43-2DF81B69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76B236-CBDE-42EF-8777-72CC59E9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B9EAD5-37E0-4B7F-B559-C9C705C3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4C0CD-8F9D-4FB1-90AE-6581C9BB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AC053-3F75-463E-ABDB-018C8081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3571-0D71-42A7-9437-F450C22F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E7B0F2-ED69-439A-B243-0D85DBE8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3DA4A-7A21-403F-A167-6AFF51BD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FA8AF7-03C1-4D42-865A-21C56086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D098C-D41C-4938-90EC-34393777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8D690E-8557-450C-A266-FF95EB1E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6CE503-D2BE-4991-A345-3D794333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D949E-C501-47C3-B318-96FF7B26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FECE5-678D-4889-91F5-7E86113D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B96145-5B9F-45C2-857F-177A064D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DAC23-2964-4B56-B7B9-482AFA1C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0036-219E-4684-A1D7-5291216B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3A1B9-2507-4321-B21A-1353D7F0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35C43-AE97-4203-919B-857BEBED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9546F7-3EB3-4BC0-B9E6-4C9354FB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B2704-EB70-40BB-86D1-9293BBC9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B9306A-B834-4DF7-B689-BC457113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C37A5F-DB1C-41FB-95EB-E373C5BB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B1993-CAFD-4F76-92A5-E4B1BF31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3F0C25-AABF-4106-A694-0919C741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638AC7-1BA0-48F7-B681-2E05186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57C768-6C92-4203-8A5A-C788273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2E2D-D1C1-4399-9BDE-AA843FE5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907546-35F8-445E-989D-BA398D3D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A6509-F6AD-4CA9-8C99-312D3E2B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EB41D-7B62-42BE-A808-AB658F82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40EC4-4486-4802-8F7F-3C29D695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B47CF-C638-494F-A1FA-991E2ACC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7208E-E40A-4FD6-AB33-B6A7B58C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BB0AAE-492B-4ACB-82E1-16704C84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907A6-75C9-46D6-9564-4790EE50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840F2-3C0A-417E-9ADA-FA3296D2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DD79A-15F8-4D24-A822-7781C8ED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CBB-14AB-4085-A956-2F42CC34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1535-A9BC-4F66-AF49-19B8728B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3156FF-860E-4817-B71A-6B684164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FE996-7AF2-4CCF-9263-92AC0417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FE2C8-467A-47CE-9BC3-DC24B39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049A71-174A-4EFD-A13D-595BB2D8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3AA528-D0D5-4759-9A94-1B79CF3C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AC6B0-EFA2-437C-B1AB-7679FCC1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6801E7-0958-4579-ABEF-0CF95544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E5487-70E4-4FC2-B73E-0A6FC79A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3E19B1-C498-4FA1-A013-009CE285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5EDDB-3658-4692-B0DA-741DD1C4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84AE-D5A9-4DBE-87ED-20C54E4F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7650E-E8DA-414F-AE15-9BD7DFC6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DC1534-1AE9-4716-8B75-A62A7AEB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7D4498-60BE-43BE-B663-CF1B3DA6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56FDC-8373-4F00-976A-42E1DB87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7E8B2-D306-4226-B17B-E10D934F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8A1E5-7D23-4969-975F-AB56E46F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077747-BBA1-44CC-94DA-B548A92B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44EA2-2E42-415C-87E0-D3A06210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912CAF-2ACF-4A8F-85BF-F5ED4516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5C0274-894D-4294-979A-BBF0BF4F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F3B3-E9F0-4D23-B480-282E0371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28C855-3EA8-4BA3-B749-AC08B003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560F80-C4E3-4855-A26B-C07C3522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7CD910-4C8B-414A-8FAD-CC31EFE1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361F5-1E72-434C-8272-2DD3680B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C403A4-C2AF-4A0C-9F75-65C2E77C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77324-FCFB-4A75-913F-87E50EAA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A34965-168F-4613-AC38-30561507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5658A-6961-4CEB-BEEC-E80675AC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93F5C-6160-43EF-B2CA-2DD1ED83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014EC-E820-4FB6-B537-656431D2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1DFF-47EF-47C4-824A-C07176E5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AFF23-5E99-45BD-A81C-2311879C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A7AF8-25B9-419D-969C-E3B60791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3CDB53-6688-456A-8314-C48890D2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DA2BE-65B9-40F0-9B87-D3189BE4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E3D8D8-80FA-4FA7-8155-58796F9C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97D3E8-0517-4D3D-A3F9-AAF73A7C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10F791-A146-4C56-9844-ABD8B505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D4F841-E8FB-4E54-B48A-87220909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171B2-D2B5-4045-AFBF-FE604C86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C91F6-CC23-42BD-8B57-E2A9C08C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1836-050B-4F97-BBC8-89CB09EC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6397DB-7ABF-43C6-9F8B-6FEDF258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624E5C-DADE-4824-A083-F19D3167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08998A-CBCD-4543-BA4E-CD1B7C93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30D324-DE08-4627-9EC7-D85C7389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99E2CF-759A-46A7-9B74-1B72F22C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84C93-8BDF-40F5-AD78-8570F3E1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A96BF2-7126-4EA1-955B-851E43A4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BE662B-0178-49C5-84A6-A731EE8E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78F06-D472-4338-8E27-BAF196F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411F63-4982-4FF9-976E-E19028EF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65F0-9D7A-444E-8513-FC4B2A29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30AEDC-9035-4494-BF69-B699500E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0BA866-8E79-4EDC-BCAC-7E71941C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D5564-A76F-4ECF-9869-50A5DBD6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5636D8-3B3C-42A0-B5AF-FCFCD7C1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58B2AE-05B1-4F5A-A030-E5FBFE4A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67F593-1426-4FFA-8220-B2E1FD5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E99912-A508-492B-907E-F1C1DC91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08D9C8-6C6B-461D-9CB8-4D460A33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676279-8CD2-47A9-B664-C02849E3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706F87-E4BF-4C0F-8539-E257152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EC0F-27AD-4AD5-8FEE-FFC59857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54E2B0-2849-4F6E-9E9E-643A57D8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544D96-C939-45F1-A157-69669797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804FB0-C349-49EB-87A9-36290965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8DC0C7-88B0-4457-A8E2-EC555770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7FC220-8873-421F-AA32-1121AB62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3CE78C-33E6-46B5-8B75-CBF8CFA8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C83D43-C411-4DBF-A680-2C91E6D8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3EF64-B9DA-4799-94F2-86F2C427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1F7A68-D7B1-4B19-AF9F-557C26EA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7501C8-EBC7-457A-90DA-FE5C8B1E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A6A5E-0B38-4282-967A-F0093592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160DBA-6FA8-4DFD-820B-34630FE3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29B35F-5376-48E2-8E40-B97100C0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6D939E-D601-4B6A-AE62-74BAFF31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A87D4E-8A37-4322-8C7D-9EC2312F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9B7421-7656-47F2-B160-CEC23F43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DBBD52-61AA-4DB1-85EB-177E351A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58ACDF-35C0-4AFC-BDBF-AECC752C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7D30A2-18B4-4363-86A7-57DDB7CD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FEC466-01D7-4321-903D-7D04FB1D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D5DFCE-FE71-4B73-87FB-B18A9E97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E756-F83D-4424-87CD-8BA532A8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905A90-BCCF-4747-9070-5F967D04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BEA000-F3A7-4088-B1E1-3A77FA3C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18F20F-0489-4ECE-9BD4-6BF775E6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83FB28-554B-4C2C-8C42-C759E83D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9643E5-00A2-4A27-A381-AFAA72CC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0D7CF2-0169-4419-87A3-97AF2FF5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9A7A30-7A0B-42C1-80B8-6E82E2DF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7DB4DB-AAB8-46FD-B7D5-1AD03F14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2F13FC-F4AD-47D8-B5F1-B97490CF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C1099-0CE8-4670-95A8-8B83B4A5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896-8B04-4A01-9405-3BA86DA7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F5F4D-4100-474C-8A3A-4EEF90A3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BC8D-9622-4FEC-9D09-A0227241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3B7F8-207E-43A9-AED7-F78D5B89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9C07D-A645-457D-8E19-92F2A9C0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29B8-BC0D-4F84-A29C-0A6D1F1C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2760B-D592-414D-9F12-504BF368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C00C-1FD0-4E24-8C6B-9E14971B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7FDC7-46FC-4DAC-9297-521DBAAA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3661-09B5-417B-92CE-F31A095A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907DA-BA80-449D-913D-6E348C6A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A10-BCF4-406B-9A95-E6F73A31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81649-A622-4ED7-A832-582DC972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6DC5-53D7-4B83-828D-BD8F4421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B7A0C-9825-4579-AF95-6EE17A87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F7184-1A64-4EDC-889E-333488FC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B71E1-AB77-4049-8EF8-E2984DDE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9288B-D4FF-4CE9-9FC5-906FEA9D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07172-4458-4126-AF4A-D81EFABE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AAD1A-641A-4096-A287-C33FE365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1EBEA-129E-403A-964A-DF9F6DEC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E0798-7804-4C23-94C0-B9CED8AD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DAC0-B686-47BF-9FEC-1B3ED59D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8DE0D-EFCC-4DE1-A2D6-C18B595F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7436F-02EF-4760-838F-815E10C4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ACBF6-B7FD-42D5-933D-C1D3B3DC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03B7A-4243-4131-A344-69945FDB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73618-334F-4503-8ED3-41828F06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D47BD-4759-4576-AC4A-9A06F14E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3E5F-ADD9-4C41-989A-61FB31A0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82F0-0D80-4D46-A765-CFE34AF4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21A51-DB67-48AE-B818-51DFB75C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15049-29CC-4805-BC03-27B9C44A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6F7-AFA2-44CD-B28D-D3D6512A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6FED2-AADC-4B82-8C88-0C99EBDC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CEB57-37FA-467D-9D6F-26D7792F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18D24-41B0-478D-A732-4EBC7A32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DDAB6-9AC5-43B1-8C5C-83F133F3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88277-B1C7-42DA-A378-FEEB18AB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D9E88-B7D4-4C88-B993-70E2D766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78F7A-6E04-4794-9174-22885594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5E34C-5BF0-4798-ACE7-B2C9AC0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FB96A-F5D8-40F8-B4F3-7F27E02C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A3E1E-4417-4E33-9707-6249B9D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52C5-2D4B-40C1-9084-918B47E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87AB3-27D1-4122-8C3B-2743F783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62CA0-358C-48B0-B89C-1AACC017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A3F7-D0D2-4EF3-9774-D7EC02FC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864B6-B439-4ECB-82DE-1E9D06AF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474CC-70B2-4A99-AB65-805056F7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F8C6A-32FA-4B14-9924-DE91318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5CE0C-C5BC-48BD-9BCB-38D42DE1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8DB4D-45CE-4CFB-A1F9-42F4F9C1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3F32D-DA61-4AD2-AC4A-8A7E42FE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8204D-2075-41A2-950D-CF4BEA87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A03-C5FF-4FC7-A126-640AD65C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B13F9-2F9A-4028-BC2E-DDADF49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23796-CB64-4427-AF3C-19BC577E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EB326-69AA-427C-B6C3-44FC8EC4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F2CA6-ADB1-4C91-B17D-7A0CDF06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99A62-3DF8-43BD-9514-881034FA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80563-69A5-4322-A03F-08A5DF06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E7500-BE95-4A2F-A2D4-77764827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03F38-B4AA-4B06-B0CF-45F43D77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6FD50-22E4-4A80-8E38-FA044729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9B4D6-B772-4113-B6F9-1771261D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2B13-037F-408F-9F1F-BB918204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77724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56A6C-71B1-4F0E-AD1A-A6FCE66E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2184D-79E9-4048-935B-A6516A6A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F2EA4-963F-4F9C-A8E5-C1C662B4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A7C6F-F949-4BAA-8F1B-0142F6D6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78920" y="3952080"/>
            <a:ext cx="87138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666DC-76EA-4A02-B6AE-F5CB65D2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4360" y="98100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7892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44360" y="3952080"/>
            <a:ext cx="42523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20CE8-B9FB-4B80-8F79-9610DCCD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2516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1040" y="98100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7892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2516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1040" y="3952080"/>
            <a:ext cx="28054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90C54-C6F5-4BF9-923D-FD76F341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21D20-C4C5-4584-ADB7-CEBF21A6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66B2B-2321-41A8-A03E-1F9E22FC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14AA7-0314-4D3F-B783-7E316A75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86E7-298E-4BDA-8AB5-12912AA0807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FA76-2804-4DDB-B63E-D4A82A5EE01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392C-4DEA-4C32-B4E9-FADD339593A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F7D8-9F89-4090-BC00-A116ED72C9F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333B-3261-433C-8497-724ADCEF885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B5E1-C1A1-4585-9D6C-BA36495DB4FE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2DF8-78C4-42C7-82A6-7CD06BFDEFD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4F8D-F950-40B8-90F7-229EBDFC331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E96D-1AF3-43BF-94E1-A8C763156A2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C6A0-BB18-4879-B08D-5F14BEDD377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372B-A229-449F-8A08-162BBFC6F3A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B9D4-D75A-43F5-BA50-0CB21B149AC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CB30-0651-424D-B418-D1F0D8E81DA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34BF-69A8-4573-8EC6-AD03B600353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3BCD-18F5-4822-A9FF-2697504F8C2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F71A-D6A9-4E1A-9215-972EBE9018B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303D-74F5-4949-9813-7697EA7D0C9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73D3-6189-47A0-BFA6-6FE7DDBB38F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A79C-F2CC-44AE-B764-EC358F6F620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BE1F-A1C8-4195-89D6-F974E24C014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036B-B329-40B7-A5DC-0446D27A180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FE5C-E6EF-463F-9E1A-CA6FF130D9B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93D1-5218-429E-ADD1-E7E85D7CBBD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2230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D7A1-D321-4ABA-80F2-F8FF29B635E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0" y="2997000"/>
            <a:ext cx="9144000" cy="12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Tahoma"/>
              </a:rPr>
              <a:t>Teoria e Tecniche del Riconoscimento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2" name="Text Box 3"/>
          <p:cNvSpPr/>
          <p:nvPr/>
        </p:nvSpPr>
        <p:spPr>
          <a:xfrm>
            <a:off x="804960" y="457200"/>
            <a:ext cx="760716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acoltà di Scienze MM. FF. NN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à di Verona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2-13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3" name="Rectangle 4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lustering-Validazion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DD38-3AC9-467B-A1E6-AE1E51B9458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riteri inter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cophenetic distance misura quando sono simili due oggetti “dato l’albero” (cioè la misura di distanza espressa dall’alber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PCC: coefficiente di correlazione normalizza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8" name="Picture 4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8551800" cy="1231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2"/>
          <a:stretch/>
        </p:blipFill>
        <p:spPr>
          <a:xfrm>
            <a:off x="324000" y="4292640"/>
            <a:ext cx="2388960" cy="690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6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2376360" cy="704880"/>
          </a:xfrm>
          <a:prstGeom prst="rect">
            <a:avLst/>
          </a:prstGeom>
          <a:ln w="0">
            <a:noFill/>
          </a:ln>
        </p:spPr>
      </p:pic>
      <p:sp>
        <p:nvSpPr>
          <p:cNvPr id="1051" name="Rectangle 7"/>
          <p:cNvSpPr/>
          <p:nvPr/>
        </p:nvSpPr>
        <p:spPr>
          <a:xfrm>
            <a:off x="3059280" y="4222800"/>
            <a:ext cx="5473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sura la correlazione tra la distanza derivante dai dati e la distanza derivante dal dendrogramma che spiega i dati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=n(n-1)/2, n numero di oggetti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PCC varia tra -1 e 1: più è vicino a 1 migliore è il clusterin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9B9E-7848-4431-B803-1DFA1B79839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ispondono alle seguenti doman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a partizione ha un buon match con le categorie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Quanti cluster ci sono nel dataset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ove deve essere tagliato il dendrogramm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Quale tra due partizioni date fitta meglio il dataset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4ED0-9FFC-4045-9E05-909EB0F2822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estern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ipicamente si va a confrontare due partizion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na deriva dal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na deriva dall’informazione a priori (etichette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versi indici Rand, Jaccard, Fowlkes and Mallows,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Г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tatistic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F594-45E1-46D0-944B-8182248D652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dea: ho due partizioni U e V da confronta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: risultato del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V: clustering “vero” (deriva dalle etichette note a priori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finizione di due funzioni Indicatric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U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(i,j) vale 1 se gli oggetti i e j sono nello stesso cluster secondo il clustering U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V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(i,j) vale 1 se gli oggetti i e j sono nello stesso cluster secondo il clustering V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finizione della “tabella di contingenza”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061" name="Group 35"/>
          <p:cNvGrpSpPr/>
          <p:nvPr/>
        </p:nvGrpSpPr>
        <p:grpSpPr>
          <a:xfrm>
            <a:off x="2557440" y="4843440"/>
            <a:ext cx="2374920" cy="1898640"/>
            <a:chOff x="2557440" y="4843440"/>
            <a:chExt cx="2374920" cy="1898640"/>
          </a:xfrm>
        </p:grpSpPr>
        <p:grpSp>
          <p:nvGrpSpPr>
            <p:cNvPr id="1062" name="Group 27"/>
            <p:cNvGrpSpPr/>
            <p:nvPr/>
          </p:nvGrpSpPr>
          <p:grpSpPr>
            <a:xfrm>
              <a:off x="2916360" y="5157720"/>
              <a:ext cx="2015640" cy="1584360"/>
              <a:chOff x="2916360" y="5157720"/>
              <a:chExt cx="2015640" cy="1584360"/>
            </a:xfrm>
          </p:grpSpPr>
          <p:sp>
            <p:nvSpPr>
              <p:cNvPr id="1063" name="Rectangle 22"/>
              <p:cNvSpPr/>
              <p:nvPr/>
            </p:nvSpPr>
            <p:spPr>
              <a:xfrm>
                <a:off x="3348000" y="5661000"/>
                <a:ext cx="1584000" cy="1081080"/>
              </a:xfrm>
              <a:prstGeom prst="rect">
                <a:avLst/>
              </a:prstGeom>
              <a:noFill/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64" name="Text Box 23"/>
              <p:cNvSpPr/>
              <p:nvPr/>
            </p:nvSpPr>
            <p:spPr>
              <a:xfrm>
                <a:off x="3563640" y="5661000"/>
                <a:ext cx="122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66"/>
                    </a:solidFill>
                    <a:latin typeface="Tahoma"/>
                  </a:rPr>
                  <a:t>a       b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65" name="Text Box 24"/>
              <p:cNvSpPr/>
              <p:nvPr/>
            </p:nvSpPr>
            <p:spPr>
              <a:xfrm>
                <a:off x="3563640" y="6237360"/>
                <a:ext cx="122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66"/>
                    </a:solidFill>
                    <a:latin typeface="Tahoma"/>
                  </a:rPr>
                  <a:t>c       d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3563640" y="5157720"/>
                <a:ext cx="122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66"/>
                    </a:solidFill>
                    <a:latin typeface="Tahoma"/>
                  </a:rPr>
                  <a:t>1       0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67" name="Text Box 26"/>
              <p:cNvSpPr/>
              <p:nvPr/>
            </p:nvSpPr>
            <p:spPr>
              <a:xfrm>
                <a:off x="2916360" y="5661000"/>
                <a:ext cx="12236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66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66"/>
                    </a:solidFill>
                    <a:latin typeface="Tahoma"/>
                  </a:rPr>
                  <a:t>0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068" name="Text Box 33"/>
            <p:cNvSpPr/>
            <p:nvPr/>
          </p:nvSpPr>
          <p:spPr>
            <a:xfrm>
              <a:off x="2557440" y="5877000"/>
              <a:ext cx="93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I</a:t>
              </a:r>
              <a:r>
                <a:rPr b="0" lang="it-IT" sz="2400" spc="-1" strike="noStrike" baseline="-25000">
                  <a:solidFill>
                    <a:srgbClr val="000066"/>
                  </a:solidFill>
                  <a:latin typeface="Tahoma"/>
                </a:rPr>
                <a:t>U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9" name="Text Box 34"/>
            <p:cNvSpPr/>
            <p:nvPr/>
          </p:nvSpPr>
          <p:spPr>
            <a:xfrm>
              <a:off x="3997440" y="4843440"/>
              <a:ext cx="93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I</a:t>
              </a:r>
              <a:r>
                <a:rPr b="0" lang="it-IT" sz="2400" spc="-1" strike="noStrike" baseline="-25000">
                  <a:solidFill>
                    <a:srgbClr val="000066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70" name="Text Box 36"/>
          <p:cNvSpPr/>
          <p:nvPr/>
        </p:nvSpPr>
        <p:spPr>
          <a:xfrm>
            <a:off x="5724360" y="530064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a = numero di coppie di oggetti che sono nello stesso gruppo in tutte e due le partizioni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D907-8988-4951-B3BE-CB20356D90B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ltre definizi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= numero di coppie nello stesso gruppo in U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1 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= a+b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= numero di coppie nello stesso gruppo in V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Tahoma"/>
              </a:rPr>
              <a:t>2 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= c+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 = a+b+c+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BEBA-70FA-4E95-8393-84ADB7E7EAE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 diversi indici sono definiti a partire da queste quantità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an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Jaccar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Fowlkes &amp; Mallow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  <a:ea typeface="Tahoma"/>
              </a:rPr>
              <a:t>Γ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 statistic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77" name="Picture 4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1190520" cy="11970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5" descr=""/>
          <p:cNvPicPr/>
          <p:nvPr/>
        </p:nvPicPr>
        <p:blipFill>
          <a:blip r:embed="rId2"/>
          <a:stretch/>
        </p:blipFill>
        <p:spPr>
          <a:xfrm>
            <a:off x="2195640" y="3121200"/>
            <a:ext cx="1515960" cy="5522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6" descr=""/>
          <p:cNvPicPr/>
          <p:nvPr/>
        </p:nvPicPr>
        <p:blipFill>
          <a:blip r:embed="rId3"/>
          <a:stretch/>
        </p:blipFill>
        <p:spPr>
          <a:xfrm>
            <a:off x="3780000" y="4076640"/>
            <a:ext cx="1911240" cy="7286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7" descr=""/>
          <p:cNvPicPr/>
          <p:nvPr/>
        </p:nvPicPr>
        <p:blipFill>
          <a:blip r:embed="rId4"/>
          <a:stretch/>
        </p:blipFill>
        <p:spPr>
          <a:xfrm>
            <a:off x="2195640" y="5157720"/>
            <a:ext cx="3690720" cy="9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0903-3498-4F63-B775-78764947766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partizio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intern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fficili da stimare: devono misurare il fitting tra una partizione data e il datase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roblema fondamentale: stimare il numero di cluster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olti metodi (esempio metodi di model selection per modelli probabilistic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a molte difficoltà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tima della baseline (campionamento di molti dataset + stima di un indice interno --- ma quale modello per campionare i dati?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Gli indici interni dipendono strettamente dai parametri del problem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Numero di features, numero di patterns, numero di clusters …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3497-9A9E-42D7-AC41-AFEF67AF1EB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Un particolare indic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’indice di Davies-Bouldin (1979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izialmente utilizzato per decidere quando fermare un clustering sequenzi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’indice viene calcolato al variare del numero di cluster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miglior clustering corrisponde al valore minim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(definizione alla lavagn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4A78-73F6-4A40-85F5-3C9810B68DD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28600" y="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90" name="Picture 4" descr=""/>
          <p:cNvPicPr/>
          <p:nvPr/>
        </p:nvPicPr>
        <p:blipFill>
          <a:blip r:embed="rId1"/>
          <a:stretch/>
        </p:blipFill>
        <p:spPr>
          <a:xfrm>
            <a:off x="539640" y="888840"/>
            <a:ext cx="8388360" cy="5853240"/>
          </a:xfrm>
          <a:prstGeom prst="rect">
            <a:avLst/>
          </a:prstGeom>
          <a:ln w="0">
            <a:noFill/>
          </a:ln>
        </p:spPr>
      </p:pic>
      <p:sp>
        <p:nvSpPr>
          <p:cNvPr id="1091" name="Rectangle 5"/>
          <p:cNvSpPr/>
          <p:nvPr/>
        </p:nvSpPr>
        <p:spPr>
          <a:xfrm>
            <a:off x="87480" y="0"/>
            <a:ext cx="905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Può anche essere utilizzato per determinare la presenza di una struttura di cluster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295C-C368-40D1-B25E-7DBA0AB348E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Validità di singoli cluste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basati su due proprietà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mpattezza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solam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attezza: misura la coesione interna tra gli oggetti del cluster (quanto sono vicini tra di lor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solamento: misura la separazione tra un cluster e tutti gli altri patter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luster valido: compatto e isola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e misurare compattezza e isolamento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versi indici complessi (vedi Cap 4.5 Libro Jain Dubes)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2AB8-044A-4708-8D9A-9968491A6E2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66"/>
                </a:solidFill>
                <a:latin typeface="Tahoma"/>
              </a:rPr>
              <a:t>Sommario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finizione di validazione del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idazione di gerarchi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idazione di partizi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lustering tendency”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E0E9-E9A5-4111-A7EE-641A84D3D00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tendenc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roblema: gli algoritmi di clustering producono sempre un output, indipendentemente dal datase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finizione: identificare, senza effettuare il clustering, se i dati hanno una predisposizione ad aggregarsi in gruppi natural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Operazione preliminare crucial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reviene dall’applicare elaborate metodologie di clustering e di validazione a dati in cui i cluster sono sicuramente degli artefatti degli algoritmi di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B247-13B1-4B6A-AD18-39C846471DAF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ing tendenc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DEA: studio dello spazio delle features in modo da identificare tre possibili situazion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 pattern sono sistemati in modo casuale (spatial randomness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 pattern sono aggregati, cioè esibiscono una mutua attrazio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 pattern sono spaziati regolarmente, cioè esibiscono una mutua repulsio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ei casi 1 e 3 non ha senso effettuare il clustering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5C3A-99BA-452C-B614-A09FFD68787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 tendenc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104" name="Group 4"/>
          <p:cNvGrpSpPr/>
          <p:nvPr/>
        </p:nvGrpSpPr>
        <p:grpSpPr>
          <a:xfrm>
            <a:off x="63360" y="1138320"/>
            <a:ext cx="9467640" cy="3486960"/>
            <a:chOff x="63360" y="1138320"/>
            <a:chExt cx="9467640" cy="3486960"/>
          </a:xfrm>
        </p:grpSpPr>
        <p:pic>
          <p:nvPicPr>
            <p:cNvPr id="1105" name="Picture 5" descr=""/>
            <p:cNvPicPr/>
            <p:nvPr/>
          </p:nvPicPr>
          <p:blipFill>
            <a:blip r:embed="rId1"/>
            <a:stretch/>
          </p:blipFill>
          <p:spPr>
            <a:xfrm>
              <a:off x="63360" y="1138320"/>
              <a:ext cx="3058920" cy="30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6" descr=""/>
            <p:cNvPicPr/>
            <p:nvPr/>
          </p:nvPicPr>
          <p:blipFill>
            <a:blip r:embed="rId2"/>
            <a:stretch/>
          </p:blipFill>
          <p:spPr>
            <a:xfrm>
              <a:off x="6075000" y="1141560"/>
              <a:ext cx="297504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7" name="Text Box 7"/>
            <p:cNvSpPr/>
            <p:nvPr/>
          </p:nvSpPr>
          <p:spPr>
            <a:xfrm>
              <a:off x="963360" y="416556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random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8" name="Text Box 8"/>
            <p:cNvSpPr/>
            <p:nvPr/>
          </p:nvSpPr>
          <p:spPr>
            <a:xfrm>
              <a:off x="3916080" y="416556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regula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9" name="Text Box 9"/>
            <p:cNvSpPr/>
            <p:nvPr/>
          </p:nvSpPr>
          <p:spPr>
            <a:xfrm>
              <a:off x="6867360" y="416556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66"/>
                  </a:solidFill>
                  <a:latin typeface="Tahoma"/>
                </a:rPr>
                <a:t>cluste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110" name="Picture 10" descr=""/>
            <p:cNvPicPr/>
            <p:nvPr/>
          </p:nvPicPr>
          <p:blipFill>
            <a:blip r:embed="rId3"/>
            <a:stretch/>
          </p:blipFill>
          <p:spPr>
            <a:xfrm>
              <a:off x="3122280" y="1138320"/>
              <a:ext cx="2943360" cy="3024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DAA4-D166-417A-AA8A-C926EC4CBF3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 tendenc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DEA: effettuare alcuni test in modo da determinare se esiste o meno una struttura (e.g. test per una distribuzione uniforme in una finestra detta sampling window)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EMP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can tests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ntare il numero di pattern presenti nella sottoregione più popolos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e il numero è inusualmente grande allora esiste un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ROBLEMI: come definire le sottoregioni, cosa vuol dire “inusualmente grande”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70F1-DB21-459D-9AC6-C9645DA4F65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luster tendency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EMP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Quadrat analysis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artizionare la sampling window in rettangoli di dimensione ugu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ntare il numero di punti in ogni rettangol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n caso di distribuzione randomica, l’insieme di conteggi segue una distribuzione nota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a randomicità viene attestata con un test di similarità tra distribuzioni (e.g. il test del chi quadro)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ROBLEMI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dimensione dei sottorettangoli (si può anche fare multiscala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Tahoma"/>
              </a:rPr>
              <a:t>Funziona solo per un numero limitato di features (altrimenti la maggior parte dei rettangoli sono vuoti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C3D1-C1F5-48FB-BB0A-ABB4C521F5E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Definizion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Validazione del clustering: insieme di procedure che valutano il risultato di un’analisi di clustering in modo quantitativo e oggettiv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ifferente dalla validazione “soggettiva”: data dal particolare contesto applicativo, con l’utilizzo della conoscenza a priori sul problema (intesa anche come “interpretazione dei risultati”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In questa parte: validazione “oggettiva”: misura </a:t>
            </a:r>
            <a:r>
              <a:rPr b="0" lang="it-IT" sz="2000" spc="-1" strike="noStrike" u="sng">
                <a:solidFill>
                  <a:srgbClr val="000066"/>
                </a:solidFill>
                <a:uFillTx/>
                <a:latin typeface="Tahoma"/>
              </a:rPr>
              <a:t>quantitativa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della capacità della struttura trovata di spiegare i dati (indipendentemente dal contesto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5CD4-579F-41FA-BE39-4FE450C299E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li indici possono essere diversi a seconda della struttura analizzata (del tipo di clustering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erarchie: risultato degli algoritmi gerarchic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Possiamo anche voler valutare una gerarchia esistente, ad esempio un modello teoric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artizioni: risultato degli algoritmi partizional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i può valutare una partizione esistente derivante da informazioni di categor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EE7F-3BC5-4469-B5AC-36A3680B2E4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ipi di indic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esterni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surano le performance di un clustering andando a confrontare informazioni a priori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Esempio: etichette già note a prior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intern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Misurano le performance di un clustering utilizzando solo i dati (completamente non supervisionato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relativ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nfronta due risultati di cluster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90EE-D12F-419A-91A2-48A78487241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TA: differenza tra criterio e indi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ndice: misura statistica che viene utilizzata per testare la validità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o: strategia con cui un clustering viene valida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TIPICAMENT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el caso di criteri interni o esterni, si va a vedere se il valore di un indice è particolarmente “grande” o particolarmente “piccolo”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2D48-1A31-4B62-B14A-A81598A3F7C4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Questioni principal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efinizione di un indic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ve avere senso anche da un punto di vista intuitiv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ve essere basato su una solida teori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Deve essere facilmente calcolabi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6B88-EAF1-45F1-9FDD-81C78C2CA59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Indici di validità per gerarchi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riteri esterni: verificare se una gerarchia (dendrogramma) calcolata per un dato insieme di dati corrisponde alla gerarchia attes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pproccio tipico (Hubert’s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  <a:ea typeface="Tahoma"/>
              </a:rPr>
              <a:t>Г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 statistics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  <a:ea typeface="Tahoma"/>
              </a:rPr>
              <a:t>Nota: questo problema di validazione non ha ricevuto un grande interesse, in quanto è piuttosto difficile avere una gerarchia “vera” con cui confrontare il clustering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BE86-02C3-4FB6-8CC6-7B98A5F3A98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riteri intern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ispondono alle seguenti doman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Una gerarchia fitta bene i dati su cui è stata calcolat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i si può fidare di un determinato risultato di clustering gerarchic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Un esempio: CPCC (Cophenetic correlation coefficient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cophenetic distance: il livello di un dendrogramma dove due oggetti sono stati messi nello stesso cluster per la prima volt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018" name="Group 4"/>
          <p:cNvGrpSpPr/>
          <p:nvPr/>
        </p:nvGrpSpPr>
        <p:grpSpPr>
          <a:xfrm>
            <a:off x="250920" y="3381480"/>
            <a:ext cx="3816360" cy="3434760"/>
            <a:chOff x="250920" y="3381480"/>
            <a:chExt cx="3816360" cy="3434760"/>
          </a:xfrm>
        </p:grpSpPr>
        <p:cxnSp>
          <p:nvCxnSpPr>
            <p:cNvPr id="1019" name="AutoShape 5"/>
            <p:cNvCxnSpPr/>
            <p:nvPr/>
          </p:nvCxnSpPr>
          <p:spPr>
            <a:xfrm flipH="1" rot="16200000">
              <a:off x="2635920" y="5995440"/>
              <a:ext cx="1800" cy="4651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20" name="AutoShape 6"/>
            <p:cNvCxnSpPr/>
            <p:nvPr/>
          </p:nvCxnSpPr>
          <p:spPr>
            <a:xfrm flipH="1" rot="16200000">
              <a:off x="1704600" y="5995080"/>
              <a:ext cx="1800" cy="466200"/>
            </a:xfrm>
            <a:prstGeom prst="bentConnector3">
              <a:avLst>
                <a:gd name="adj1" fmla="val -345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21" name="AutoShape 7"/>
            <p:cNvCxnSpPr/>
            <p:nvPr/>
          </p:nvCxnSpPr>
          <p:spPr>
            <a:xfrm flipH="1" rot="16200000">
              <a:off x="3566880" y="5994720"/>
              <a:ext cx="1800" cy="466560"/>
            </a:xfrm>
            <a:prstGeom prst="bentConnector3">
              <a:avLst>
                <a:gd name="adj1" fmla="val -68600000"/>
              </a:avLst>
            </a:prstGeom>
            <a:ln w="28440">
              <a:solidFill>
                <a:srgbClr val="000066"/>
              </a:solidFill>
              <a:miter/>
            </a:ln>
          </p:spPr>
        </p:cxnSp>
        <p:grpSp>
          <p:nvGrpSpPr>
            <p:cNvPr id="1022" name="Group 8"/>
            <p:cNvGrpSpPr/>
            <p:nvPr/>
          </p:nvGrpSpPr>
          <p:grpSpPr>
            <a:xfrm>
              <a:off x="1008000" y="4990680"/>
              <a:ext cx="730800" cy="1238040"/>
              <a:chOff x="1008000" y="4990680"/>
              <a:chExt cx="730800" cy="1238040"/>
            </a:xfrm>
          </p:grpSpPr>
          <p:sp>
            <p:nvSpPr>
              <p:cNvPr id="1023" name="Oval 9"/>
              <p:cNvSpPr/>
              <p:nvPr/>
            </p:nvSpPr>
            <p:spPr>
              <a:xfrm>
                <a:off x="1673280" y="5697000"/>
                <a:ext cx="65520" cy="6660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1024" name="AutoShape 10"/>
              <p:cNvCxnSpPr>
                <a:stCxn id="1023" idx="0"/>
                <a:endCxn id="1025" idx="0"/>
              </p:cNvCxnSpPr>
              <p:nvPr/>
            </p:nvCxnSpPr>
            <p:spPr>
              <a:xfrm rot="5400000">
                <a:off x="1084680" y="5607000"/>
                <a:ext cx="545040" cy="699120"/>
              </a:xfrm>
              <a:prstGeom prst="bentConnector3">
                <a:avLst>
                  <a:gd name="adj1" fmla="val -127296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1026" name="Group 11"/>
            <p:cNvGrpSpPr/>
            <p:nvPr/>
          </p:nvGrpSpPr>
          <p:grpSpPr>
            <a:xfrm>
              <a:off x="2603520" y="4363200"/>
              <a:ext cx="995760" cy="1693800"/>
              <a:chOff x="2603520" y="4363200"/>
              <a:chExt cx="995760" cy="1693800"/>
            </a:xfrm>
          </p:grpSpPr>
          <p:sp>
            <p:nvSpPr>
              <p:cNvPr id="1027" name="Oval 12"/>
              <p:cNvSpPr/>
              <p:nvPr/>
            </p:nvSpPr>
            <p:spPr>
              <a:xfrm>
                <a:off x="2603520" y="5990040"/>
                <a:ext cx="6552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28" name="Oval 13"/>
              <p:cNvSpPr/>
              <p:nvPr/>
            </p:nvSpPr>
            <p:spPr>
              <a:xfrm>
                <a:off x="3533400" y="5195160"/>
                <a:ext cx="6588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1029" name="AutoShape 14"/>
              <p:cNvCxnSpPr>
                <a:stCxn id="1027" idx="0"/>
                <a:endCxn id="1028" idx="0"/>
              </p:cNvCxnSpPr>
              <p:nvPr/>
            </p:nvCxnSpPr>
            <p:spPr>
              <a:xfrm flipH="1" flipV="1" rot="5400000">
                <a:off x="2704320" y="5127120"/>
                <a:ext cx="795600" cy="930960"/>
              </a:xfrm>
              <a:prstGeom prst="bentConnector3">
                <a:avLst>
                  <a:gd name="adj1" fmla="val 204572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1030" name="Group 15"/>
            <p:cNvGrpSpPr/>
            <p:nvPr/>
          </p:nvGrpSpPr>
          <p:grpSpPr>
            <a:xfrm>
              <a:off x="1314360" y="3924000"/>
              <a:ext cx="1819080" cy="1098720"/>
              <a:chOff x="1314360" y="3924000"/>
              <a:chExt cx="1819080" cy="1098720"/>
            </a:xfrm>
          </p:grpSpPr>
          <p:sp>
            <p:nvSpPr>
              <p:cNvPr id="1031" name="Oval 16"/>
              <p:cNvSpPr/>
              <p:nvPr/>
            </p:nvSpPr>
            <p:spPr>
              <a:xfrm>
                <a:off x="1314360" y="4955760"/>
                <a:ext cx="6588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32" name="Oval 17"/>
              <p:cNvSpPr/>
              <p:nvPr/>
            </p:nvSpPr>
            <p:spPr>
              <a:xfrm>
                <a:off x="3067920" y="4335840"/>
                <a:ext cx="65520" cy="66960"/>
              </a:xfrm>
              <a:prstGeom prst="ellipse">
                <a:avLst/>
              </a:prstGeom>
              <a:solidFill>
                <a:srgbClr val="ccec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cxnSp>
            <p:nvCxnSpPr>
              <p:cNvPr id="1033" name="AutoShape 18"/>
              <p:cNvCxnSpPr>
                <a:stCxn id="1031" idx="0"/>
                <a:endCxn id="1032" idx="0"/>
              </p:cNvCxnSpPr>
              <p:nvPr/>
            </p:nvCxnSpPr>
            <p:spPr>
              <a:xfrm flipH="1" flipV="1" rot="5400000">
                <a:off x="1914480" y="3768840"/>
                <a:ext cx="620640" cy="1753920"/>
              </a:xfrm>
              <a:prstGeom prst="bentConnector3">
                <a:avLst>
                  <a:gd name="adj1" fmla="val 166337"/>
                </a:avLst>
              </a:prstGeom>
              <a:ln w="2844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1034" name="Group 19"/>
            <p:cNvGrpSpPr/>
            <p:nvPr/>
          </p:nvGrpSpPr>
          <p:grpSpPr>
            <a:xfrm>
              <a:off x="250920" y="3381480"/>
              <a:ext cx="3748320" cy="3434760"/>
              <a:chOff x="250920" y="3381480"/>
              <a:chExt cx="3748320" cy="3434760"/>
            </a:xfrm>
          </p:grpSpPr>
          <p:sp>
            <p:nvSpPr>
              <p:cNvPr id="1025" name="Text Box 20"/>
              <p:cNvSpPr/>
              <p:nvPr/>
            </p:nvSpPr>
            <p:spPr>
              <a:xfrm>
                <a:off x="808920" y="62283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35" name="Text Box 21"/>
              <p:cNvSpPr/>
              <p:nvPr/>
            </p:nvSpPr>
            <p:spPr>
              <a:xfrm>
                <a:off x="1273320" y="62283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36" name="Text Box 22"/>
              <p:cNvSpPr/>
              <p:nvPr/>
            </p:nvSpPr>
            <p:spPr>
              <a:xfrm>
                <a:off x="1739160" y="622836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37" name="Text Box 23"/>
              <p:cNvSpPr/>
              <p:nvPr/>
            </p:nvSpPr>
            <p:spPr>
              <a:xfrm>
                <a:off x="3135240" y="6228360"/>
                <a:ext cx="39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38" name="Text Box 24"/>
              <p:cNvSpPr/>
              <p:nvPr/>
            </p:nvSpPr>
            <p:spPr>
              <a:xfrm>
                <a:off x="2205000" y="62283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39" name="Text Box 25"/>
              <p:cNvSpPr/>
              <p:nvPr/>
            </p:nvSpPr>
            <p:spPr>
              <a:xfrm>
                <a:off x="3601080" y="6228360"/>
                <a:ext cx="39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G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40" name="Text Box 26"/>
              <p:cNvSpPr/>
              <p:nvPr/>
            </p:nvSpPr>
            <p:spPr>
              <a:xfrm>
                <a:off x="2669400" y="6228360"/>
                <a:ext cx="398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000066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41" name="Line 27"/>
              <p:cNvSpPr/>
              <p:nvPr/>
            </p:nvSpPr>
            <p:spPr>
              <a:xfrm>
                <a:off x="545040" y="3381480"/>
                <a:ext cx="0" cy="33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042" name="Text Box 28"/>
              <p:cNvSpPr/>
              <p:nvPr/>
            </p:nvSpPr>
            <p:spPr>
              <a:xfrm>
                <a:off x="250920" y="3673080"/>
                <a:ext cx="295920" cy="31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66"/>
                    </a:solidFill>
                    <a:latin typeface="Arial"/>
                  </a:rPr>
                  <a:t>simi lari tà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Line 29"/>
            <p:cNvSpPr/>
            <p:nvPr/>
          </p:nvSpPr>
          <p:spPr>
            <a:xfrm>
              <a:off x="677160" y="4605480"/>
              <a:ext cx="3390120" cy="0"/>
            </a:xfrm>
            <a:prstGeom prst="line">
              <a:avLst/>
            </a:prstGeom>
            <a:ln w="3816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44" name="Text Box 30"/>
          <p:cNvSpPr/>
          <p:nvPr/>
        </p:nvSpPr>
        <p:spPr>
          <a:xfrm>
            <a:off x="5148360" y="4292640"/>
            <a:ext cx="1871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(D,A) = 6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0" lang="it-IT" sz="2400" spc="-1" strike="noStrike" baseline="-25000">
                <a:solidFill>
                  <a:srgbClr val="000066"/>
                </a:solidFill>
                <a:latin typeface="Tahoma"/>
              </a:rPr>
              <a:t>C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(D,E) = 1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8:17:52Z</dcterms:created>
  <dc:creator>Manuele Bicego</dc:creator>
  <dc:description/>
  <dc:language>en-US</dc:language>
  <cp:lastModifiedBy>Marco Cristani</cp:lastModifiedBy>
  <dcterms:modified xsi:type="dcterms:W3CDTF">2013-01-06T20:49:52Z</dcterms:modified>
  <cp:revision>1379</cp:revision>
  <dc:subject/>
  <dc:title>Aerial images analysis for the extraction of geographical entities</dc:title>
</cp:coreProperties>
</file>