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6E665E-E297-4A84-9E63-0BC5EE100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230B72E-4D51-4094-9E6B-D120A5F6EFCC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92160" y="76356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B40-09A5-4C54-AFAE-0EDB5CD8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C47-90A2-40CB-993C-63527E45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5FC50-2A68-4775-94FE-FA591774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AA94-987C-48EF-AAE8-DA38AA41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E5118-C75C-4EEC-9208-F8EAB833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9B205-9D57-4662-92B3-C51840AB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D8406-0AE7-43BA-AD16-62BFED52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57671-69AC-4CCF-AAD6-11E15BBC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D5443-092D-4906-A0F9-EBC01CDF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B88F5-8BC1-4F7D-BFAE-1314F64E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FC83A-A672-4FD3-8241-20F03F65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4B5EB-9571-4672-9B64-E750AB4B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955-2DE8-4E38-9963-880CCA6B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30670-A38A-4F85-876C-DBB51394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DD918-31AE-4DAD-BC22-9D2650C6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ED476-4203-4A27-AB61-C6F8507A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5FA0B-5931-4ED9-B3CA-B21E5FC3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F0467-950D-4C2B-AEAC-2571CA3E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2D205-E430-4C1C-80DD-E2CF69EA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DA14D-57BB-4483-9197-E6766E77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5F92D-EDBE-48AF-AFD0-C26679C7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B8ED6-403C-4B7F-ADC1-6D3020E4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B70C3-EC37-4733-84D2-A6F37EF4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31D6-515C-4792-BFC0-2A848E1A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FBA83-123E-462F-9E22-FE7D4715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23495-1A1E-4F19-A165-A4BA5432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F1830-9EC7-43C1-983E-1DB71BAC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A7707-2F8A-4D07-92C5-AF2C752F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AA808-84B4-4A9B-BDA1-6BA19AAC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DD1A9-D854-45D0-934D-731FFC35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A23A3-D623-4609-B7C0-DD981416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EA030-B894-4521-BB13-15E3E45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179E6-15B4-44A6-8DBE-B406D4A6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694BC-6684-40A9-9DAB-8F532439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2975-2AFF-4D52-A2D9-BD671B58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EB21E-C763-448A-9372-07E564E2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62B3B-2E66-4F4D-B48C-8D54AE2A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DD4BA-3E14-4D86-95F6-760F3BB3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9FD72-1EBA-47EF-8167-FE838930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87AF0-7244-4BBB-AA6F-C297B4A4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8EF20-5B0C-419B-93D9-243077AC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C0812-0C39-4EAD-AF57-6C958AB3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11B06-433A-43E3-96BB-A2DA815C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C7ABD-74E0-4AF9-97CE-AB332921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FC1AE-5F9B-47CE-AB16-77C71DAC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5049-F908-4C6D-B32B-27FCCD84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6F6AA-09D6-48B9-8091-3198E1D2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E941D-C228-4C80-A1D6-FD8C0557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8B546-D63A-4BB5-8ED2-610403B1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24FD0-729D-41EE-94DC-1C95F615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73E5F-49FE-4E21-BF15-8E3B73A9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8C5F-92D4-4D63-8A4E-5EE4A0B8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70CB-CEA2-4536-8CAF-6DC9181A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3ECA-2F86-4C49-BACE-BB348A3B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0A7B-AAF2-483D-B32C-DC809ED4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8CBA-8A10-44D3-A842-00140ECC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D6C-4537-489C-9B1B-A605AEC9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7F54-3A7A-439E-ACCE-1B04E95E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7FAA-A117-4B1D-9214-C74797A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D051-F3A9-4B7C-90A2-166E6C99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5A78-C8ED-4EF0-A33B-288036BC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8370-AC40-4073-993F-3E937180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F56EA-C8FB-428B-9D89-AEA8FE08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54C43-8282-4D5E-AAB2-7B28028B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06FC-C330-47E2-A6B3-1C9E1765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F81E-B2BD-4D67-966B-C5F07EB0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FF517-4644-44CE-ADDD-26D0F2E1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471-932F-477C-A43E-848A5671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E2F90-8BC5-4172-9E9F-2F42CE42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872FC-EFE8-4897-BAD0-859CCF0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333C9-91D8-4BC5-81F5-1F6A4887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47DB-D5DE-47D8-84D1-AF9DCA55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6B10-8B25-4B3C-8743-12F6B373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7F83-46D5-4E3E-8377-DA80FEA8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6AFD2-93AA-4515-A7F4-FEB3013F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3273D-C07D-43D6-89AF-8650104F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9B9D-E2F9-4B58-ADD3-49316DEA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81D2-6599-44CA-AF20-BAE6CA64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3322-D4A5-4D00-948C-DA77B3B1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718A-3284-4459-9D38-5A3F9A9D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C0413-CCDA-43E3-904D-BC653621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C2A11-E498-4FEA-AFAA-9B35B5EE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E9A6B-D120-4BA2-81C0-057B0748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C9362-856C-4363-9D8E-ACCCCC27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4EDE3-0D26-4F31-A2B8-C5FC3155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2F4B-34C5-4C44-9423-A643AC88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D8A44-CB6A-4315-9F2B-DBB4DA98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9A68-02DE-47DB-91AC-4833B31B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8704D-72FD-49EB-A0BD-C3311994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682-8F97-466B-8E02-E8FDCF62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77484-AF59-4582-BB2E-826348FF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61E3D-B24B-4C30-AF0E-5A18A172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2E289-8C75-4550-96E3-9E2EF799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980B2-7A66-456B-9C55-7F5D6B1D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1E66C-8BD3-4E5F-8C67-2F6FC433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3F76D-100B-4303-BCDD-89EB6030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05AD-B9FC-4745-894A-4A5B6116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7DA49-AA97-4A2A-8DDE-3B33868B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ADD3F-FF30-48EA-B48F-14147345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5ACB-F8E5-4015-B294-C4C39F27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8F8-20C3-4BCD-A0A9-B1518166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5566E-A8F0-4D87-AFD0-C1D6AA5B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B635-38F5-4E2D-B304-DEFF6F26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A36FC-505B-4AB6-BDEB-493EEC0B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7A935-684D-4857-A8E0-1F041D81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A490B-159D-459B-B992-0DA75D90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A2D91-CFFE-4F6B-B9FD-0A0B6360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91A87-3EA5-42BD-928C-D6BDF063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021EB-3C6E-493C-97E4-263EC9E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9A4C6-5803-4CDE-A250-DFD63DF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99EFB-FF66-44EF-B504-0888B234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BCE-5B3F-41C0-9372-27E4D25F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F3754-8240-4E8F-9B4A-F9B5593F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57D91-9C5F-4150-8E21-239A6FBC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FF615-322F-4BD7-880F-788B9828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B91DA-3A0F-4AF7-AAFB-B3FA797F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268E2-CDB5-4760-BE1C-BE208757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C2595-2786-4315-B286-7865BA9D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D41E-0B23-4606-8596-AED4CCA5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810D0-0EFA-4FEF-8307-78AB6616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CA17F-8311-4E52-977C-FFB6C2B2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EAEDE-7AD4-491B-933C-7A392BF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13D3-988B-4443-900F-C9864B78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9E236-9C5C-475F-B134-5D92B18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CDA18-0F2D-4F46-A5AB-72491D33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00401-73C2-4E6B-9C7D-53C5BC2D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AF6F7-869B-4181-AA04-70085493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2CCD9-EE3F-466B-97AA-C1C6B767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DC7C4-08C2-47AC-B95A-E511B779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63867-5F73-4C45-82A9-3EA22A9A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18F55-461D-4F5A-9CE1-E163EC6C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87459-D6D1-4825-A67C-A052B04F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A9714-B373-43F9-8336-739B8E65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5EC5-A75F-475C-ACDD-AB00412E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5C7F4-9F41-41A6-8B81-2D715D0B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99535-1FC3-4162-9FB3-41B9B457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84C46-E3F6-4CC8-8939-BCDC052A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5A837-88A5-4370-8448-DADE498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5467C-3855-42CB-8716-D46EBBEC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80479-30BA-443C-9620-BE07EA08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B2606-0D49-4BD2-8424-1698AC14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0ED16-8859-492B-B586-08BEE75D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E2CD0-F6A0-4B4C-990B-9AB59971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B5D29-89A0-4595-B6B4-EA8C2745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BED5-7C1C-4428-B903-994169A3007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7DE9-A618-4F50-A125-9F4FC6A9045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16E4-48AA-48F6-B37B-FB22BD0FB95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B2A0-98D1-473C-9B2E-F90B35D38AD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2478-4F4B-4DB3-B707-A77D161CDBA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762F-74A1-4164-A768-1545F29EBC2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7F77-8A13-4791-8C57-CA99128C21F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DC16-A42D-4689-BB13-836994BA43D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3F4E-3089-4C77-AFA8-F8621065EF3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4712-68C8-4AA8-ADC7-FF15D44700F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8B6-BD04-4D95-8813-2ABC3E5F8BF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8363-0037-4253-94D0-70E60861BA4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9144000" cy="12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Tahoma"/>
              </a:rPr>
              <a:t>Teoria e Tecniche del Riconoscimento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804960" y="457200"/>
            <a:ext cx="760716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acoltà di Scienze MM. FF. NN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à di Veron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2-13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5189-79DC-48A3-B6F2-84767A27378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Sequenziale vs simultane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in che modo vengono processati i patter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equenziale: i pattern vengono processati uno alla volt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multaneo: i pattern vengono processati tutti assie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EMPIO sequenziale: prende un pattern alla volta e lo assegna ad un clust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1CAE-D09F-4586-A034-A6A12CF7F4A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Monothetic vs polythetic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come vengono utilizzate le featur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onothetic: viene utilizzata una feature alla volta per fare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olythetic: vengono utilizzate tutte le features simultaneamente per fare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maggior parte delle tecniche di clustering sono polytheti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6AFF-174B-4565-8083-036A4ED8C97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Monothetic vs polythetic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empio di algoritmo monothetic [Anderberg 73]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divide il data set in due clusters utilizzando una sola featur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ognuno di questi data sets viene poi diviso in due utilizzando la seconda featur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procede così fino alla fi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vantagg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 features 2</a:t>
            </a:r>
            <a:r>
              <a:rPr b="0" lang="it-IT" sz="2000" spc="-1" strike="noStrike" baseline="30000">
                <a:solidFill>
                  <a:srgbClr val="000066"/>
                </a:solidFill>
                <a:latin typeface="Tahoma"/>
              </a:rPr>
              <a:t>d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clust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 grande, troppo frammenta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594" name="Group 4"/>
          <p:cNvGrpSpPr/>
          <p:nvPr/>
        </p:nvGrpSpPr>
        <p:grpSpPr>
          <a:xfrm>
            <a:off x="5364000" y="2708280"/>
            <a:ext cx="3168360" cy="3062880"/>
            <a:chOff x="5364000" y="2708280"/>
            <a:chExt cx="3168360" cy="3062880"/>
          </a:xfrm>
        </p:grpSpPr>
        <p:sp>
          <p:nvSpPr>
            <p:cNvPr id="595" name="Line 5"/>
            <p:cNvSpPr/>
            <p:nvPr/>
          </p:nvSpPr>
          <p:spPr>
            <a:xfrm flipV="1">
              <a:off x="5940000" y="2923920"/>
              <a:ext cx="0" cy="2376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96" name="Line 6"/>
            <p:cNvSpPr/>
            <p:nvPr/>
          </p:nvSpPr>
          <p:spPr>
            <a:xfrm>
              <a:off x="5940000" y="5300640"/>
              <a:ext cx="2089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97" name="Text Box 7"/>
            <p:cNvSpPr/>
            <p:nvPr/>
          </p:nvSpPr>
          <p:spPr>
            <a:xfrm>
              <a:off x="7811640" y="537228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98" name="Text Box 8"/>
            <p:cNvSpPr/>
            <p:nvPr/>
          </p:nvSpPr>
          <p:spPr>
            <a:xfrm>
              <a:off x="5364000" y="299556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x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99" name="Text Box 9"/>
            <p:cNvSpPr/>
            <p:nvPr/>
          </p:nvSpPr>
          <p:spPr>
            <a:xfrm>
              <a:off x="6229080" y="47246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0" name="Text Box 10"/>
            <p:cNvSpPr/>
            <p:nvPr/>
          </p:nvSpPr>
          <p:spPr>
            <a:xfrm>
              <a:off x="6227280" y="425628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1" name="Text Box 11"/>
            <p:cNvSpPr/>
            <p:nvPr/>
          </p:nvSpPr>
          <p:spPr>
            <a:xfrm>
              <a:off x="6443280" y="4471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2" name="Text Box 12"/>
            <p:cNvSpPr/>
            <p:nvPr/>
          </p:nvSpPr>
          <p:spPr>
            <a:xfrm>
              <a:off x="6443280" y="49752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3" name="Text Box 13"/>
            <p:cNvSpPr/>
            <p:nvPr/>
          </p:nvSpPr>
          <p:spPr>
            <a:xfrm>
              <a:off x="6732360" y="45435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4" name="Text Box 14"/>
            <p:cNvSpPr/>
            <p:nvPr/>
          </p:nvSpPr>
          <p:spPr>
            <a:xfrm>
              <a:off x="6011640" y="45435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5" name="Text Box 15"/>
            <p:cNvSpPr/>
            <p:nvPr/>
          </p:nvSpPr>
          <p:spPr>
            <a:xfrm>
              <a:off x="6156000" y="32101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6" name="Text Box 16"/>
            <p:cNvSpPr/>
            <p:nvPr/>
          </p:nvSpPr>
          <p:spPr>
            <a:xfrm>
              <a:off x="6372000" y="34257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7" name="Text Box 17"/>
            <p:cNvSpPr/>
            <p:nvPr/>
          </p:nvSpPr>
          <p:spPr>
            <a:xfrm>
              <a:off x="6587640" y="3641760"/>
              <a:ext cx="28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8" name="Text Box 18"/>
            <p:cNvSpPr/>
            <p:nvPr/>
          </p:nvSpPr>
          <p:spPr>
            <a:xfrm>
              <a:off x="6156000" y="37512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09" name="Text Box 19"/>
            <p:cNvSpPr/>
            <p:nvPr/>
          </p:nvSpPr>
          <p:spPr>
            <a:xfrm>
              <a:off x="6516360" y="30304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10" name="Text Box 20"/>
            <p:cNvSpPr/>
            <p:nvPr/>
          </p:nvSpPr>
          <p:spPr>
            <a:xfrm>
              <a:off x="7164000" y="28530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11" name="Text Box 21"/>
            <p:cNvSpPr/>
            <p:nvPr/>
          </p:nvSpPr>
          <p:spPr>
            <a:xfrm>
              <a:off x="7380000" y="30686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12" name="Text Box 22"/>
            <p:cNvSpPr/>
            <p:nvPr/>
          </p:nvSpPr>
          <p:spPr>
            <a:xfrm>
              <a:off x="7596000" y="32846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13" name="Text Box 23"/>
            <p:cNvSpPr/>
            <p:nvPr/>
          </p:nvSpPr>
          <p:spPr>
            <a:xfrm>
              <a:off x="7164000" y="3355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14" name="Text Box 24"/>
            <p:cNvSpPr/>
            <p:nvPr/>
          </p:nvSpPr>
          <p:spPr>
            <a:xfrm>
              <a:off x="7524360" y="292428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15" name="Text Box 25"/>
            <p:cNvSpPr/>
            <p:nvPr/>
          </p:nvSpPr>
          <p:spPr>
            <a:xfrm>
              <a:off x="7453080" y="38610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16" name="Text Box 26"/>
            <p:cNvSpPr/>
            <p:nvPr/>
          </p:nvSpPr>
          <p:spPr>
            <a:xfrm>
              <a:off x="7884720" y="400392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17" name="Text Box 27"/>
            <p:cNvSpPr/>
            <p:nvPr/>
          </p:nvSpPr>
          <p:spPr>
            <a:xfrm>
              <a:off x="7524360" y="418320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18" name="Text Box 28"/>
            <p:cNvSpPr/>
            <p:nvPr/>
          </p:nvSpPr>
          <p:spPr>
            <a:xfrm>
              <a:off x="7164000" y="421956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19" name="Text Box 29"/>
            <p:cNvSpPr/>
            <p:nvPr/>
          </p:nvSpPr>
          <p:spPr>
            <a:xfrm>
              <a:off x="7453080" y="47246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20" name="Text Box 30"/>
            <p:cNvSpPr/>
            <p:nvPr/>
          </p:nvSpPr>
          <p:spPr>
            <a:xfrm>
              <a:off x="7453080" y="4292640"/>
              <a:ext cx="28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21" name="Line 31"/>
            <p:cNvSpPr/>
            <p:nvPr/>
          </p:nvSpPr>
          <p:spPr>
            <a:xfrm>
              <a:off x="7021080" y="2708280"/>
              <a:ext cx="0" cy="2880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22" name="Line 32"/>
            <p:cNvSpPr/>
            <p:nvPr/>
          </p:nvSpPr>
          <p:spPr>
            <a:xfrm flipH="1">
              <a:off x="5939640" y="4148280"/>
              <a:ext cx="1081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23" name="Line 33"/>
            <p:cNvSpPr/>
            <p:nvPr/>
          </p:nvSpPr>
          <p:spPr>
            <a:xfrm>
              <a:off x="7021080" y="378792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813E-89E2-481A-95E0-F86B314B688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Graph Theory vs matrix algebr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come viene formulato matematicamente l’algoritm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raph theory: gli algoritmi sono formulati in termini di teoria dei grafi, con l’utilizzo di definizione e proprietà dei grafi (ad esempio connettività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atrix algebra: gli algoritmi sono espressi in termini di formule algebriche (ad esempio l’errore quadratico medi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EE17-A855-4EEC-A19C-7618676CA19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3757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crementale vs non increment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cosa succede se arrivano nuovi da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crementale: il clustering può essere “aggiornato” (è costruito in modo incremental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n incrementale: all’arrivo di nuovi dati occorre riesaminare l’intero data se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aratteristica cruciale in questi anni: database sempre più grossi e sempre in espansione!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B400-A127-42D5-A81D-85E8756AF44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Deterministico vs stocast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come viene ottimizzata la funzione di erro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terministico: ottimizzazione classica (discesa lungo il gradient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tocastico: ricerca stocastica nello spazio degli stati della soluzione (Monte Carl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ipico problema nel clustering partizionale che deve ottimizzare una funzione di errore (come lo scarto quadratico medi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6930-15DC-45FD-8CBF-1C710D81032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partizion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lassi di approcc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lustering sequenziale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approccio di clustering molto semplice e intuitiv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tipicamente i pattern vengono processati poche volt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in generale, il risultato finale dipende dall’ordine con cui vengono presentati i pattern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funzionano bene per cluster convess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enter-based clustering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ogni cluster è rappresentato da un centr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metodi efficienti per clusterizzare database grand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l’obiettivo è minimizzare una funzione di cost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funzionano bene per cluster convess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D22A-6E8C-49A2-90FF-62A5812A55C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partizion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earch based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l’idea è quella di minimizzare la funzione di costo in modo “globale”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odel based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l’idea è quella di creare dei modelli per i dati (tipicamente probabilistici)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tipicamente si assume che i dati siano generati da una mistura di distribuzioni di probabilità in cui ogni componente identifica un cluster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91C3-86CA-41B7-A626-8F4B9FDBB63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sequenzi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BSAS: Basic Sequential Algorithmic Sche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goritmo di clustering sequenziale facile e intuitiv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ssunzioni/Ide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 pattern vengono processati una volta sola, in ordi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ogni pattern processato viene assegnato ad un cluster esistente oppure va a creare un nuovo clust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numero di cluster non è conosciuto a priori ma viene stimato durante il process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48C0-C8CD-422C-9C86-9413F4B41C1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BSAS: algoritm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tazione/parametr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Courier New"/>
              </a:rPr>
              <a:t>i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: vettore di punti, 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{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,… 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Courier New"/>
              </a:rPr>
              <a:t>N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dataset da clusterizza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Courier New"/>
              </a:rPr>
              <a:t>j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: j-esimo cluster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d(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,C)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: distanza tra un punto e un insieme (un cluster) (simile alla distanza tra insiem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ax: distanza massi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n: distanza mini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Average: distanza med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enter-based: distanza dal “rappresentante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: soglia di dissimilarità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urier New"/>
                <a:ea typeface="Tahoma"/>
              </a:rPr>
              <a:t>m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: numero di cluster trovati ad un determinato istant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49F1-BE91-40C0-80F8-084D0F0B5C0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Sommari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assonomia degli algoritmi di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goritmi partizionali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lustering sequenzi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enter-based clustering: K-means e variant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odel based clustering: Mixture of Gaussians (EM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goritmi gerarchici agglomerativi: complete link, single lin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(Altri: Fuzzy clustering, Neural Networks clustering, ...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BORATORIO: implementazione di alcuni semplici algoritmi di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916C-C2FC-46CA-A9C1-063A2550218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BSAS: algoritm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goritm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48" name="Picture 4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8881920" cy="43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A8CA-DC83-4B8A-B63C-7B044CADC73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BSAS: algoritm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e la distanza 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d(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,C)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= 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d(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,</a:t>
            </a:r>
            <a:r>
              <a:rPr b="1" lang="it-IT" sz="2400" spc="-1" strike="noStrike">
                <a:solidFill>
                  <a:srgbClr val="000066"/>
                </a:solidFill>
                <a:latin typeface="Courier New"/>
              </a:rPr>
              <a:t>m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Courier New"/>
              </a:rPr>
              <a:t>C</a:t>
            </a:r>
            <a:r>
              <a:rPr b="0" lang="it-IT" sz="2400" spc="-1" strike="noStrike">
                <a:solidFill>
                  <a:srgbClr val="000066"/>
                </a:solidFill>
                <a:latin typeface="Courier New"/>
              </a:rPr>
              <a:t>)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(distanza dalla media del cluster), allora l’aggiornamento dei rappresentanti può essere fatto on-li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tazi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Ck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è la media del cluster 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x è il punto aggiunto al cluster C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n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Ck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è la cardinalità del cluster C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2050920" y="4581360"/>
            <a:ext cx="4764240" cy="14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F4EF-781C-417B-B7CA-6DDBB160FE1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sequenzi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 su BS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 può osservare che l’ordine con cui vengono processati i pattern è cruci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ordini diversi possono produrre risultati divers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scelta della soglia </a:t>
            </a:r>
            <a:r>
              <a:rPr b="0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 è cruci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troppo piccola, vengono determinati troppi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troppo grande, troppo pochi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si può scambiare la dissimilarità con la similarità (cambiando min con max e &gt; con &lt;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con i rappresentanti (con le medie) i cluster che escono sono compat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234C-6D56-42A1-B1FB-186EFD9F79E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sequenzi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etodo per calcolare il numero ottimale di cluster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for </a:t>
            </a:r>
            <a:r>
              <a:rPr b="0" lang="el-GR" sz="20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=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a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to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b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step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Eseguire </a:t>
            </a:r>
            <a:r>
              <a:rPr b="0" i="1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s 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volte l’algoritmo BSAS, ogni volta processando i pattern con un ordine different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stimare </a:t>
            </a:r>
            <a:r>
              <a:rPr b="0" i="1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m</a:t>
            </a:r>
            <a:r>
              <a:rPr b="0" i="1" lang="el-GR" sz="1800" spc="-1" strike="noStrike" baseline="-25000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1800" spc="-1" strike="noStrike">
                <a:solidFill>
                  <a:srgbClr val="000066"/>
                </a:solidFill>
                <a:latin typeface="Tahoma"/>
                <a:ea typeface="Tahoma"/>
              </a:rPr>
              <a:t> come il numero più frequente di cluster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end fo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visualizzare il numero di cluster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m</a:t>
            </a:r>
            <a:r>
              <a:rPr b="0" i="1" lang="el-GR" sz="2000" spc="-1" strike="noStrike" baseline="-25000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vs il parametro </a:t>
            </a:r>
            <a:r>
              <a:rPr b="0" lang="el-GR" sz="2000" spc="-1" strike="noStrike">
                <a:solidFill>
                  <a:srgbClr val="000066"/>
                </a:solidFill>
                <a:latin typeface="Tahoma"/>
                <a:ea typeface="Tahoma"/>
              </a:rPr>
              <a:t>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il numero di cluster ottimale è quello della regione “piatta” più lung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dettagl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a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è la distanza minima tra i punti,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b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 la distanza massi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  <a:ea typeface="Tahoma"/>
              </a:rPr>
              <a:t>assumiamo che “esista” un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34BD-D0D5-456B-BB0D-8569501D142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sequenzi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783640" cy="55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AB5F-E401-4E1C-87D3-79758FD6E61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enter-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K-mea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goritmo più famoso di clustering partizion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DE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nimizza una funzione di error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ogni cluster è rappresentato dalla sua med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parte da una clusterizzazione iniziale, ed ad ogni iterazione si assegna ogni pattern alla media più vicin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riaggiornano le medi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continua fino a convergenz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CF3D-FF6C-4DE6-9E8D-6BF93ABD152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enter-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l numero di cluster deve essere fissato a prior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’ottimizzazione spesso porta ad un ottimo “locale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l’inizializzazione è cruciale: una cattiva inizializzazione porta ad un clustering pessim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è molto efficiente nel clusterizzare dataset grandi, perché la sua complessità computazionale è linearmente dipendente dalla dimensione del data s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 cluster ottenuti hanno una forma convess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avora solo su dati vettoriali numerici (deve calcolare la medi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tipicamente viene utilizzata la distanza euclide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C37C-454C-4543-AC4F-864E0A2D2BC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enter 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rianti del K-mea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ercare di migliorare l’inizializzazione ([Anderberg 1973]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SODATA (</a:t>
            </a:r>
            <a:r>
              <a:rPr b="0" i="1" lang="it-IT" sz="2400" spc="-1" strike="noStrike">
                <a:solidFill>
                  <a:srgbClr val="000066"/>
                </a:solidFill>
                <a:latin typeface="Tahoma"/>
              </a:rPr>
              <a:t>Iterative Self-Organizing Data Analysis Techniques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ermettere lo splitting e il merging dei cluster risultant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Ad ogni iterazione effettua dei controlli sui cluster risultanti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un cluster viene diviso se la sua varianza è sopra una soglia prefissata, oppure se ha troppi punt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due cluster vengono uniti se la distanza tra i due relativi centroidi è minore di un’altra soglia prefissata, oppure se hanno troppo pochi punt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a scelta delle soglie è cruciale, ma fornisce anche una soluzione alla scelta automatica del numero di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D8BA-2BC1-4A1D-9012-0A40D246B83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enter 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rianti del K-mea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utilizzo della distanza di Mahalanobis come distanza per i punti ([Mao Jain 1996]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vantaggio: posso anche trovare cluster ellissoidal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vantaggio: devo calcolare ogni volta la matrice di covarianz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AM (Partitioning around the medoid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’idea è quella di utilizzare come “centri” del K-means i medoidi (o i punti più centrali) invece che le medi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non introduco nuovi elementi nel dataset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più robusto agli outlier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posso lavorare anche con dati non vettoriali (data una funzione di distanza tra questi dati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F649-3CE5-4B45-A79D-AB6A0715DCE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66"/>
                </a:solidFill>
                <a:latin typeface="Tahoma"/>
              </a:rPr>
              <a:t>Model-based cluster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DE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tilizzare un insieme di modelli per i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’obiettivo diventa quello di massimizzare il fit tra i modelli e i dat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assume che i dati siano generati da una mistura di funzioni di probabilità differenti, ognuna delle quali rappresenta un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ovviamente il metodo di clustering funziona bene se i dati sono conformi al modell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ue approcci al model based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lassification likelihood approach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xture likelihood approach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AAF8-85AA-4DB8-AC31-EFC3975A5AA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Tassonomi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ta prelimina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istono moltissimi algoritmi di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n esiste un’unica tassonom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esistono diverse suddivision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 questo corso si adotta il punto di vista di Jai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Jain, Dubes, Alghoritms for clustering data, 1988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Jain et al., Data Clustering: a review, ACM Computing Surveys, 1999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34CF-0D05-4D12-BCCA-2FBCE0C7CFD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66"/>
                </a:solidFill>
                <a:latin typeface="Tahoma"/>
              </a:rPr>
              <a:t>Model-based cluster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xture likelihood approach: l’algoritmo più utilizzato è l’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esistono molti risultati sulla determinazione del numero ottimale di clust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esistono alcuni approcci anche per inizializzare l’EM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lassification likelihood approach: è equivalente al K-means assunto ch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matrice di covarianza uguale per tutti i cluster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matrice di covarianza proporzionale all’identità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F2D4-40F1-4C1C-9F6C-9023C3B0FA8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Model 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aussian Mixture Models (GMM)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ecnica di soft clustering molto utilizzata (mixture likelihood approach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mistura è composta da Gaussia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modello è stimato utilizzando Expectation-Maximization (EM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E299-8C7E-4F51-A500-B77AC1260B5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Esempi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rcRect l="22240" t="15539" r="4517" b="5710"/>
          <a:stretch/>
        </p:blipFill>
        <p:spPr>
          <a:xfrm>
            <a:off x="0" y="763560"/>
            <a:ext cx="89298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8CB5-8A76-4A2B-A90F-63DF8723687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Model based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olto utilizzato in svariati contes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’inizializzazione è un problem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umero di cluster: il problema può essere visto come un problema di model selecti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qual’è la miglior dimensione del modello dati i dati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vedi slides su HMM (equivalente alla determinazione del miglior numero di stati di un HMM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9270-6F82-43A6-9913-073379F0A2F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goritmi di clustering che generano una serie di partizioni innestat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appresentazione di un clustering gerarchico: il dendrogramm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93" name="Picture 4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69600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F2AE-435F-4B9F-AF87-362D76A2DF9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lustering gerarchico agglomerativ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parte da una partizione in cui ogni cluster contiene un solo elem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continua a fondere i cluster più “simili” fino ad avere un solo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finizioni diverse del concetto di “cluster più simili” genera algoritmi divers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pprocci più utilizzat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ngle lin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mplete link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formulazione con le matric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D47E-A54E-4C58-A3BA-152E3FD7A83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99" name="Picture 3" descr=""/>
          <p:cNvPicPr/>
          <p:nvPr/>
        </p:nvPicPr>
        <p:blipFill>
          <a:blip r:embed="rId1"/>
          <a:stretch/>
        </p:blipFill>
        <p:spPr>
          <a:xfrm>
            <a:off x="179280" y="1819440"/>
            <a:ext cx="5545080" cy="44701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"/>
          <p:cNvPicPr/>
          <p:nvPr/>
        </p:nvPicPr>
        <p:blipFill>
          <a:blip r:embed="rId2"/>
          <a:stretch/>
        </p:blipFill>
        <p:spPr>
          <a:xfrm>
            <a:off x="5796000" y="765000"/>
            <a:ext cx="2608200" cy="29530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" descr=""/>
          <p:cNvPicPr/>
          <p:nvPr/>
        </p:nvPicPr>
        <p:blipFill>
          <a:blip r:embed="rId3"/>
          <a:stretch/>
        </p:blipFill>
        <p:spPr>
          <a:xfrm>
            <a:off x="6084720" y="3860640"/>
            <a:ext cx="2073600" cy="266724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6"/>
          <p:cNvSpPr/>
          <p:nvPr/>
        </p:nvSpPr>
        <p:spPr>
          <a:xfrm>
            <a:off x="468360" y="62848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ngle lin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3564000" y="63547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lete lin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704" name="Group 8"/>
          <p:cNvGrpSpPr/>
          <p:nvPr/>
        </p:nvGrpSpPr>
        <p:grpSpPr>
          <a:xfrm>
            <a:off x="324000" y="765000"/>
            <a:ext cx="4811400" cy="836640"/>
            <a:chOff x="324000" y="765000"/>
            <a:chExt cx="4811400" cy="836640"/>
          </a:xfrm>
        </p:grpSpPr>
        <p:grpSp>
          <p:nvGrpSpPr>
            <p:cNvPr id="705" name="Group 9"/>
            <p:cNvGrpSpPr/>
            <p:nvPr/>
          </p:nvGrpSpPr>
          <p:grpSpPr>
            <a:xfrm>
              <a:off x="826920" y="765000"/>
              <a:ext cx="4308480" cy="836640"/>
              <a:chOff x="826920" y="765000"/>
              <a:chExt cx="4308480" cy="836640"/>
            </a:xfrm>
          </p:grpSpPr>
          <p:pic>
            <p:nvPicPr>
              <p:cNvPr id="706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826920" y="765000"/>
                <a:ext cx="4308480" cy="43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7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826920" y="1196640"/>
                <a:ext cx="4308480" cy="40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8" name="Text Box 12"/>
            <p:cNvSpPr/>
            <p:nvPr/>
          </p:nvSpPr>
          <p:spPr>
            <a:xfrm>
              <a:off x="324000" y="765000"/>
              <a:ext cx="86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SL CL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6D40-2214-449B-A824-A4110B18FF8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5545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ngle link / Complete link: formulazione con i grafi (cenn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finizione “threshold graph” G(v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grafo in cui i nodi sono tutti gli element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esiste un arco tra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e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</a:rPr>
              <a:t>j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 se </a:t>
            </a:r>
            <a:r>
              <a:rPr b="0" i="1" lang="it-IT" sz="2000" spc="-1" strike="noStrike">
                <a:solidFill>
                  <a:srgbClr val="000066"/>
                </a:solidFill>
                <a:latin typeface="Tahoma"/>
              </a:rPr>
              <a:t>d(i,j) &lt;= v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712" name="Picture 4" descr=""/>
          <p:cNvPicPr/>
          <p:nvPr/>
        </p:nvPicPr>
        <p:blipFill>
          <a:blip r:embed="rId1"/>
          <a:stretch/>
        </p:blipFill>
        <p:spPr>
          <a:xfrm>
            <a:off x="5735520" y="1844640"/>
            <a:ext cx="3408480" cy="17668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2"/>
          <a:stretch/>
        </p:blipFill>
        <p:spPr>
          <a:xfrm>
            <a:off x="1908000" y="3716280"/>
            <a:ext cx="6919920" cy="293688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6"/>
          <p:cNvSpPr/>
          <p:nvPr/>
        </p:nvSpPr>
        <p:spPr>
          <a:xfrm>
            <a:off x="6447960" y="1039680"/>
            <a:ext cx="256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ESEMPIO: G(5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C4B2-E67B-41E5-AF76-0DD5449DEA2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6121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 calcolano tutti i possibili grafi G(v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Assunzioni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v varia tra gli interi (scala ordinale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ngle Link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 cluster sono le componenti connesse (sottografi massimamente connessi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lete Lin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 cluster sono clique tra cluster precedentemente determinat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clique: sottografo massimamente completo – tutti con tutt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718" name="Picture 4" descr=""/>
          <p:cNvPicPr/>
          <p:nvPr/>
        </p:nvPicPr>
        <p:blipFill>
          <a:blip r:embed="rId1"/>
          <a:stretch/>
        </p:blipFill>
        <p:spPr>
          <a:xfrm>
            <a:off x="6156360" y="4508640"/>
            <a:ext cx="1833480" cy="19015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1789200" cy="19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187B-1BE3-46D9-B6B2-10465F9248A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722" name="Picture 3" descr=""/>
          <p:cNvPicPr/>
          <p:nvPr/>
        </p:nvPicPr>
        <p:blipFill>
          <a:blip r:embed="rId1"/>
          <a:stretch/>
        </p:blipFill>
        <p:spPr>
          <a:xfrm>
            <a:off x="684360" y="785880"/>
            <a:ext cx="718164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DCC3-031C-4AAE-B15C-331FCA5DDF9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assi di approcc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 seconda del punto di vista possiamo avere differenti class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erarchico vs partizion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Hard clustering vs soft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gglomerativo vs divisiv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eriale (sequenziale) vs simultane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onothetic vs polythetic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raph Theory vs matrix algebr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crementale vs non increment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terministico vs stocastic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CD0E-8BDA-4D7C-9671-BEFCB517EED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gerarchic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ngle link unisce due cluster se esiste un solo edg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tende a formare cluster allungat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lete link unisce due cluster se tutti gli elementi sono conness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iù conservativo, tende a formare cluster convess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 generale è stato dimostrato che Complete Link funziona megli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3052-987A-4339-8D4A-247EB0EF7A7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Gerarchico vs partizionale 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il tipo di risultato dell’operazione di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lustering Partizionale: il risultato è una singola partizione dei dati 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(tipicamente il numero di cluster deve essere dato a prior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ira ad identificare i gruppi naturali presenti nel datas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ipicamente richiede che i dati siano rappresentati in forma vettori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genera una partizione (insieme di cluster disgiunti la cui unione ritorna il data set originale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lustering Gerarchico: il risultato è una serie di partizioni innestate (un “dendrogramma”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mira ad evidenziare le relazioni tra i vari pattern del datase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ipicamente richiede una matrice di prossimit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73BD-F59A-45FF-B234-EA62B06CCF5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516" name="Group 3"/>
          <p:cNvGrpSpPr/>
          <p:nvPr/>
        </p:nvGrpSpPr>
        <p:grpSpPr>
          <a:xfrm>
            <a:off x="3995640" y="549360"/>
            <a:ext cx="3889080" cy="2853360"/>
            <a:chOff x="3995640" y="549360"/>
            <a:chExt cx="3889080" cy="2853360"/>
          </a:xfrm>
        </p:grpSpPr>
        <p:sp>
          <p:nvSpPr>
            <p:cNvPr id="517" name="Oval 4"/>
            <p:cNvSpPr/>
            <p:nvPr/>
          </p:nvSpPr>
          <p:spPr>
            <a:xfrm>
              <a:off x="6138720" y="549360"/>
              <a:ext cx="1141920" cy="638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18" name="Oval 5"/>
            <p:cNvSpPr/>
            <p:nvPr/>
          </p:nvSpPr>
          <p:spPr>
            <a:xfrm>
              <a:off x="6541920" y="1393200"/>
              <a:ext cx="1141920" cy="3826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19" name="Oval 6"/>
            <p:cNvSpPr/>
            <p:nvPr/>
          </p:nvSpPr>
          <p:spPr>
            <a:xfrm>
              <a:off x="4459320" y="1889640"/>
              <a:ext cx="1544400" cy="9561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520" name="Group 7"/>
            <p:cNvGrpSpPr/>
            <p:nvPr/>
          </p:nvGrpSpPr>
          <p:grpSpPr>
            <a:xfrm>
              <a:off x="3995640" y="591120"/>
              <a:ext cx="3552840" cy="2383560"/>
              <a:chOff x="3995640" y="591120"/>
              <a:chExt cx="3552840" cy="2383560"/>
            </a:xfrm>
          </p:grpSpPr>
          <p:sp>
            <p:nvSpPr>
              <p:cNvPr id="521" name="Line 8"/>
              <p:cNvSpPr/>
              <p:nvPr/>
            </p:nvSpPr>
            <p:spPr>
              <a:xfrm flipV="1">
                <a:off x="4404240" y="591120"/>
                <a:ext cx="0" cy="238068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Line 9"/>
              <p:cNvSpPr/>
              <p:nvPr/>
            </p:nvSpPr>
            <p:spPr>
              <a:xfrm>
                <a:off x="4404240" y="2972160"/>
                <a:ext cx="3144240" cy="252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3200" bIns="-432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Oval 10"/>
              <p:cNvSpPr/>
              <p:nvPr/>
            </p:nvSpPr>
            <p:spPr>
              <a:xfrm rot="20469000">
                <a:off x="4541760" y="2132640"/>
                <a:ext cx="482400" cy="5130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4601160" y="2273400"/>
                <a:ext cx="40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3995640" y="741600"/>
                <a:ext cx="740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0" lang="en-GB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5340240" y="227340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5340240" y="189072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6280920" y="61488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6750360" y="132948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0360" y="61488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Text Box 18"/>
              <p:cNvSpPr/>
              <p:nvPr/>
            </p:nvSpPr>
            <p:spPr>
              <a:xfrm>
                <a:off x="7086600" y="1329480"/>
                <a:ext cx="40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32" name="Text Box 19"/>
            <p:cNvSpPr/>
            <p:nvPr/>
          </p:nvSpPr>
          <p:spPr>
            <a:xfrm>
              <a:off x="7146000" y="2892600"/>
              <a:ext cx="73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0" lang="en-GB" sz="2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533" name="Group 20"/>
          <p:cNvGrpSpPr/>
          <p:nvPr/>
        </p:nvGrpSpPr>
        <p:grpSpPr>
          <a:xfrm>
            <a:off x="-38160" y="2205000"/>
            <a:ext cx="3817800" cy="3008520"/>
            <a:chOff x="-38160" y="2205000"/>
            <a:chExt cx="3817800" cy="3008520"/>
          </a:xfrm>
        </p:grpSpPr>
        <p:grpSp>
          <p:nvGrpSpPr>
            <p:cNvPr id="534" name="Group 21"/>
            <p:cNvGrpSpPr/>
            <p:nvPr/>
          </p:nvGrpSpPr>
          <p:grpSpPr>
            <a:xfrm>
              <a:off x="-38160" y="2205000"/>
              <a:ext cx="3541680" cy="2566080"/>
              <a:chOff x="-38160" y="2205000"/>
              <a:chExt cx="3541680" cy="2566080"/>
            </a:xfrm>
          </p:grpSpPr>
          <p:sp>
            <p:nvSpPr>
              <p:cNvPr id="535" name="Line 22"/>
              <p:cNvSpPr/>
              <p:nvPr/>
            </p:nvSpPr>
            <p:spPr>
              <a:xfrm flipV="1">
                <a:off x="369000" y="2205000"/>
                <a:ext cx="0" cy="256320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Line 23"/>
              <p:cNvSpPr/>
              <p:nvPr/>
            </p:nvSpPr>
            <p:spPr>
              <a:xfrm>
                <a:off x="369000" y="4768200"/>
                <a:ext cx="3134520" cy="2880"/>
              </a:xfrm>
              <a:prstGeom prst="line">
                <a:avLst/>
              </a:prstGeom>
              <a:ln w="31680">
                <a:solidFill>
                  <a:srgbClr val="000066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2840" bIns="-4284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Oval 24"/>
              <p:cNvSpPr/>
              <p:nvPr/>
            </p:nvSpPr>
            <p:spPr>
              <a:xfrm rot="20469000">
                <a:off x="506160" y="3864240"/>
                <a:ext cx="480960" cy="552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Text Box 25"/>
              <p:cNvSpPr/>
              <p:nvPr/>
            </p:nvSpPr>
            <p:spPr>
              <a:xfrm>
                <a:off x="565200" y="4015800"/>
                <a:ext cx="40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Text Box 26"/>
              <p:cNvSpPr/>
              <p:nvPr/>
            </p:nvSpPr>
            <p:spPr>
              <a:xfrm>
                <a:off x="-38160" y="2366640"/>
                <a:ext cx="73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0" lang="en-GB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Text Box 27"/>
              <p:cNvSpPr/>
              <p:nvPr/>
            </p:nvSpPr>
            <p:spPr>
              <a:xfrm>
                <a:off x="1302120" y="401580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Text Box 28"/>
              <p:cNvSpPr/>
              <p:nvPr/>
            </p:nvSpPr>
            <p:spPr>
              <a:xfrm>
                <a:off x="1302120" y="360252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Text Box 29"/>
              <p:cNvSpPr/>
              <p:nvPr/>
            </p:nvSpPr>
            <p:spPr>
              <a:xfrm>
                <a:off x="2239920" y="223020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Text Box 30"/>
              <p:cNvSpPr/>
              <p:nvPr/>
            </p:nvSpPr>
            <p:spPr>
              <a:xfrm>
                <a:off x="2707920" y="299988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Text Box 31"/>
              <p:cNvSpPr/>
              <p:nvPr/>
            </p:nvSpPr>
            <p:spPr>
              <a:xfrm>
                <a:off x="2707920" y="223020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Text Box 32"/>
              <p:cNvSpPr/>
              <p:nvPr/>
            </p:nvSpPr>
            <p:spPr>
              <a:xfrm>
                <a:off x="3043080" y="2999880"/>
                <a:ext cx="401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46" name="Text Box 33"/>
            <p:cNvSpPr/>
            <p:nvPr/>
          </p:nvSpPr>
          <p:spPr>
            <a:xfrm>
              <a:off x="3043080" y="4703400"/>
              <a:ext cx="736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0" lang="en-GB" sz="2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547" name="Group 34"/>
          <p:cNvGrpSpPr/>
          <p:nvPr/>
        </p:nvGrpSpPr>
        <p:grpSpPr>
          <a:xfrm>
            <a:off x="4140360" y="3500280"/>
            <a:ext cx="3816360" cy="3434760"/>
            <a:chOff x="4140360" y="3500280"/>
            <a:chExt cx="3816360" cy="3434760"/>
          </a:xfrm>
        </p:grpSpPr>
        <p:cxnSp>
          <p:nvCxnSpPr>
            <p:cNvPr id="548" name="AutoShape 35"/>
            <p:cNvCxnSpPr/>
            <p:nvPr/>
          </p:nvCxnSpPr>
          <p:spPr>
            <a:xfrm flipH="1" rot="16200000">
              <a:off x="6525360" y="6114240"/>
              <a:ext cx="1800" cy="4651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49" name="AutoShape 36"/>
            <p:cNvCxnSpPr/>
            <p:nvPr/>
          </p:nvCxnSpPr>
          <p:spPr>
            <a:xfrm flipH="1" rot="16200000">
              <a:off x="5594040" y="6113880"/>
              <a:ext cx="1800" cy="466200"/>
            </a:xfrm>
            <a:prstGeom prst="bentConnector3">
              <a:avLst>
                <a:gd name="adj1" fmla="val -345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50" name="AutoShape 37"/>
            <p:cNvCxnSpPr/>
            <p:nvPr/>
          </p:nvCxnSpPr>
          <p:spPr>
            <a:xfrm flipH="1" rot="16200000">
              <a:off x="7456320" y="6113520"/>
              <a:ext cx="1800" cy="466560"/>
            </a:xfrm>
            <a:prstGeom prst="bentConnector3">
              <a:avLst>
                <a:gd name="adj1" fmla="val -686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grpSp>
          <p:nvGrpSpPr>
            <p:cNvPr id="551" name="Group 38"/>
            <p:cNvGrpSpPr/>
            <p:nvPr/>
          </p:nvGrpSpPr>
          <p:grpSpPr>
            <a:xfrm>
              <a:off x="4897440" y="5109480"/>
              <a:ext cx="730800" cy="1238040"/>
              <a:chOff x="4897440" y="5109480"/>
              <a:chExt cx="730800" cy="1238040"/>
            </a:xfrm>
          </p:grpSpPr>
          <p:sp>
            <p:nvSpPr>
              <p:cNvPr id="552" name="Oval 39"/>
              <p:cNvSpPr/>
              <p:nvPr/>
            </p:nvSpPr>
            <p:spPr>
              <a:xfrm>
                <a:off x="5562720" y="5815800"/>
                <a:ext cx="65520" cy="6660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553" name="AutoShape 40"/>
              <p:cNvCxnSpPr>
                <a:stCxn id="552" idx="0"/>
                <a:endCxn id="554" idx="0"/>
              </p:cNvCxnSpPr>
              <p:nvPr/>
            </p:nvCxnSpPr>
            <p:spPr>
              <a:xfrm rot="5400000">
                <a:off x="4974120" y="5725800"/>
                <a:ext cx="545040" cy="699120"/>
              </a:xfrm>
              <a:prstGeom prst="bentConnector3">
                <a:avLst>
                  <a:gd name="adj1" fmla="val -127296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55" name="Group 41"/>
            <p:cNvGrpSpPr/>
            <p:nvPr/>
          </p:nvGrpSpPr>
          <p:grpSpPr>
            <a:xfrm>
              <a:off x="6492960" y="4482000"/>
              <a:ext cx="995760" cy="1693800"/>
              <a:chOff x="6492960" y="4482000"/>
              <a:chExt cx="995760" cy="1693800"/>
            </a:xfrm>
          </p:grpSpPr>
          <p:sp>
            <p:nvSpPr>
              <p:cNvPr id="556" name="Oval 42"/>
              <p:cNvSpPr/>
              <p:nvPr/>
            </p:nvSpPr>
            <p:spPr>
              <a:xfrm>
                <a:off x="6492960" y="6108840"/>
                <a:ext cx="6552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Oval 43"/>
              <p:cNvSpPr/>
              <p:nvPr/>
            </p:nvSpPr>
            <p:spPr>
              <a:xfrm>
                <a:off x="7422840" y="5313960"/>
                <a:ext cx="6588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558" name="AutoShape 44"/>
              <p:cNvCxnSpPr>
                <a:stCxn id="556" idx="0"/>
                <a:endCxn id="557" idx="0"/>
              </p:cNvCxnSpPr>
              <p:nvPr/>
            </p:nvCxnSpPr>
            <p:spPr>
              <a:xfrm flipH="1" flipV="1" rot="5400000">
                <a:off x="6593760" y="5245920"/>
                <a:ext cx="795600" cy="930960"/>
              </a:xfrm>
              <a:prstGeom prst="bentConnector3">
                <a:avLst>
                  <a:gd name="adj1" fmla="val 204572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59" name="Group 45"/>
            <p:cNvGrpSpPr/>
            <p:nvPr/>
          </p:nvGrpSpPr>
          <p:grpSpPr>
            <a:xfrm>
              <a:off x="5203800" y="4042800"/>
              <a:ext cx="1819080" cy="1098720"/>
              <a:chOff x="5203800" y="4042800"/>
              <a:chExt cx="1819080" cy="1098720"/>
            </a:xfrm>
          </p:grpSpPr>
          <p:sp>
            <p:nvSpPr>
              <p:cNvPr id="560" name="Oval 46"/>
              <p:cNvSpPr/>
              <p:nvPr/>
            </p:nvSpPr>
            <p:spPr>
              <a:xfrm>
                <a:off x="5203800" y="5074560"/>
                <a:ext cx="6588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Oval 47"/>
              <p:cNvSpPr/>
              <p:nvPr/>
            </p:nvSpPr>
            <p:spPr>
              <a:xfrm>
                <a:off x="6957360" y="4454640"/>
                <a:ext cx="6552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562" name="AutoShape 48"/>
              <p:cNvCxnSpPr>
                <a:stCxn id="560" idx="0"/>
                <a:endCxn id="561" idx="0"/>
              </p:cNvCxnSpPr>
              <p:nvPr/>
            </p:nvCxnSpPr>
            <p:spPr>
              <a:xfrm flipH="1" flipV="1" rot="5400000">
                <a:off x="5803920" y="3887640"/>
                <a:ext cx="620640" cy="1753920"/>
              </a:xfrm>
              <a:prstGeom prst="bentConnector3">
                <a:avLst>
                  <a:gd name="adj1" fmla="val 166337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563" name="Group 49"/>
            <p:cNvGrpSpPr/>
            <p:nvPr/>
          </p:nvGrpSpPr>
          <p:grpSpPr>
            <a:xfrm>
              <a:off x="4140360" y="3500280"/>
              <a:ext cx="3748320" cy="3434760"/>
              <a:chOff x="4140360" y="3500280"/>
              <a:chExt cx="3748320" cy="3434760"/>
            </a:xfrm>
          </p:grpSpPr>
          <p:sp>
            <p:nvSpPr>
              <p:cNvPr id="554" name="Text Box 50"/>
              <p:cNvSpPr/>
              <p:nvPr/>
            </p:nvSpPr>
            <p:spPr>
              <a:xfrm>
                <a:off x="4698360" y="63471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Text Box 51"/>
              <p:cNvSpPr/>
              <p:nvPr/>
            </p:nvSpPr>
            <p:spPr>
              <a:xfrm>
                <a:off x="5162760" y="63471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Text Box 52"/>
              <p:cNvSpPr/>
              <p:nvPr/>
            </p:nvSpPr>
            <p:spPr>
              <a:xfrm>
                <a:off x="5628600" y="634716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Text Box 53"/>
              <p:cNvSpPr/>
              <p:nvPr/>
            </p:nvSpPr>
            <p:spPr>
              <a:xfrm>
                <a:off x="7024680" y="6347160"/>
                <a:ext cx="3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6094440" y="63471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8" name="Text Box 55"/>
              <p:cNvSpPr/>
              <p:nvPr/>
            </p:nvSpPr>
            <p:spPr>
              <a:xfrm>
                <a:off x="7490520" y="63471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9" name="Text Box 56"/>
              <p:cNvSpPr/>
              <p:nvPr/>
            </p:nvSpPr>
            <p:spPr>
              <a:xfrm>
                <a:off x="6558840" y="634716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70" name="Line 57"/>
              <p:cNvSpPr/>
              <p:nvPr/>
            </p:nvSpPr>
            <p:spPr>
              <a:xfrm>
                <a:off x="4434480" y="3500280"/>
                <a:ext cx="0" cy="33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71" name="Text Box 58"/>
              <p:cNvSpPr/>
              <p:nvPr/>
            </p:nvSpPr>
            <p:spPr>
              <a:xfrm>
                <a:off x="4140360" y="3791880"/>
                <a:ext cx="295920" cy="31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simi lari tà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72" name="Line 59"/>
            <p:cNvSpPr/>
            <p:nvPr/>
          </p:nvSpPr>
          <p:spPr>
            <a:xfrm>
              <a:off x="4566600" y="4724280"/>
              <a:ext cx="339012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3" name="Text Box 60"/>
          <p:cNvSpPr/>
          <p:nvPr/>
        </p:nvSpPr>
        <p:spPr>
          <a:xfrm>
            <a:off x="7020000" y="22622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partiziona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4" name="Text Box 61"/>
          <p:cNvSpPr/>
          <p:nvPr/>
        </p:nvSpPr>
        <p:spPr>
          <a:xfrm>
            <a:off x="7093080" y="386064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gerarchi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5" name="Text Box 62"/>
          <p:cNvSpPr/>
          <p:nvPr/>
        </p:nvSpPr>
        <p:spPr>
          <a:xfrm>
            <a:off x="755640" y="508464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problema origina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7C56-EC18-48A5-8A1D-089385BDFBF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Gerarchico vs partizion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Ulteriori dettagl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artizional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ottimo per dataset grand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scegliere il numero di cluster è un problema (esistono metodi per determinare in modo automatico il numero di cluster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tipicamente il clustering è il risultato di un procedimento di ottimizzazione, definito sia localmente (in un sottoinsieme dei pattern) che globalmente (in tutti i patter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empi: K-means (e sue varianti), PAM, ISODATA,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erarchic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non è necessario settare a priori il numero di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più informativo del partizionale, è improponibile per dataset grand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Esempi: Complete Link, Single Link, Ward Link,..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8E96-38AB-443B-A631-DA32C0A3855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Hard clustering vs soft clustering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la natura dei cluster risultan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Hard clustering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n pattern viene assegnato ad un unico cluste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sia durante l’esecuzione dell’algoritmo che nel risultat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tto anche clustering “esclusivo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oft clustering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n pattern può essere assegnato a diversi cluster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tto anche “fuzzy clustering” o “clustering non esclusivo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i può essere una funzione di “membership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uò essere trasformato in hard guardando la massima membership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EMPIO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raggruppare persone per età è esclusiv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raggrupparle per malattia è non esclusiv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AF00-F793-4973-A708-CA2A508B621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Agglomerativo vs divisiv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UNTO DI VISTA: come vengono formati i clust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gglomerativo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struisce i cluster effettuando operazioni di “merge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nizia con un cluster per ogni pattern, e successivamente fonde cluster assieme fino al raggiungimento di una determinata condizio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visivo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struisce i cluster effettuando operazioni di “split”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nizia con un unico cluster contenente tutti i dati, e successivamente divide i cluster fino al raggiungimento di una determinata condizio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ment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tipo di procedura piuttosto che tipo di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è naturalmente applicabile al clustering gerarchico, in linea di principio funziona anche per il clustering partizion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8:17:52Z</dcterms:created>
  <dc:creator>Manuele Bicego</dc:creator>
  <dc:description/>
  <dc:language>en-US</dc:language>
  <cp:lastModifiedBy>Marco Cristani</cp:lastModifiedBy>
  <dcterms:modified xsi:type="dcterms:W3CDTF">2013-01-06T20:48:10Z</dcterms:modified>
  <cp:revision>1376</cp:revision>
  <dc:subject/>
  <dc:title>Aerial images analysis for the extraction of geographical entities</dc:title>
</cp:coreProperties>
</file>