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269413" cy="6948488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52D-0B87-4F49-B3A0-5FCEF720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CAA-07EC-4FEC-96CB-8F54BA16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918-50FD-46BE-B419-C6E46FA5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F9C-9B36-4E29-96FF-053A97D7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38CE-DC82-49D8-9053-2C29C56E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505E-3B47-424C-9C9D-99168B31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C62E-4142-4544-B42C-532577E8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FD87-8A7B-44D5-8808-AFB4CD6D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06C9-FE33-4B8C-93E2-05668E32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EB16-98DC-4B29-8DD0-6AD13480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5276-9FE1-4EC6-87B7-44807A2A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987-3DF2-4E67-B773-54887095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02F1-C1C8-46D0-BE0C-CF44D29C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5529-57B8-4671-8175-3102501B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F02A-DB1E-4DDB-8B33-F66F9554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9337-1025-484E-A6EF-419224F6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7324-3E09-4EA7-AA78-A691C530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7A8-F2F6-4C57-8554-C4DB3163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225-48CC-47AD-BE91-70F6DBDB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3E7-25AC-40A8-8A2E-8AEFAABA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87A-F4C4-4F38-8D22-E9575102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D77-DC6A-43A1-8282-B0911AB9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9A6-0F74-4F5B-871F-196AA03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7A4-1B8F-4DC9-815B-04A076F4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107524C-5E9E-4E92-B989-CECD947FAC1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4B7F135-39F5-45EB-9E90-11F144BE8E3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AAC-C676-46C8-A9EF-5AFD571B08E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629080" y="1866960"/>
            <a:ext cx="2158920" cy="812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47840" y="3594240"/>
            <a:ext cx="2540160" cy="2730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245200" y="1866960"/>
            <a:ext cx="2222280" cy="812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245200" y="3594240"/>
            <a:ext cx="2603520" cy="2730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mux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354-C554-4C8C-8703-01DDD9FDA3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63480" y="5226120"/>
            <a:ext cx="3848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s B and C simultaneously choo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f I0, I1, I2, I3 and one of I4, I5, I6, I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 A chooses which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per or lower mux's output to gate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3920" y="2711520"/>
            <a:ext cx="191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3098880"/>
            <a:ext cx="4114800" cy="3556080"/>
            <a:chOff x="5181480" y="3098880"/>
            <a:chExt cx="4114800" cy="3556080"/>
          </a:xfrm>
        </p:grpSpPr>
        <p:sp>
          <p:nvSpPr>
            <p:cNvPr id="348" name=""/>
            <p:cNvSpPr/>
            <p:nvPr/>
          </p:nvSpPr>
          <p:spPr>
            <a:xfrm>
              <a:off x="6134040" y="604512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37560" y="4305240"/>
              <a:ext cx="55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6840" y="6032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4720" y="3568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54720" y="3797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7440" y="34606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3905280"/>
              <a:ext cx="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1840" y="368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4720" y="4254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4720" y="4483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7440" y="41464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48520" y="4591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18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54720" y="49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4720" y="5168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7440" y="48322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52768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118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4720" y="5626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4720" y="5854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7440" y="55180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8520" y="59626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11840" y="5740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90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4920" y="4826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54920" y="4597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690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12120" y="4260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8487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0773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1640" y="42037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26520" y="4711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3689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62920" y="504828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48440" y="48196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48440" y="4375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0" bIns="-58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1760" y="31878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38736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760" y="4559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760" y="52452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44704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7846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30988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51562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83320" y="3346560"/>
              <a:ext cx="28573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62840" y="31622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ultiplexers can be made by cascading smaller 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6120" y="2000160"/>
            <a:ext cx="3999960" cy="2984400"/>
            <a:chOff x="816120" y="2000160"/>
            <a:chExt cx="3999960" cy="2984400"/>
          </a:xfrm>
        </p:grpSpPr>
        <p:sp>
          <p:nvSpPr>
            <p:cNvPr id="397" name=""/>
            <p:cNvSpPr/>
            <p:nvPr/>
          </p:nvSpPr>
          <p:spPr>
            <a:xfrm>
              <a:off x="4257720" y="2863800"/>
              <a:ext cx="558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6120" y="2000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9000" y="2355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9000" y="2813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89000" y="2584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89000" y="3041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31720" y="224784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68320" y="3148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96920" y="3148920"/>
              <a:ext cx="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6120" y="2698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89200" y="31557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89200" y="33843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31920" y="3047760"/>
              <a:ext cx="914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483000" y="349236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68520" y="4375080"/>
              <a:ext cx="545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6320" y="327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120" y="3143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9000" y="3498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9000" y="3956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89000" y="3727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9000" y="4184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31720" y="3390840"/>
              <a:ext cx="91404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83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969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66800" y="436212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6120" y="384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82720" y="2705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82720" y="337788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7600" y="2133360"/>
              <a:ext cx="274284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1320" y="3549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1320" y="2406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2920" y="296856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6440" y="210168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0F4-95D2-4F2D-B411-D3973230B1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ssence, a lookup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11880" y="41562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'B'C'(1) + A'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'BC'(1) + A'B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B'C'(0) + A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+ ABC'(1) + AB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240" y="5810400"/>
            <a:ext cx="6685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6040" y="3168720"/>
            <a:ext cx="1986480" cy="2666880"/>
            <a:chOff x="6656040" y="3168720"/>
            <a:chExt cx="1986480" cy="2666880"/>
          </a:xfrm>
        </p:grpSpPr>
        <p:sp>
          <p:nvSpPr>
            <p:cNvPr id="435" name=""/>
            <p:cNvSpPr/>
            <p:nvPr/>
          </p:nvSpPr>
          <p:spPr>
            <a:xfrm>
              <a:off x="7824960" y="55562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37280" y="55436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1120" y="5543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360" y="31939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2468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1320" y="40831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9296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6124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85000" y="31687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8000" y="4159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56040" y="3321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656040" y="3549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040" y="3778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656040" y="4006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360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9448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656040" y="4235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656040" y="4464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656040" y="4692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656040" y="4921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7572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47040" y="4027320"/>
              <a:ext cx="195480" cy="59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89640" y="3193920"/>
            <a:ext cx="2244600" cy="2108160"/>
            <a:chOff x="6389640" y="3193920"/>
            <a:chExt cx="2244600" cy="2108160"/>
          </a:xfrm>
        </p:grpSpPr>
        <p:sp>
          <p:nvSpPr>
            <p:cNvPr id="458" name=""/>
            <p:cNvSpPr/>
            <p:nvPr/>
          </p:nvSpPr>
          <p:spPr>
            <a:xfrm>
              <a:off x="6389640" y="31939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39120" y="4041720"/>
              <a:ext cx="19512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E0F-883E-4196-B721-DE1059D1E3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778200" y="4389480"/>
            <a:ext cx="2076480" cy="2324160"/>
            <a:chOff x="3778200" y="4389480"/>
            <a:chExt cx="2076480" cy="2324160"/>
          </a:xfrm>
        </p:grpSpPr>
        <p:sp>
          <p:nvSpPr>
            <p:cNvPr id="461" name=""/>
            <p:cNvSpPr/>
            <p:nvPr/>
          </p:nvSpPr>
          <p:spPr>
            <a:xfrm>
              <a:off x="3848040" y="4389480"/>
              <a:ext cx="18032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73440" y="4694400"/>
              <a:ext cx="381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656240"/>
              <a:ext cx="19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160" y="4408560"/>
              <a:ext cx="0" cy="19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7960" y="466236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5075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90440" y="55069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90800" y="59515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53080" y="4675320"/>
            <a:ext cx="2324160" cy="1847880"/>
            <a:chOff x="6553080" y="4675320"/>
            <a:chExt cx="2324160" cy="1847880"/>
          </a:xfrm>
        </p:grpSpPr>
        <p:sp>
          <p:nvSpPr>
            <p:cNvPr id="470" name=""/>
            <p:cNvSpPr/>
            <p:nvPr/>
          </p:nvSpPr>
          <p:spPr>
            <a:xfrm>
              <a:off x="7619760" y="592632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600" y="59263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304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6132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3720" y="491004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61040" y="473220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7520" y="467532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61040" y="503712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23120" y="52149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13360" y="4884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813360" y="51004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825600" y="5329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38560" y="5532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473220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45320" y="574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26200" y="574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200400" y="505620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04840" y="4218120"/>
            <a:ext cx="2019240" cy="2666880"/>
            <a:chOff x="1104840" y="4218120"/>
            <a:chExt cx="2019240" cy="2666880"/>
          </a:xfrm>
        </p:grpSpPr>
        <p:sp>
          <p:nvSpPr>
            <p:cNvPr id="488" name=""/>
            <p:cNvSpPr/>
            <p:nvPr/>
          </p:nvSpPr>
          <p:spPr>
            <a:xfrm>
              <a:off x="2514600" y="6605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5930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6320" y="65930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3560" y="42433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4840" y="42433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3988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51325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816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7644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2181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5208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371240" y="437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71240" y="459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371240" y="482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71240" y="5056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880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968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240" y="528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371240" y="5513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371240" y="574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371240" y="5970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9092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-1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the last variable or its co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(C') + A'B(C') + AB'(0) + A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CC1-233B-4313-B85B-3E5CF8D4E9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55680" y="2076480"/>
            <a:ext cx="1600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52280" indent="-15228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 mux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mux dat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45320" y="1595520"/>
            <a:ext cx="141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ruth 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ressed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 o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0920" y="1492200"/>
            <a:ext cx="40132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27000" anchor="t">
            <a:noAutofit/>
          </a:bodyPr>
          <a:p>
            <a:pPr>
              <a:lnSpc>
                <a:spcPts val="2599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784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3040" y="2476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02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7440" y="24890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7080" y="2882880"/>
            <a:ext cx="1695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1080" y="1562040"/>
            <a:ext cx="17715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68960" y="1562040"/>
            <a:ext cx="22860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98960" y="1924200"/>
            <a:ext cx="43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9840" y="16066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8640" y="1917720"/>
            <a:ext cx="5590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1600" y="2095560"/>
            <a:ext cx="24890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A,B,C,D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ealiz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n 8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38280" y="2963880"/>
            <a:ext cx="7559640" cy="3744720"/>
            <a:chOff x="638280" y="2963880"/>
            <a:chExt cx="7559640" cy="3744720"/>
          </a:xfrm>
        </p:grpSpPr>
        <p:sp>
          <p:nvSpPr>
            <p:cNvPr id="529" name=""/>
            <p:cNvSpPr/>
            <p:nvPr/>
          </p:nvSpPr>
          <p:spPr>
            <a:xfrm>
              <a:off x="638280" y="5388120"/>
              <a:ext cx="2311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A,B,C a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137040" y="2963880"/>
              <a:ext cx="5060880" cy="3744720"/>
              <a:chOff x="3137040" y="2963880"/>
              <a:chExt cx="5060880" cy="37447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178680" y="3807000"/>
                <a:ext cx="2019240" cy="2666880"/>
                <a:chOff x="6178680" y="3807000"/>
                <a:chExt cx="2019240" cy="2666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588440" y="61945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26320" y="6181920"/>
                  <a:ext cx="55908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220160" y="61819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737400" y="3832200"/>
                  <a:ext cx="1652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78680" y="3832200"/>
                  <a:ext cx="1904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1372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50360" y="4721400"/>
                  <a:ext cx="11300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:1 MU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18200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55028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74040" y="3807000"/>
                  <a:ext cx="1143000" cy="2057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817040" y="479736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6445080" y="3959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445080" y="4187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6445080" y="4416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445080" y="46450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90264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8352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445080" y="48736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445080" y="5102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6445080" y="5330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6445080" y="5559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6476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137040" y="2963880"/>
                <a:ext cx="2464920" cy="3744720"/>
                <a:chOff x="3137040" y="2963880"/>
                <a:chExt cx="2464920" cy="3744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38480" y="3254400"/>
                  <a:ext cx="241200" cy="37116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162240" y="2963880"/>
                  <a:ext cx="2044440" cy="37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21080" y="3281400"/>
                  <a:ext cx="380880" cy="33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'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37040" y="32302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870440" y="2982960"/>
                  <a:ext cx="0" cy="372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406760" y="3236760"/>
                  <a:ext cx="0" cy="347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37040" y="364968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3137040" y="40813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37040" y="45259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37040" y="4944960"/>
                  <a:ext cx="1955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37040" y="5364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137040" y="5796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37040" y="624024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38480" y="36734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37040" y="36496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137040" y="40813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137040" y="45259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137040" y="494496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37040" y="5364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137040" y="5796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137040" y="624024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38480" y="41306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38480" y="454968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938480" y="496872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38480" y="53877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38480" y="58449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8480" y="626400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8E1-923D-4B59-8A68-CF841EF2D7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F = B’CD’ + ABC’ with a 4:1 multiplexer and a minimum of other g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38080" y="2590920"/>
            <a:ext cx="2247840" cy="3743280"/>
            <a:chOff x="838080" y="2590920"/>
            <a:chExt cx="2247840" cy="3743280"/>
          </a:xfrm>
        </p:grpSpPr>
        <p:sp>
          <p:nvSpPr>
            <p:cNvPr id="585" name=""/>
            <p:cNvSpPr/>
            <p:nvPr/>
          </p:nvSpPr>
          <p:spPr>
            <a:xfrm>
              <a:off x="863280" y="2590920"/>
              <a:ext cx="204480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8080" y="28576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1480" y="261000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32767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38080" y="37083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41529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45720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8080" y="4991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38080" y="5423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5867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327672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7083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41529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457200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080" y="4991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5423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58672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166760" y="2552760"/>
            <a:ext cx="4191120" cy="3805200"/>
            <a:chOff x="1166760" y="2552760"/>
            <a:chExt cx="4191120" cy="3805200"/>
          </a:xfrm>
        </p:grpSpPr>
        <p:sp>
          <p:nvSpPr>
            <p:cNvPr id="603" name=""/>
            <p:cNvSpPr/>
            <p:nvPr/>
          </p:nvSpPr>
          <p:spPr>
            <a:xfrm>
              <a:off x="1166760" y="2552760"/>
              <a:ext cx="903240" cy="380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971800" y="2571840"/>
              <a:ext cx="2386080" cy="2200320"/>
              <a:chOff x="2971800" y="2571840"/>
              <a:chExt cx="2386080" cy="2200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2984760" y="2784600"/>
                <a:ext cx="113328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971800" y="2784600"/>
                <a:ext cx="1146240" cy="198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01120" y="2571840"/>
                <a:ext cx="125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’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03480" y="3473280"/>
              <a:ext cx="2351880" cy="1742760"/>
              <a:chOff x="3003480" y="3473280"/>
              <a:chExt cx="2351880" cy="1742760"/>
            </a:xfrm>
          </p:grpSpPr>
          <p:sp>
            <p:nvSpPr>
              <p:cNvPr id="609" name=""/>
              <p:cNvSpPr/>
              <p:nvPr/>
            </p:nvSpPr>
            <p:spPr>
              <a:xfrm flipH="1" flipV="1">
                <a:off x="3026880" y="3473280"/>
                <a:ext cx="10364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03480" y="3644640"/>
                <a:ext cx="1072800" cy="15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66560" y="3482640"/>
                <a:ext cx="128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’ when B’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041280" y="3940200"/>
              <a:ext cx="2208240" cy="1676520"/>
              <a:chOff x="3041280" y="3940200"/>
              <a:chExt cx="2208240" cy="1676520"/>
            </a:xfrm>
          </p:grpSpPr>
          <p:sp>
            <p:nvSpPr>
              <p:cNvPr id="613" name=""/>
              <p:cNvSpPr/>
              <p:nvPr/>
            </p:nvSpPr>
            <p:spPr>
              <a:xfrm flipH="1" flipV="1">
                <a:off x="3041280" y="3940200"/>
                <a:ext cx="9903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41280" y="4397400"/>
                <a:ext cx="99684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14360" y="4245120"/>
                <a:ext cx="12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 when B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041640" y="4397040"/>
              <a:ext cx="2211120" cy="1676880"/>
              <a:chOff x="3041640" y="4397040"/>
              <a:chExt cx="2211120" cy="1676880"/>
            </a:xfrm>
          </p:grpSpPr>
          <p:sp>
            <p:nvSpPr>
              <p:cNvPr id="617" name=""/>
              <p:cNvSpPr/>
              <p:nvPr/>
            </p:nvSpPr>
            <p:spPr>
              <a:xfrm flipH="1" flipV="1">
                <a:off x="3041640" y="4397040"/>
                <a:ext cx="99072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041640" y="5083200"/>
                <a:ext cx="99072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66200" y="4930920"/>
                <a:ext cx="118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5401080" y="571500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B’C’(0) + B’C(D’) + BC’(A) + BC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248520" y="3581280"/>
            <a:ext cx="2324160" cy="1847880"/>
            <a:chOff x="6248520" y="3581280"/>
            <a:chExt cx="2324160" cy="1847880"/>
          </a:xfrm>
        </p:grpSpPr>
        <p:sp>
          <p:nvSpPr>
            <p:cNvPr id="622" name=""/>
            <p:cNvSpPr/>
            <p:nvPr/>
          </p:nvSpPr>
          <p:spPr>
            <a:xfrm>
              <a:off x="7315200" y="483228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09040" y="483228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8848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76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39160" y="3816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56480" y="363816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62960" y="358128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6480" y="39430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18560" y="41209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508800" y="3790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508800" y="40064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521040" y="4235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534000" y="4438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48520" y="363816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40760" y="4647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21640" y="464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93760" y="2494080"/>
            <a:ext cx="8682120" cy="41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D86-C6AC-4E12-811E-CE1476969E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117520" y="3805200"/>
            <a:ext cx="13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9600" y="4795920"/>
            <a:ext cx="185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74200" y="380520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/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oders/demultiplexe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ata input, n control input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inputs (called “selects” (S)) represent binary index of output to which the input is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usually called “enable”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20B-CB21-4984-8688-4569AF94CD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362320" y="16509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97760" y="165096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4600" y="4089240"/>
            <a:ext cx="143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79960" y="408924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590920" y="2120760"/>
            <a:ext cx="2692440" cy="1079280"/>
            <a:chOff x="2590920" y="2120760"/>
            <a:chExt cx="2692440" cy="1079280"/>
          </a:xfrm>
        </p:grpSpPr>
        <p:sp>
          <p:nvSpPr>
            <p:cNvPr id="649" name=""/>
            <p:cNvSpPr/>
            <p:nvPr/>
          </p:nvSpPr>
          <p:spPr>
            <a:xfrm>
              <a:off x="4673880" y="2209680"/>
              <a:ext cx="596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90920" y="212076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86480" y="28443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640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640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4992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6628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5980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6592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5944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640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640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4992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6628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80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592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44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5800" y="235548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295800" y="249516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89680" y="235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37000" y="248256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0320" y="2349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1160" y="227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91160" y="306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2240" y="3060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9576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8316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7676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02240" y="2273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0320" y="2984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30920" y="2501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91160" y="290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8468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30920" y="28191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2444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98880" y="265392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2444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6760" y="2666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1160" y="242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25920" y="2501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8468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172200" y="2120760"/>
            <a:ext cx="2743200" cy="1074240"/>
            <a:chOff x="6172200" y="2120760"/>
            <a:chExt cx="2743200" cy="1074240"/>
          </a:xfrm>
        </p:grpSpPr>
        <p:sp>
          <p:nvSpPr>
            <p:cNvPr id="692" name=""/>
            <p:cNvSpPr/>
            <p:nvPr/>
          </p:nvSpPr>
          <p:spPr>
            <a:xfrm>
              <a:off x="8305560" y="21967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120760"/>
              <a:ext cx="368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2296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18520" y="28317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8808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8808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58160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9796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9184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760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148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808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8808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58160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796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9184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760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9148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7840" y="267300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927840" y="281268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1360" y="2673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9040" y="28000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72360" y="234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22840" y="227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22840" y="306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4280" y="306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2780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520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0844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34280" y="2273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2360" y="2984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6260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22840" y="290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1672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62600" y="25016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5612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0920" y="26539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5612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08440" y="26668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2840" y="2425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1672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11760" y="24062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1760" y="224136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11760" y="30412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11760" y="28764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308240" y="3632040"/>
            <a:ext cx="2781000" cy="3073680"/>
            <a:chOff x="1308240" y="3632040"/>
            <a:chExt cx="2781000" cy="3073680"/>
          </a:xfrm>
        </p:grpSpPr>
        <p:sp>
          <p:nvSpPr>
            <p:cNvPr id="739" name=""/>
            <p:cNvSpPr/>
            <p:nvPr/>
          </p:nvSpPr>
          <p:spPr>
            <a:xfrm>
              <a:off x="1892160" y="6362640"/>
              <a:ext cx="648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05320" y="476244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7920" y="528336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7920" y="37465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8240" y="3632040"/>
              <a:ext cx="25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7920" y="42544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73400" y="6375240"/>
              <a:ext cx="647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62260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0812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49516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1000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2417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12724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1428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2876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272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27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1184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0536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1148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0500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5272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5272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4624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184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0536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1148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500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272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272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4624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1184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0536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1148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0500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272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272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4624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1184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0536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1148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0500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732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784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2564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2564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4784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35240" y="3873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784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35240" y="4381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440064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4320" y="38862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54320" y="4394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9732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290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2564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564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2908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1612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2908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1612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9080" y="50356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5200" y="4013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35200" y="5029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2564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2564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564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55920" y="37591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0972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0972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9064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972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9064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0972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0324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0324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4784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2564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2564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38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4480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44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57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44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541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5740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3880" y="4902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63880" y="5410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290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2564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2564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4476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568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5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5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8280" y="55436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4760" y="45212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44760" y="5537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9732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638680" y="3638520"/>
            <a:ext cx="2819520" cy="3054240"/>
            <a:chOff x="5638680" y="3638520"/>
            <a:chExt cx="2819520" cy="3054240"/>
          </a:xfrm>
        </p:grpSpPr>
        <p:sp>
          <p:nvSpPr>
            <p:cNvPr id="848" name=""/>
            <p:cNvSpPr/>
            <p:nvPr/>
          </p:nvSpPr>
          <p:spPr>
            <a:xfrm>
              <a:off x="6261120" y="63500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3920" y="4749840"/>
              <a:ext cx="571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86880" y="5270400"/>
              <a:ext cx="5713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86880" y="37339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38680" y="3645000"/>
              <a:ext cx="355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86880" y="42418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42000" y="63626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00416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88968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672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1200" y="57466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6229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08800" y="5784840"/>
              <a:ext cx="1141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496200" y="59817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032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3428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3428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2780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340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692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304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656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3428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3428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2780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9340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8692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9304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8656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428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3428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2780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9340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8692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9304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8656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3428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3428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78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9340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8692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9304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8656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888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720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720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50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6360" y="60958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3896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26360" y="38736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3896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26360" y="43815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38960" y="440064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3896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3886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45080" y="439416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7888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102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720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20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2632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0724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1984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0724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84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0724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19840" y="5035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1984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26320" y="40132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26320" y="5029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7888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0720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0720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0720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7120" y="3759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7220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9128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9128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7220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9128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9128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8480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8480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8480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2940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720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720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29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6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54165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5880" y="5410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35880" y="4902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02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720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0720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10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97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10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97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10280" y="5543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16760" y="553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6760" y="4521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888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0920" y="5518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5391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70920" y="5264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0920" y="5010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0920" y="488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70920" y="4756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0920" y="450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0920" y="4375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70920" y="4248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70920" y="3994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3867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70920" y="3740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de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:2 decoder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4 deco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CE3-2360-4642-AB4E-77CAA15F5F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343400" y="40384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 generate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 based on contro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t "decodes" control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: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od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able inputs tied to 1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minterms summed to form the fun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581280"/>
            <a:ext cx="2806560" cy="2667240"/>
            <a:chOff x="914400" y="3581280"/>
            <a:chExt cx="2806560" cy="2667240"/>
          </a:xfrm>
        </p:grpSpPr>
        <p:sp>
          <p:nvSpPr>
            <p:cNvPr id="974" name=""/>
            <p:cNvSpPr/>
            <p:nvPr/>
          </p:nvSpPr>
          <p:spPr>
            <a:xfrm>
              <a:off x="3124080" y="3657600"/>
              <a:ext cx="59688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2000" y="596916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468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0816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14600" y="360684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0172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44956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:8 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7000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534672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4400" y="441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00200" y="358128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19320" y="4572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742840" y="373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742840" y="3962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2742840" y="4191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742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906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718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7428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742840" y="4876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274284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742840" y="5334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5276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DCB-716E-4AE2-BC4E-29E7107D1B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6254280" y="2680920"/>
            <a:ext cx="2730960" cy="3175200"/>
            <a:chOff x="6254280" y="2680920"/>
            <a:chExt cx="2730960" cy="3175200"/>
          </a:xfrm>
        </p:grpSpPr>
        <p:sp>
          <p:nvSpPr>
            <p:cNvPr id="998" name=""/>
            <p:cNvSpPr/>
            <p:nvPr/>
          </p:nvSpPr>
          <p:spPr>
            <a:xfrm>
              <a:off x="6801120" y="2707920"/>
              <a:ext cx="13075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94640" y="26892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7440" y="2680920"/>
              <a:ext cx="1231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70960" y="2687400"/>
              <a:ext cx="1256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72080" y="2680920"/>
              <a:ext cx="17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65600" y="268740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18240" y="2896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72440" y="2707920"/>
              <a:ext cx="1771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65960" y="26892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5680" y="270648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8320" y="2896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96160" y="30873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40680" y="2896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59560" y="271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254280" y="3093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4640" y="3551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711840" y="289080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98920" y="58561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864120" y="3080880"/>
              <a:ext cx="1296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350200" y="274464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254640" y="4071600"/>
            <a:ext cx="2705040" cy="1536840"/>
            <a:chOff x="6254640" y="4071600"/>
            <a:chExt cx="2705040" cy="1536840"/>
          </a:xfrm>
        </p:grpSpPr>
        <p:sp>
          <p:nvSpPr>
            <p:cNvPr id="1019" name=""/>
            <p:cNvSpPr/>
            <p:nvPr/>
          </p:nvSpPr>
          <p:spPr>
            <a:xfrm>
              <a:off x="6801120" y="4092480"/>
              <a:ext cx="130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94640" y="40860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77440" y="4078440"/>
              <a:ext cx="12312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70960" y="4071600"/>
              <a:ext cx="1256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372080" y="4078440"/>
              <a:ext cx="177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65600" y="4071600"/>
              <a:ext cx="190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18240" y="4306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72440" y="409248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5960" y="40860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3080" y="409068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18320" y="43066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83200" y="44971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40680" y="43066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11840" y="432576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286320" y="5608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54640" y="515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59560" y="40845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70600" y="44845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64120" y="446544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24640" y="416700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64480" y="5672160"/>
            <a:ext cx="1853640" cy="622440"/>
            <a:chOff x="6864480" y="5672160"/>
            <a:chExt cx="1853640" cy="622440"/>
          </a:xfrm>
        </p:grpSpPr>
        <p:sp>
          <p:nvSpPr>
            <p:cNvPr id="1040" name=""/>
            <p:cNvSpPr/>
            <p:nvPr/>
          </p:nvSpPr>
          <p:spPr>
            <a:xfrm>
              <a:off x="7518240" y="567216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518240" y="5850000"/>
              <a:ext cx="2538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12120" y="5672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85000" y="58248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96160" y="585648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73920" y="5856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0600" y="584388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64480" y="5837400"/>
              <a:ext cx="5040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83440" y="5697720"/>
              <a:ext cx="634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 = A'BC'D + A'B'CD + A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2 = ABC'D' +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3 = (A' + B' + C' + D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43360" y="2255760"/>
            <a:ext cx="3276000" cy="4635360"/>
            <a:chOff x="2943360" y="2255760"/>
            <a:chExt cx="3276000" cy="4635360"/>
          </a:xfrm>
        </p:grpSpPr>
        <p:sp>
          <p:nvSpPr>
            <p:cNvPr id="1052" name=""/>
            <p:cNvSpPr/>
            <p:nvPr/>
          </p:nvSpPr>
          <p:spPr>
            <a:xfrm>
              <a:off x="40986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48120" y="2255760"/>
              <a:ext cx="13712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08160" y="3938400"/>
              <a:ext cx="1104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43360" y="4084560"/>
              <a:ext cx="78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09680" y="2255760"/>
              <a:ext cx="1142640" cy="37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28800" y="4236840"/>
              <a:ext cx="38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62320" y="59893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09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481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52680" y="2408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52680" y="2636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61916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687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844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52680" y="2865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152680" y="3093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52680" y="3322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152680" y="3551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52680" y="3779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152680" y="4008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52680" y="4236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152680" y="4465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52680" y="4694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152680" y="4922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2680" y="5151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5152680" y="5379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52680" y="5608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5152680" y="5837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302-BABE-4816-BD70-6A4F8B4EA6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stors quickly integrated into logic gates (196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 of common gates (197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Instruments Logic Data Book – the yellow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mon packages listed and characterized (delays,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pack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-pin IC: 6-inverters, 4 NAND gates, 4 XOR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very few parts are still in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parts libraries exist for chip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rs reuse already characterized logic gates 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easons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s that the parts don’t exist in physical inventory – created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4C4-DE10-4371-81B6-F541D9CCE2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83228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911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11520" y="3691080"/>
            <a:ext cx="455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81520" y="1982880"/>
            <a:ext cx="15638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09716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35600" y="2562120"/>
            <a:ext cx="901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9740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728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816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196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77028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11640" y="3541680"/>
            <a:ext cx="0" cy="23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22680" y="3541680"/>
            <a:ext cx="0" cy="23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53160" y="3551400"/>
            <a:ext cx="0" cy="23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1336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1336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036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1336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1336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1336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1336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71760" y="443700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92520" y="4437000"/>
            <a:ext cx="45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3505320"/>
            <a:ext cx="1087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78160" y="4064040"/>
            <a:ext cx="528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95360" y="3713040"/>
            <a:ext cx="90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:4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78040" y="4064040"/>
            <a:ext cx="528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28800" y="3733920"/>
            <a:ext cx="434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352600" y="3459240"/>
            <a:ext cx="920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0920" y="3846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92280" y="428796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03680" y="42879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95800" y="356724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37432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84640" y="393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95800" y="41068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7196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1336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1336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36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1336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1336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1336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036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3896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597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70760" y="1992240"/>
            <a:ext cx="1314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C'D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536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303960" y="256212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4524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94548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9600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1980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812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5948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69080" y="3541680"/>
            <a:ext cx="0" cy="22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10100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6120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6120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18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6120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6120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6120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18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26120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8012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3896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980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597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91280" y="4260960"/>
            <a:ext cx="1366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79600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1812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65600" y="2692440"/>
            <a:ext cx="0" cy="86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511080" y="3567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43480" y="410544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65600" y="4111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90920" y="39304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13440" y="3935520"/>
            <a:ext cx="0" cy="10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04080" y="269244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419640" y="3743280"/>
            <a:ext cx="25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:32 dec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x2:4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3:8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35600" y="4842000"/>
            <a:ext cx="90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4816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77028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81520" y="4260960"/>
            <a:ext cx="1273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3228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911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11520" y="5970600"/>
            <a:ext cx="455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9716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9740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9728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21164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226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5316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01336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34536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83440" y="4842000"/>
            <a:ext cx="900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64524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548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5948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690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0100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6120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26120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518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6120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6120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6120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2518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6120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984-4054-487A-95C6-E3FC45BC1B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720800" y="364500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133720" y="3308400"/>
            <a:ext cx="1600200" cy="2254320"/>
            <a:chOff x="2133720" y="3308400"/>
            <a:chExt cx="1600200" cy="2254320"/>
          </a:xfrm>
        </p:grpSpPr>
        <p:sp>
          <p:nvSpPr>
            <p:cNvPr id="1196" name=""/>
            <p:cNvSpPr/>
            <p:nvPr/>
          </p:nvSpPr>
          <p:spPr>
            <a:xfrm>
              <a:off x="213372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29080" y="3308400"/>
              <a:ext cx="876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77960" y="3638520"/>
              <a:ext cx="927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13080" y="4546440"/>
              <a:ext cx="10922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270400" y="4114800"/>
            <a:ext cx="1854360" cy="2286000"/>
            <a:chOff x="5270400" y="4114800"/>
            <a:chExt cx="1854360" cy="2286000"/>
          </a:xfrm>
        </p:grpSpPr>
        <p:sp>
          <p:nvSpPr>
            <p:cNvPr id="1204" name=""/>
            <p:cNvSpPr/>
            <p:nvPr/>
          </p:nvSpPr>
          <p:spPr>
            <a:xfrm>
              <a:off x="541008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54680" y="5937120"/>
              <a:ext cx="109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2400" y="5581800"/>
              <a:ext cx="1181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70400" y="4438800"/>
              <a:ext cx="1854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6728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272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733920" y="4343400"/>
            <a:ext cx="1676160" cy="1263600"/>
            <a:chOff x="3733920" y="4343400"/>
            <a:chExt cx="1676160" cy="1263600"/>
          </a:xfrm>
        </p:grpSpPr>
        <p:sp>
          <p:nvSpPr>
            <p:cNvPr id="1212" name=""/>
            <p:cNvSpPr/>
            <p:nvPr/>
          </p:nvSpPr>
          <p:spPr>
            <a:xfrm>
              <a:off x="3746520" y="466740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33920" y="4343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33920" y="54100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fabricated building block of many AND/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NOR or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ersonalized" by making/breaking connections among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array block diagram for sum of 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9E2-7FCE-43DE-B406-A9A4FD09F80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17440" y="2540160"/>
            <a:ext cx="123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16120" y="2273400"/>
            <a:ext cx="1968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 +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B'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B' C  +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49440" y="3797280"/>
            <a:ext cx="218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l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3936960"/>
            <a:ext cx="3187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un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does not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27600" y="5194440"/>
            <a:ext cx="3302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term connected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no connection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59320" y="3606840"/>
            <a:ext cx="1384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59320" y="49021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25520" y="4425840"/>
            <a:ext cx="4514760" cy="2000520"/>
            <a:chOff x="425520" y="4425840"/>
            <a:chExt cx="4514760" cy="2000520"/>
          </a:xfrm>
        </p:grpSpPr>
        <p:sp>
          <p:nvSpPr>
            <p:cNvPr id="1226" name=""/>
            <p:cNvSpPr/>
            <p:nvPr/>
          </p:nvSpPr>
          <p:spPr>
            <a:xfrm>
              <a:off x="533520" y="4432320"/>
              <a:ext cx="440676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5520" y="497844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4400" y="44388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00200" y="44258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641480" y="5124600"/>
            <a:ext cx="2534040" cy="1428480"/>
            <a:chOff x="4641480" y="5124600"/>
            <a:chExt cx="2534040" cy="1428480"/>
          </a:xfrm>
        </p:grpSpPr>
        <p:sp>
          <p:nvSpPr>
            <p:cNvPr id="1231" name=""/>
            <p:cNvSpPr/>
            <p:nvPr/>
          </p:nvSpPr>
          <p:spPr>
            <a:xfrm>
              <a:off x="5384880" y="5892840"/>
              <a:ext cx="1790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use of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4667400" y="5124600"/>
              <a:ext cx="69840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4641480" y="5924520"/>
              <a:ext cx="723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4667040" y="6051600"/>
              <a:ext cx="685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abling concep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product terms among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52D-7238-41FC-B4C4-9D26EC577B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3580920" y="2438280"/>
            <a:ext cx="4839120" cy="4049640"/>
            <a:chOff x="3580920" y="2438280"/>
            <a:chExt cx="4839120" cy="4049640"/>
          </a:xfrm>
        </p:grpSpPr>
        <p:sp>
          <p:nvSpPr>
            <p:cNvPr id="1238" name=""/>
            <p:cNvSpPr/>
            <p:nvPr/>
          </p:nvSpPr>
          <p:spPr>
            <a:xfrm>
              <a:off x="574308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884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16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358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6576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7040" y="5758200"/>
              <a:ext cx="2826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308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4884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01776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59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124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12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551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47600" y="5387760"/>
              <a:ext cx="2826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4220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3240" y="5764320"/>
              <a:ext cx="2466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6596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6128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51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72408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732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5890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5572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1499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4276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36640" y="5382000"/>
              <a:ext cx="30564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784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60400" y="5758200"/>
              <a:ext cx="28188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5572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499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431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7176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838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8620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562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490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43680" y="5382000"/>
              <a:ext cx="29268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732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6708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6204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628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812556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66200" y="58230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832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71052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9280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58092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699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408744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96972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95748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75560" y="2862000"/>
              <a:ext cx="58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4475520" y="2673720"/>
              <a:ext cx="129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5816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345920" y="266760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64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23360" y="3126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3360" y="34210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917240" y="31208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17240" y="3038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94360" y="315180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89320" y="313416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94000" y="3127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88960" y="3121560"/>
              <a:ext cx="2926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23360" y="435132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23360" y="4633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4917240" y="4344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17240" y="4262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94360" y="4364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9320" y="4358520"/>
              <a:ext cx="29232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94000" y="435132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88960" y="433368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23360" y="4951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23360" y="5257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917240" y="4945320"/>
              <a:ext cx="0" cy="3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17240" y="486324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94360" y="496512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89320" y="495900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94000" y="495216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88960" y="494604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23360" y="5563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923360" y="585792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917240" y="55580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17240" y="54756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94360" y="55771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9320" y="557100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94000" y="556416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8960" y="5569920"/>
              <a:ext cx="29268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360" y="3738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923360" y="4021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917240" y="3732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917240" y="3650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94360" y="3752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89320" y="374616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94000" y="3739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8960" y="3733200"/>
              <a:ext cx="29268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7124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7124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890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890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838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838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70480" y="57052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19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3008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364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452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5427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31200" y="5693040"/>
              <a:ext cx="3528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371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2564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00080" y="5705280"/>
              <a:ext cx="6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4772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842160" y="570528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4884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43280" y="57052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70480" y="510480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008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068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13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07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0080" y="510480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88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06240" y="510480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9528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12920" y="510480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01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19240" y="510480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9604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13680" y="5104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0084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0680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1348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0792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70480" y="449244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12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890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3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783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0080" y="449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590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7000" y="449244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77200" y="44809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95200" y="4492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7236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9640" y="4492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668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84440" y="44924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7124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890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838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7832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7832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97832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1664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05640" y="310320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5640" y="43041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05640" y="4928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640" y="55285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05640" y="3704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2240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4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04920" y="255600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93040" y="30916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4920" y="31093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3040" y="36918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04920" y="37094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93040" y="42922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04920" y="430992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93040" y="491616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04920" y="49341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93040" y="55166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04920" y="553428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10680" y="310320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10680" y="3704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10680" y="430416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10680" y="4928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0680" y="552852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932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05640" y="33386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05640" y="45633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05640" y="51634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05640" y="57639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05640" y="39391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9896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6996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8148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81480" y="2556000"/>
              <a:ext cx="0" cy="77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960" y="3327120"/>
              <a:ext cx="46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81480" y="33447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69960" y="39276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81480" y="394524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69960" y="455148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81480" y="45687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69960" y="51519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81480" y="516960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269960" y="57524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81480" y="5770080"/>
              <a:ext cx="0" cy="3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87600" y="333864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287600" y="393912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87600" y="45633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87600" y="516348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7600" y="57639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820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87400" y="2549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5840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9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69920" y="255600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1664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16640" y="303840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23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29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50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704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000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12040" y="326808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968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1836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3600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12800" y="3268080"/>
              <a:ext cx="4716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3044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48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73712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2392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2988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2504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3100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932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5640" y="32209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05640" y="44337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05640" y="5034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05640" y="5646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05640" y="38332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93200" y="303840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81320" y="320940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3200" y="32270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81320" y="38214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93200" y="38390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320" y="44218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93200" y="44395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81320" y="50223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93200" y="504000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081320" y="564624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093200" y="56520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098960" y="322092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98960" y="383328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098960" y="44337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98960" y="5034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98960" y="5646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20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05640" y="3468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05640" y="46688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5640" y="52930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5640" y="58935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05640" y="40687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82000" y="303840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69760" y="34567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82000" y="34743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69760" y="40568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82000" y="40748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69760" y="46573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82000" y="467496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9760" y="528156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82000" y="529920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69760" y="5881680"/>
              <a:ext cx="352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82000" y="589932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87400" y="34682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87400" y="40687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87400" y="46688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87400" y="52930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87400" y="5893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41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59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4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606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370480" y="3891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0080" y="3891960"/>
              <a:ext cx="2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4128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47400" y="389196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479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65600" y="3891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427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60040" y="3891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4872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720" y="3891960"/>
              <a:ext cx="55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41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594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154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6060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3704760" y="2973600"/>
              <a:ext cx="1212480" cy="88200"/>
              <a:chOff x="3704760" y="2973600"/>
              <a:chExt cx="1212480" cy="88200"/>
            </a:xfrm>
          </p:grpSpPr>
          <p:sp>
            <p:nvSpPr>
              <p:cNvPr id="1530" name=""/>
              <p:cNvSpPr/>
              <p:nvPr/>
            </p:nvSpPr>
            <p:spPr>
              <a:xfrm>
                <a:off x="3722400" y="2985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17240" y="299124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04760" y="297360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704760" y="3574080"/>
              <a:ext cx="1212480" cy="88200"/>
              <a:chOff x="3704760" y="3574080"/>
              <a:chExt cx="1212480" cy="88200"/>
            </a:xfrm>
          </p:grpSpPr>
          <p:sp>
            <p:nvSpPr>
              <p:cNvPr id="1534" name=""/>
              <p:cNvSpPr/>
              <p:nvPr/>
            </p:nvSpPr>
            <p:spPr>
              <a:xfrm>
                <a:off x="3722400" y="358596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17240" y="359172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04760" y="357408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3704760" y="4197960"/>
              <a:ext cx="1212480" cy="88200"/>
              <a:chOff x="3704760" y="4197960"/>
              <a:chExt cx="1212480" cy="88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3722400" y="4209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17240" y="421560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04760" y="419796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704760" y="4810680"/>
              <a:ext cx="1212480" cy="99360"/>
              <a:chOff x="3704760" y="4810680"/>
              <a:chExt cx="1212480" cy="993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722400" y="482220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17240" y="4828320"/>
                <a:ext cx="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04760" y="4810680"/>
                <a:ext cx="471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704760" y="5410800"/>
              <a:ext cx="1212480" cy="99720"/>
              <a:chOff x="3704760" y="5410800"/>
              <a:chExt cx="1212480" cy="99720"/>
            </a:xfrm>
          </p:grpSpPr>
          <p:sp>
            <p:nvSpPr>
              <p:cNvPr id="1546" name=""/>
              <p:cNvSpPr/>
              <p:nvPr/>
            </p:nvSpPr>
            <p:spPr>
              <a:xfrm>
                <a:off x="3722400" y="543384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917240" y="543996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04760" y="5410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4658400" y="5887440"/>
              <a:ext cx="258840" cy="123120"/>
              <a:chOff x="4658400" y="5887440"/>
              <a:chExt cx="258840" cy="123120"/>
            </a:xfrm>
          </p:grpSpPr>
          <p:sp>
            <p:nvSpPr>
              <p:cNvPr id="1550" name=""/>
              <p:cNvSpPr/>
              <p:nvPr/>
            </p:nvSpPr>
            <p:spPr>
              <a:xfrm>
                <a:off x="4699080" y="5987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17240" y="5887440"/>
                <a:ext cx="0" cy="10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58400" y="5963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58400" y="5286960"/>
              <a:ext cx="258840" cy="99720"/>
              <a:chOff x="4658400" y="5286960"/>
              <a:chExt cx="258840" cy="9972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9080" y="5375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17240" y="528696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658400" y="5351400"/>
                <a:ext cx="468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658400" y="4663440"/>
              <a:ext cx="258840" cy="122760"/>
              <a:chOff x="4658400" y="4663440"/>
              <a:chExt cx="258840" cy="122760"/>
            </a:xfrm>
          </p:grpSpPr>
          <p:sp>
            <p:nvSpPr>
              <p:cNvPr id="1558" name=""/>
              <p:cNvSpPr/>
              <p:nvPr/>
            </p:nvSpPr>
            <p:spPr>
              <a:xfrm>
                <a:off x="4699080" y="475128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917240" y="466344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658400" y="47394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658400" y="4062240"/>
              <a:ext cx="258840" cy="123480"/>
              <a:chOff x="4658400" y="4062240"/>
              <a:chExt cx="258840" cy="123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4699080" y="415080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4917240" y="406224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658400" y="4138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4658400" y="3461760"/>
              <a:ext cx="258840" cy="111600"/>
              <a:chOff x="4658400" y="3461760"/>
              <a:chExt cx="258840" cy="111600"/>
            </a:xfrm>
          </p:grpSpPr>
          <p:sp>
            <p:nvSpPr>
              <p:cNvPr id="1566" name=""/>
              <p:cNvSpPr/>
              <p:nvPr/>
            </p:nvSpPr>
            <p:spPr>
              <a:xfrm>
                <a:off x="4699080" y="355032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4917240" y="346176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58400" y="3538440"/>
                <a:ext cx="468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efore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ossible connections are available before "programm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all AND and OR gates are 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4AB-ACEE-4F1D-BD26-6D49B0CE58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"/>
          <p:cNvGrpSpPr/>
          <p:nvPr/>
        </p:nvGrpSpPr>
        <p:grpSpPr>
          <a:xfrm>
            <a:off x="3162240" y="2666880"/>
            <a:ext cx="4915080" cy="3976560"/>
            <a:chOff x="3162240" y="2666880"/>
            <a:chExt cx="4915080" cy="3976560"/>
          </a:xfrm>
        </p:grpSpPr>
        <p:sp>
          <p:nvSpPr>
            <p:cNvPr id="1572" name=""/>
            <p:cNvSpPr/>
            <p:nvPr/>
          </p:nvSpPr>
          <p:spPr>
            <a:xfrm flipH="1">
              <a:off x="3286080" y="3135600"/>
              <a:ext cx="13572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73760" y="3135600"/>
              <a:ext cx="11268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162240" y="312984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7528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68172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68680" y="3135600"/>
              <a:ext cx="11304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557160" y="3129840"/>
              <a:ext cx="25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5940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06620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41640" y="3135600"/>
              <a:ext cx="1245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930120" y="31298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54680" y="3327840"/>
              <a:ext cx="5652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61480" y="3548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1480" y="38530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4456080" y="35424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25640" y="356040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20600" y="3555000"/>
              <a:ext cx="292320" cy="31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5280" y="354816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20240" y="354240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61480" y="4429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461480" y="47343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456080" y="44236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625640" y="4453200"/>
              <a:ext cx="29304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0600" y="4436280"/>
              <a:ext cx="2923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5280" y="44287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20240" y="44233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61480" y="4880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61480" y="51861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456080" y="48754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25640" y="48938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20600" y="48880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25280" y="48816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20240" y="4864680"/>
              <a:ext cx="292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61480" y="532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61480" y="56152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456080" y="531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25640" y="533448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20600" y="532872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625280" y="53215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20240" y="53161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085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754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28768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768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54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600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0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871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10920" y="5463000"/>
              <a:ext cx="29268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10920" y="5813640"/>
              <a:ext cx="2926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0748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82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323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992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22640" y="5463000"/>
              <a:ext cx="2934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22640" y="5813640"/>
              <a:ext cx="293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192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7946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448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109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3472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3472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30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067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61480" y="398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61480" y="429372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456080" y="39830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25640" y="40010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20600" y="39952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25280" y="39888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20240" y="398304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922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92200" y="3508200"/>
              <a:ext cx="0" cy="22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277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277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82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13280" y="4587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82920" y="4592880"/>
              <a:ext cx="0" cy="11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60240" y="457596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9360" y="4587120"/>
              <a:ext cx="10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88680" y="45871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394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394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192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748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3280" y="36946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1920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90768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0748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9596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0493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12880" y="369468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249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946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954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13280" y="5028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9464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72320" y="501660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9540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84240" y="501660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49360" y="50281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01160" y="502812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00400" y="50281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15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8515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13280" y="54687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30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600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3092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19400" y="5457600"/>
              <a:ext cx="4536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6004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8520" y="545760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49360" y="54687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65440" y="5468760"/>
              <a:ext cx="225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636320" y="546876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13280" y="41464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5067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06720" y="41522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84040" y="412416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49360" y="4146480"/>
              <a:ext cx="24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512120" y="4146480"/>
              <a:ext cx="56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632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632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922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37280" y="362700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337280" y="45309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7280" y="54118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89840" y="541188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84440" y="538956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489840" y="453096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84440" y="45082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489840" y="362700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484440" y="361548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8444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84440" y="29944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3011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84440" y="363276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4440" y="45363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5417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97960" y="3005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68748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37280" y="3762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85120" y="37627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57040" y="37400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936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57040" y="299448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79360" y="3011400"/>
              <a:ext cx="0" cy="7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79360" y="3768120"/>
              <a:ext cx="0" cy="19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93240" y="3005640"/>
              <a:ext cx="1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68748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37280" y="4079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37280" y="4960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87480" y="3508200"/>
              <a:ext cx="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64800" y="40676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87480" y="40845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64800" y="494892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87480" y="4965840"/>
              <a:ext cx="0" cy="7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93240" y="496008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693240" y="407916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716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37280" y="50842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337280" y="42033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80760" y="508428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52680" y="5073120"/>
              <a:ext cx="3348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7500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52680" y="2994480"/>
              <a:ext cx="3348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75000" y="3011400"/>
              <a:ext cx="0" cy="118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52680" y="4191840"/>
              <a:ext cx="3348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75000" y="4208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75000" y="5090040"/>
              <a:ext cx="0" cy="63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7360" y="3005640"/>
              <a:ext cx="1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80760" y="420336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716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280" y="4655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077360" y="465516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60440" y="4644000"/>
              <a:ext cx="3384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71600" y="3508200"/>
              <a:ext cx="0" cy="11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71600" y="4660560"/>
              <a:ext cx="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37280" y="5536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382560" y="2678040"/>
              <a:ext cx="485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777840" y="266688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61960" y="2666880"/>
              <a:ext cx="497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9104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8008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30332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67800" y="6327360"/>
              <a:ext cx="56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30200" y="3480120"/>
              <a:ext cx="59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07880" y="3931920"/>
              <a:ext cx="63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19040" y="4372560"/>
              <a:ext cx="63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07880" y="4813560"/>
              <a:ext cx="66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0200" y="525420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fter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wanted connections are "blow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(normally connected, break unwanted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fuse (normally disconnected, make wanted 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F41-2F1B-46E5-ABC2-F3A04E9403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"/>
          <p:cNvGrpSpPr/>
          <p:nvPr/>
        </p:nvGrpSpPr>
        <p:grpSpPr>
          <a:xfrm>
            <a:off x="609480" y="3016080"/>
            <a:ext cx="3454560" cy="2336760"/>
            <a:chOff x="609480" y="3016080"/>
            <a:chExt cx="3454560" cy="2336760"/>
          </a:xfrm>
        </p:grpSpPr>
        <p:sp>
          <p:nvSpPr>
            <p:cNvPr id="1766" name=""/>
            <p:cNvSpPr/>
            <p:nvPr/>
          </p:nvSpPr>
          <p:spPr>
            <a:xfrm flipH="1">
              <a:off x="16765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6204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154908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728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8264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463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61928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19240" y="3288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19240" y="3593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012760" y="3282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8360" y="3303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71880" y="3296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78000" y="3289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71520" y="3282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9480" y="34416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63840" y="34416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19240" y="3657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1924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012760" y="3651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8360" y="3671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1880" y="3665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78000" y="3657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1520" y="3651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9480" y="38098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63840" y="38098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19240" y="4025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19240" y="433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012760" y="4019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78360" y="40399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71880" y="403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78000" y="4025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1520" y="4019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09480" y="41781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63840" y="41781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19240" y="4393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19240" y="469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012760" y="4387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8360" y="4408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1880" y="440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78000" y="43941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171520" y="4387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9480" y="45464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463840" y="4546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1688760" y="3396960"/>
              <a:ext cx="114120" cy="88920"/>
              <a:chOff x="1688760" y="3396960"/>
              <a:chExt cx="114120" cy="88920"/>
            </a:xfrm>
          </p:grpSpPr>
          <p:sp>
            <p:nvSpPr>
              <p:cNvPr id="1810" name=""/>
              <p:cNvSpPr/>
              <p:nvPr/>
            </p:nvSpPr>
            <p:spPr>
              <a:xfrm>
                <a:off x="170172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168876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1688760" y="3765240"/>
              <a:ext cx="114120" cy="88920"/>
              <a:chOff x="1688760" y="3765240"/>
              <a:chExt cx="114120" cy="88920"/>
            </a:xfrm>
          </p:grpSpPr>
          <p:sp>
            <p:nvSpPr>
              <p:cNvPr id="1813" name=""/>
              <p:cNvSpPr/>
              <p:nvPr/>
            </p:nvSpPr>
            <p:spPr>
              <a:xfrm>
                <a:off x="170172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168876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1688760" y="4133520"/>
              <a:ext cx="114120" cy="88920"/>
              <a:chOff x="1688760" y="4133520"/>
              <a:chExt cx="114120" cy="88920"/>
            </a:xfrm>
          </p:grpSpPr>
          <p:sp>
            <p:nvSpPr>
              <p:cNvPr id="1816" name=""/>
              <p:cNvSpPr/>
              <p:nvPr/>
            </p:nvSpPr>
            <p:spPr>
              <a:xfrm>
                <a:off x="170172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168876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1688760" y="4501800"/>
              <a:ext cx="114120" cy="88920"/>
              <a:chOff x="1688760" y="4501800"/>
              <a:chExt cx="114120" cy="88920"/>
            </a:xfrm>
          </p:grpSpPr>
          <p:sp>
            <p:nvSpPr>
              <p:cNvPr id="1819" name=""/>
              <p:cNvSpPr/>
              <p:nvPr/>
            </p:nvSpPr>
            <p:spPr>
              <a:xfrm>
                <a:off x="170172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168876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62040" y="3396960"/>
              <a:ext cx="114480" cy="88920"/>
              <a:chOff x="1562040" y="3396960"/>
              <a:chExt cx="114480" cy="889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746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15620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1562040" y="3765240"/>
              <a:ext cx="114480" cy="88920"/>
              <a:chOff x="1562040" y="3765240"/>
              <a:chExt cx="114480" cy="88920"/>
            </a:xfrm>
          </p:grpSpPr>
          <p:sp>
            <p:nvSpPr>
              <p:cNvPr id="1825" name=""/>
              <p:cNvSpPr/>
              <p:nvPr/>
            </p:nvSpPr>
            <p:spPr>
              <a:xfrm>
                <a:off x="15746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15620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62040" y="4133520"/>
              <a:ext cx="114480" cy="88920"/>
              <a:chOff x="1562040" y="4133520"/>
              <a:chExt cx="114480" cy="8892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746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15620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1562040" y="4501800"/>
              <a:ext cx="114480" cy="88920"/>
              <a:chOff x="1562040" y="4501800"/>
              <a:chExt cx="114480" cy="88920"/>
            </a:xfrm>
          </p:grpSpPr>
          <p:sp>
            <p:nvSpPr>
              <p:cNvPr id="1831" name=""/>
              <p:cNvSpPr/>
              <p:nvPr/>
            </p:nvSpPr>
            <p:spPr>
              <a:xfrm>
                <a:off x="15746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15620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 flipH="1">
              <a:off x="138420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7008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25676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3496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9068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5404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2696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1396800" y="3396960"/>
              <a:ext cx="114480" cy="88920"/>
              <a:chOff x="1396800" y="3396960"/>
              <a:chExt cx="114480" cy="88920"/>
            </a:xfrm>
          </p:grpSpPr>
          <p:sp>
            <p:nvSpPr>
              <p:cNvPr id="1841" name=""/>
              <p:cNvSpPr/>
              <p:nvPr/>
            </p:nvSpPr>
            <p:spPr>
              <a:xfrm>
                <a:off x="140976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39680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1396800" y="3765240"/>
              <a:ext cx="114480" cy="88920"/>
              <a:chOff x="1396800" y="3765240"/>
              <a:chExt cx="114480" cy="88920"/>
            </a:xfrm>
          </p:grpSpPr>
          <p:sp>
            <p:nvSpPr>
              <p:cNvPr id="1844" name=""/>
              <p:cNvSpPr/>
              <p:nvPr/>
            </p:nvSpPr>
            <p:spPr>
              <a:xfrm>
                <a:off x="140976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139680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1396800" y="4133520"/>
              <a:ext cx="114480" cy="88920"/>
              <a:chOff x="1396800" y="4133520"/>
              <a:chExt cx="114480" cy="88920"/>
            </a:xfrm>
          </p:grpSpPr>
          <p:sp>
            <p:nvSpPr>
              <p:cNvPr id="1847" name=""/>
              <p:cNvSpPr/>
              <p:nvPr/>
            </p:nvSpPr>
            <p:spPr>
              <a:xfrm>
                <a:off x="140976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139680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1396800" y="4501800"/>
              <a:ext cx="114480" cy="88920"/>
              <a:chOff x="1396800" y="4501800"/>
              <a:chExt cx="114480" cy="88920"/>
            </a:xfrm>
          </p:grpSpPr>
          <p:sp>
            <p:nvSpPr>
              <p:cNvPr id="1850" name=""/>
              <p:cNvSpPr/>
              <p:nvPr/>
            </p:nvSpPr>
            <p:spPr>
              <a:xfrm>
                <a:off x="140976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139680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1269720" y="3396960"/>
              <a:ext cx="114120" cy="88920"/>
              <a:chOff x="1269720" y="3396960"/>
              <a:chExt cx="114120" cy="88920"/>
            </a:xfrm>
          </p:grpSpPr>
          <p:sp>
            <p:nvSpPr>
              <p:cNvPr id="1853" name=""/>
              <p:cNvSpPr/>
              <p:nvPr/>
            </p:nvSpPr>
            <p:spPr>
              <a:xfrm>
                <a:off x="12826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12697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1269720" y="3765240"/>
              <a:ext cx="114120" cy="88920"/>
              <a:chOff x="1269720" y="3765240"/>
              <a:chExt cx="114120" cy="88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12826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12697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269720" y="4133520"/>
              <a:ext cx="114120" cy="88920"/>
              <a:chOff x="1269720" y="4133520"/>
              <a:chExt cx="114120" cy="88920"/>
            </a:xfrm>
          </p:grpSpPr>
          <p:sp>
            <p:nvSpPr>
              <p:cNvPr id="1859" name=""/>
              <p:cNvSpPr/>
              <p:nvPr/>
            </p:nvSpPr>
            <p:spPr>
              <a:xfrm>
                <a:off x="12826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12697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269720" y="4501800"/>
              <a:ext cx="114120" cy="88920"/>
              <a:chOff x="1269720" y="4501800"/>
              <a:chExt cx="114120" cy="88920"/>
            </a:xfrm>
          </p:grpSpPr>
          <p:sp>
            <p:nvSpPr>
              <p:cNvPr id="1862" name=""/>
              <p:cNvSpPr/>
              <p:nvPr/>
            </p:nvSpPr>
            <p:spPr>
              <a:xfrm>
                <a:off x="12826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12697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H="1">
              <a:off x="109224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7776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96480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4300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09836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6208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3500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1104840" y="3396960"/>
              <a:ext cx="114480" cy="88920"/>
              <a:chOff x="1104840" y="3396960"/>
              <a:chExt cx="114480" cy="88920"/>
            </a:xfrm>
          </p:grpSpPr>
          <p:sp>
            <p:nvSpPr>
              <p:cNvPr id="1872" name=""/>
              <p:cNvSpPr/>
              <p:nvPr/>
            </p:nvSpPr>
            <p:spPr>
              <a:xfrm>
                <a:off x="11174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11048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1104840" y="3765240"/>
              <a:ext cx="114480" cy="88920"/>
              <a:chOff x="1104840" y="3765240"/>
              <a:chExt cx="114480" cy="88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11174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11048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1104840" y="4133520"/>
              <a:ext cx="114480" cy="88920"/>
              <a:chOff x="1104840" y="4133520"/>
              <a:chExt cx="114480" cy="88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11174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11048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1104840" y="4501800"/>
              <a:ext cx="114480" cy="88920"/>
              <a:chOff x="1104840" y="4501800"/>
              <a:chExt cx="114480" cy="88920"/>
            </a:xfrm>
          </p:grpSpPr>
          <p:sp>
            <p:nvSpPr>
              <p:cNvPr id="1881" name=""/>
              <p:cNvSpPr/>
              <p:nvPr/>
            </p:nvSpPr>
            <p:spPr>
              <a:xfrm>
                <a:off x="11174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11048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977760" y="3396960"/>
              <a:ext cx="114480" cy="88920"/>
              <a:chOff x="977760" y="3396960"/>
              <a:chExt cx="114480" cy="88920"/>
            </a:xfrm>
          </p:grpSpPr>
          <p:sp>
            <p:nvSpPr>
              <p:cNvPr id="1884" name=""/>
              <p:cNvSpPr/>
              <p:nvPr/>
            </p:nvSpPr>
            <p:spPr>
              <a:xfrm>
                <a:off x="990720" y="33969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97776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977760" y="3765240"/>
              <a:ext cx="114480" cy="88920"/>
              <a:chOff x="977760" y="3765240"/>
              <a:chExt cx="114480" cy="88920"/>
            </a:xfrm>
          </p:grpSpPr>
          <p:sp>
            <p:nvSpPr>
              <p:cNvPr id="1887" name=""/>
              <p:cNvSpPr/>
              <p:nvPr/>
            </p:nvSpPr>
            <p:spPr>
              <a:xfrm>
                <a:off x="990720" y="37652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97776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977760" y="4133520"/>
              <a:ext cx="114480" cy="88920"/>
              <a:chOff x="977760" y="4133520"/>
              <a:chExt cx="114480" cy="88920"/>
            </a:xfrm>
          </p:grpSpPr>
          <p:sp>
            <p:nvSpPr>
              <p:cNvPr id="1890" name=""/>
              <p:cNvSpPr/>
              <p:nvPr/>
            </p:nvSpPr>
            <p:spPr>
              <a:xfrm>
                <a:off x="990720" y="413352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97776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977760" y="4501800"/>
              <a:ext cx="114480" cy="88920"/>
              <a:chOff x="977760" y="4501800"/>
              <a:chExt cx="114480" cy="88920"/>
            </a:xfrm>
          </p:grpSpPr>
          <p:sp>
            <p:nvSpPr>
              <p:cNvPr id="1893" name=""/>
              <p:cNvSpPr/>
              <p:nvPr/>
            </p:nvSpPr>
            <p:spPr>
              <a:xfrm>
                <a:off x="990720" y="45018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97776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 flipH="1">
              <a:off x="7999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580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673200" y="31366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0680" y="32572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640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697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43040" y="32446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812520" y="3396960"/>
              <a:ext cx="114120" cy="88920"/>
              <a:chOff x="812520" y="3396960"/>
              <a:chExt cx="114120" cy="88920"/>
            </a:xfrm>
          </p:grpSpPr>
          <p:sp>
            <p:nvSpPr>
              <p:cNvPr id="1903" name=""/>
              <p:cNvSpPr/>
              <p:nvPr/>
            </p:nvSpPr>
            <p:spPr>
              <a:xfrm>
                <a:off x="8254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8125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812520" y="3765240"/>
              <a:ext cx="114120" cy="88920"/>
              <a:chOff x="812520" y="3765240"/>
              <a:chExt cx="114120" cy="88920"/>
            </a:xfrm>
          </p:grpSpPr>
          <p:sp>
            <p:nvSpPr>
              <p:cNvPr id="1906" name=""/>
              <p:cNvSpPr/>
              <p:nvPr/>
            </p:nvSpPr>
            <p:spPr>
              <a:xfrm>
                <a:off x="8254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8125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812520" y="4133520"/>
              <a:ext cx="114120" cy="88920"/>
              <a:chOff x="812520" y="4133520"/>
              <a:chExt cx="114120" cy="88920"/>
            </a:xfrm>
          </p:grpSpPr>
          <p:sp>
            <p:nvSpPr>
              <p:cNvPr id="1909" name=""/>
              <p:cNvSpPr/>
              <p:nvPr/>
            </p:nvSpPr>
            <p:spPr>
              <a:xfrm>
                <a:off x="8254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8125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812520" y="4501800"/>
              <a:ext cx="114120" cy="88920"/>
              <a:chOff x="812520" y="4501800"/>
              <a:chExt cx="114120" cy="88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8254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8125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685440" y="3396960"/>
              <a:ext cx="114120" cy="88920"/>
              <a:chOff x="685440" y="3396960"/>
              <a:chExt cx="114120" cy="88920"/>
            </a:xfrm>
          </p:grpSpPr>
          <p:sp>
            <p:nvSpPr>
              <p:cNvPr id="1915" name=""/>
              <p:cNvSpPr/>
              <p:nvPr/>
            </p:nvSpPr>
            <p:spPr>
              <a:xfrm>
                <a:off x="69840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68544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685440" y="3765240"/>
              <a:ext cx="114120" cy="88920"/>
              <a:chOff x="685440" y="3765240"/>
              <a:chExt cx="114120" cy="88920"/>
            </a:xfrm>
          </p:grpSpPr>
          <p:sp>
            <p:nvSpPr>
              <p:cNvPr id="1918" name=""/>
              <p:cNvSpPr/>
              <p:nvPr/>
            </p:nvSpPr>
            <p:spPr>
              <a:xfrm>
                <a:off x="69840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544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85440" y="4133520"/>
              <a:ext cx="114120" cy="88920"/>
              <a:chOff x="685440" y="4133520"/>
              <a:chExt cx="114120" cy="88920"/>
            </a:xfrm>
          </p:grpSpPr>
          <p:sp>
            <p:nvSpPr>
              <p:cNvPr id="1921" name=""/>
              <p:cNvSpPr/>
              <p:nvPr/>
            </p:nvSpPr>
            <p:spPr>
              <a:xfrm>
                <a:off x="69840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8544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85440" y="4501800"/>
              <a:ext cx="114120" cy="88920"/>
              <a:chOff x="685440" y="4501800"/>
              <a:chExt cx="114120" cy="889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840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68544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2565720" y="3244680"/>
              <a:ext cx="305280" cy="2108160"/>
              <a:chOff x="2565720" y="3244680"/>
              <a:chExt cx="305280" cy="2108160"/>
            </a:xfrm>
          </p:grpSpPr>
          <p:sp>
            <p:nvSpPr>
              <p:cNvPr id="1927" name=""/>
              <p:cNvSpPr/>
              <p:nvPr/>
            </p:nvSpPr>
            <p:spPr>
              <a:xfrm>
                <a:off x="259092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6572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7976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7976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1152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71152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2653920" y="3396960"/>
                <a:ext cx="114120" cy="88920"/>
                <a:chOff x="2653920" y="3396960"/>
                <a:chExt cx="114120" cy="889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66688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>
                  <a:off x="265392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2653920" y="3765240"/>
                <a:ext cx="114120" cy="88920"/>
                <a:chOff x="2653920" y="3765240"/>
                <a:chExt cx="114120" cy="8892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266688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>
                  <a:off x="265392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53920" y="4133520"/>
                <a:ext cx="114120" cy="88920"/>
                <a:chOff x="2653920" y="4133520"/>
                <a:chExt cx="114120" cy="889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66688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>
                  <a:off x="265392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653920" y="4501800"/>
                <a:ext cx="114120" cy="88920"/>
                <a:chOff x="2653920" y="4501800"/>
                <a:chExt cx="114120" cy="889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266688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>
                  <a:off x="265392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2934000" y="3244680"/>
              <a:ext cx="305280" cy="2108160"/>
              <a:chOff x="2934000" y="3244680"/>
              <a:chExt cx="305280" cy="2108160"/>
            </a:xfrm>
          </p:grpSpPr>
          <p:sp>
            <p:nvSpPr>
              <p:cNvPr id="1946" name=""/>
              <p:cNvSpPr/>
              <p:nvPr/>
            </p:nvSpPr>
            <p:spPr>
              <a:xfrm>
                <a:off x="295920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3400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4804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4804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079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079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3022200" y="3396960"/>
                <a:ext cx="114120" cy="88920"/>
                <a:chOff x="3022200" y="3396960"/>
                <a:chExt cx="114120" cy="8892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303516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302220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3022200" y="3765240"/>
                <a:ext cx="114120" cy="88920"/>
                <a:chOff x="3022200" y="3765240"/>
                <a:chExt cx="114120" cy="889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303516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302220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022200" y="4133520"/>
                <a:ext cx="114120" cy="88920"/>
                <a:chOff x="3022200" y="4133520"/>
                <a:chExt cx="114120" cy="8892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03516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302220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3022200" y="4501800"/>
                <a:ext cx="114120" cy="88920"/>
                <a:chOff x="3022200" y="4501800"/>
                <a:chExt cx="114120" cy="8892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516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302220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4" name=""/>
            <p:cNvGrpSpPr/>
            <p:nvPr/>
          </p:nvGrpSpPr>
          <p:grpSpPr>
            <a:xfrm>
              <a:off x="3289680" y="3244680"/>
              <a:ext cx="305640" cy="2108160"/>
              <a:chOff x="3289680" y="3244680"/>
              <a:chExt cx="305640" cy="2108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331488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8968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30336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0336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43548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3548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1" name=""/>
              <p:cNvGrpSpPr/>
              <p:nvPr/>
            </p:nvGrpSpPr>
            <p:grpSpPr>
              <a:xfrm>
                <a:off x="3377880" y="3396960"/>
                <a:ext cx="114120" cy="88920"/>
                <a:chOff x="3377880" y="3396960"/>
                <a:chExt cx="114120" cy="8892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39084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337788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3377880" y="3765240"/>
                <a:ext cx="114120" cy="88920"/>
                <a:chOff x="3377880" y="3765240"/>
                <a:chExt cx="114120" cy="889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39084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337788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3377880" y="4133520"/>
                <a:ext cx="114120" cy="88920"/>
                <a:chOff x="3377880" y="4133520"/>
                <a:chExt cx="114120" cy="889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339084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337788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3377880" y="4501800"/>
                <a:ext cx="114120" cy="88920"/>
                <a:chOff x="3377880" y="4501800"/>
                <a:chExt cx="114120" cy="8892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39084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>
                  <a:off x="337788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3" name=""/>
            <p:cNvGrpSpPr/>
            <p:nvPr/>
          </p:nvGrpSpPr>
          <p:grpSpPr>
            <a:xfrm>
              <a:off x="3644640" y="3244680"/>
              <a:ext cx="306360" cy="2108160"/>
              <a:chOff x="3644640" y="3244680"/>
              <a:chExt cx="306360" cy="2108160"/>
            </a:xfrm>
          </p:grpSpPr>
          <p:sp>
            <p:nvSpPr>
              <p:cNvPr id="1984" name=""/>
              <p:cNvSpPr/>
              <p:nvPr/>
            </p:nvSpPr>
            <p:spPr>
              <a:xfrm>
                <a:off x="367056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644640" y="4285800"/>
                <a:ext cx="2919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65904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65904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790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790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3733560" y="3396960"/>
                <a:ext cx="114120" cy="88920"/>
                <a:chOff x="3733560" y="3396960"/>
                <a:chExt cx="114120" cy="889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74652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373356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3733560" y="3765240"/>
                <a:ext cx="114120" cy="88920"/>
                <a:chOff x="3733560" y="3765240"/>
                <a:chExt cx="114120" cy="8892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374652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373356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733560" y="4133520"/>
                <a:ext cx="114120" cy="88920"/>
                <a:chOff x="3733560" y="4133520"/>
                <a:chExt cx="114120" cy="8892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74652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>
                  <a:off x="373356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3733560" y="4501800"/>
                <a:ext cx="114120" cy="88920"/>
                <a:chOff x="3733560" y="4501800"/>
                <a:chExt cx="114120" cy="889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374652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373356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2" name=""/>
          <p:cNvSpPr/>
          <p:nvPr/>
        </p:nvSpPr>
        <p:spPr>
          <a:xfrm>
            <a:off x="5365800" y="2679840"/>
            <a:ext cx="2997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tion for i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B  +  A'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C D'  +  C'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1244160" y="2190600"/>
            <a:ext cx="114120" cy="88560"/>
            <a:chOff x="1244160" y="2190600"/>
            <a:chExt cx="114120" cy="88560"/>
          </a:xfrm>
        </p:grpSpPr>
        <p:sp>
          <p:nvSpPr>
            <p:cNvPr id="2004" name=""/>
            <p:cNvSpPr/>
            <p:nvPr/>
          </p:nvSpPr>
          <p:spPr>
            <a:xfrm>
              <a:off x="1257120" y="2190600"/>
              <a:ext cx="88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244160" y="2190600"/>
              <a:ext cx="1141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559560" y="4273560"/>
            <a:ext cx="1092240" cy="2266920"/>
            <a:chOff x="6559560" y="4273560"/>
            <a:chExt cx="1092240" cy="2266920"/>
          </a:xfrm>
        </p:grpSpPr>
        <p:grpSp>
          <p:nvGrpSpPr>
            <p:cNvPr id="2007" name=""/>
            <p:cNvGrpSpPr/>
            <p:nvPr/>
          </p:nvGrpSpPr>
          <p:grpSpPr>
            <a:xfrm>
              <a:off x="6997320" y="4273560"/>
              <a:ext cx="114120" cy="88920"/>
              <a:chOff x="6997320" y="4273560"/>
              <a:chExt cx="114120" cy="88920"/>
            </a:xfrm>
          </p:grpSpPr>
          <p:sp>
            <p:nvSpPr>
              <p:cNvPr id="2008" name=""/>
              <p:cNvSpPr/>
              <p:nvPr/>
            </p:nvSpPr>
            <p:spPr>
              <a:xfrm>
                <a:off x="701028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699732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6997320" y="4641840"/>
              <a:ext cx="114120" cy="88920"/>
              <a:chOff x="6997320" y="4641840"/>
              <a:chExt cx="114120" cy="88920"/>
            </a:xfrm>
          </p:grpSpPr>
          <p:sp>
            <p:nvSpPr>
              <p:cNvPr id="2011" name=""/>
              <p:cNvSpPr/>
              <p:nvPr/>
            </p:nvSpPr>
            <p:spPr>
              <a:xfrm>
                <a:off x="70102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69973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6559560" y="6210360"/>
              <a:ext cx="1092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+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877080" y="5010120"/>
            <a:ext cx="1117440" cy="1720800"/>
            <a:chOff x="6877080" y="5010120"/>
            <a:chExt cx="1117440" cy="1720800"/>
          </a:xfrm>
        </p:grpSpPr>
        <p:grpSp>
          <p:nvGrpSpPr>
            <p:cNvPr id="2015" name=""/>
            <p:cNvGrpSpPr/>
            <p:nvPr/>
          </p:nvGrpSpPr>
          <p:grpSpPr>
            <a:xfrm>
              <a:off x="7365600" y="5010120"/>
              <a:ext cx="114120" cy="88920"/>
              <a:chOff x="7365600" y="5010120"/>
              <a:chExt cx="114120" cy="88920"/>
            </a:xfrm>
          </p:grpSpPr>
          <p:sp>
            <p:nvSpPr>
              <p:cNvPr id="2016" name=""/>
              <p:cNvSpPr/>
              <p:nvPr/>
            </p:nvSpPr>
            <p:spPr>
              <a:xfrm>
                <a:off x="737856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736560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7365600" y="5378400"/>
              <a:ext cx="114120" cy="88920"/>
              <a:chOff x="7365600" y="5378400"/>
              <a:chExt cx="114120" cy="88920"/>
            </a:xfrm>
          </p:grpSpPr>
          <p:sp>
            <p:nvSpPr>
              <p:cNvPr id="2019" name=""/>
              <p:cNvSpPr/>
              <p:nvPr/>
            </p:nvSpPr>
            <p:spPr>
              <a:xfrm>
                <a:off x="737856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73656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1" name=""/>
            <p:cNvSpPr/>
            <p:nvPr/>
          </p:nvSpPr>
          <p:spPr>
            <a:xfrm>
              <a:off x="6877080" y="64008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+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5028840" y="4178160"/>
            <a:ext cx="3994560" cy="330480"/>
            <a:chOff x="5028840" y="4178160"/>
            <a:chExt cx="3994560" cy="330480"/>
          </a:xfrm>
        </p:grpSpPr>
        <p:grpSp>
          <p:nvGrpSpPr>
            <p:cNvPr id="2023" name=""/>
            <p:cNvGrpSpPr/>
            <p:nvPr/>
          </p:nvGrpSpPr>
          <p:grpSpPr>
            <a:xfrm>
              <a:off x="5321160" y="4273560"/>
              <a:ext cx="114480" cy="88920"/>
              <a:chOff x="5321160" y="4273560"/>
              <a:chExt cx="114480" cy="88920"/>
            </a:xfrm>
          </p:grpSpPr>
          <p:sp>
            <p:nvSpPr>
              <p:cNvPr id="2024" name=""/>
              <p:cNvSpPr/>
              <p:nvPr/>
            </p:nvSpPr>
            <p:spPr>
              <a:xfrm>
                <a:off x="5334120" y="42735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321160" y="4273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5028840" y="4273560"/>
              <a:ext cx="114120" cy="88920"/>
              <a:chOff x="5028840" y="4273560"/>
              <a:chExt cx="114120" cy="88920"/>
            </a:xfrm>
          </p:grpSpPr>
          <p:sp>
            <p:nvSpPr>
              <p:cNvPr id="2027" name=""/>
              <p:cNvSpPr/>
              <p:nvPr/>
            </p:nvSpPr>
            <p:spPr>
              <a:xfrm>
                <a:off x="504180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02884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8350200" y="4178160"/>
              <a:ext cx="673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5155920" y="4533840"/>
            <a:ext cx="3943800" cy="330120"/>
            <a:chOff x="5155920" y="4533840"/>
            <a:chExt cx="3943800" cy="330120"/>
          </a:xfrm>
        </p:grpSpPr>
        <p:grpSp>
          <p:nvGrpSpPr>
            <p:cNvPr id="2031" name=""/>
            <p:cNvGrpSpPr/>
            <p:nvPr/>
          </p:nvGrpSpPr>
          <p:grpSpPr>
            <a:xfrm>
              <a:off x="5448240" y="4641840"/>
              <a:ext cx="114480" cy="88920"/>
              <a:chOff x="5448240" y="4641840"/>
              <a:chExt cx="114480" cy="88920"/>
            </a:xfrm>
          </p:grpSpPr>
          <p:sp>
            <p:nvSpPr>
              <p:cNvPr id="2032" name=""/>
              <p:cNvSpPr/>
              <p:nvPr/>
            </p:nvSpPr>
            <p:spPr>
              <a:xfrm>
                <a:off x="546084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5448240" y="46418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155920" y="4641840"/>
              <a:ext cx="114120" cy="88920"/>
              <a:chOff x="5155920" y="4641840"/>
              <a:chExt cx="114120" cy="88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51688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51559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362800" y="453384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613120" y="4915080"/>
            <a:ext cx="3486600" cy="330120"/>
            <a:chOff x="5613120" y="4915080"/>
            <a:chExt cx="3486600" cy="330120"/>
          </a:xfrm>
        </p:grpSpPr>
        <p:grpSp>
          <p:nvGrpSpPr>
            <p:cNvPr id="2039" name=""/>
            <p:cNvGrpSpPr/>
            <p:nvPr/>
          </p:nvGrpSpPr>
          <p:grpSpPr>
            <a:xfrm>
              <a:off x="6032160" y="5010120"/>
              <a:ext cx="114120" cy="88920"/>
              <a:chOff x="6032160" y="5010120"/>
              <a:chExt cx="114120" cy="88920"/>
            </a:xfrm>
          </p:grpSpPr>
          <p:sp>
            <p:nvSpPr>
              <p:cNvPr id="2040" name=""/>
              <p:cNvSpPr/>
              <p:nvPr/>
            </p:nvSpPr>
            <p:spPr>
              <a:xfrm>
                <a:off x="604512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603216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13120" y="5010120"/>
              <a:ext cx="114120" cy="88920"/>
              <a:chOff x="5613120" y="5010120"/>
              <a:chExt cx="114120" cy="8892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2608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61312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8362800" y="491508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740200" y="5283360"/>
            <a:ext cx="3384720" cy="330120"/>
            <a:chOff x="5740200" y="5283360"/>
            <a:chExt cx="3384720" cy="330120"/>
          </a:xfrm>
        </p:grpSpPr>
        <p:grpSp>
          <p:nvGrpSpPr>
            <p:cNvPr id="2047" name=""/>
            <p:cNvGrpSpPr/>
            <p:nvPr/>
          </p:nvGrpSpPr>
          <p:grpSpPr>
            <a:xfrm>
              <a:off x="5905440" y="5378400"/>
              <a:ext cx="114480" cy="88920"/>
              <a:chOff x="5905440" y="5378400"/>
              <a:chExt cx="114480" cy="88920"/>
            </a:xfrm>
          </p:grpSpPr>
          <p:sp>
            <p:nvSpPr>
              <p:cNvPr id="2048" name=""/>
              <p:cNvSpPr/>
              <p:nvPr/>
            </p:nvSpPr>
            <p:spPr>
              <a:xfrm>
                <a:off x="591804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5905440" y="537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40200" y="5378400"/>
              <a:ext cx="114120" cy="88920"/>
              <a:chOff x="5740200" y="5378400"/>
              <a:chExt cx="114120" cy="8892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53160" y="53784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57402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3" name=""/>
            <p:cNvSpPr/>
            <p:nvPr/>
          </p:nvSpPr>
          <p:spPr>
            <a:xfrm>
              <a:off x="8388360" y="528336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4952880" y="3645000"/>
            <a:ext cx="3454560" cy="2584440"/>
            <a:chOff x="4952880" y="3645000"/>
            <a:chExt cx="3454560" cy="2584440"/>
          </a:xfrm>
        </p:grpSpPr>
        <p:sp>
          <p:nvSpPr>
            <p:cNvPr id="2055" name=""/>
            <p:cNvSpPr/>
            <p:nvPr/>
          </p:nvSpPr>
          <p:spPr>
            <a:xfrm flipH="1">
              <a:off x="601992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0544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589248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07068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02604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8976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6268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2640" y="4165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2640" y="4470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6356520" y="4159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21760" y="41799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15280" y="41734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21400" y="4165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14920" y="415980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52880" y="43182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807240" y="43182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62640" y="453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62640" y="4838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356520" y="4527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21760" y="4548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15280" y="4541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21400" y="45342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14920" y="4527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52880" y="4686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07240" y="46864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62640" y="4902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62640" y="5207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6356520" y="4896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521760" y="4916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515280" y="4910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21400" y="4902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4920" y="4896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952880" y="5054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07240" y="50547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362640" y="5270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62640" y="5575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356520" y="5264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521760" y="5284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15280" y="5278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21400" y="5270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14920" y="5264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952880" y="54230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7240" y="5423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72760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13480" y="40194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5600880" y="40132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778360" y="4133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3408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9744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072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543564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2116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30820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8640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4212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0548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840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14368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2920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501624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9444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14980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1352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086440" y="41212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93432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90876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92316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92316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5492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5492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30260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77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91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91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423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423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65828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33080" y="5162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4712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64712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7888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7888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1396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88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002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002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34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134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3568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4024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19600" y="36450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11920" y="36450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ternate representation for high fan-in struc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hand notation so we don't have to draw all the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es a connection is present and perpendicular signal is an input to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570-9D8A-4935-B360-1070EBA7DB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1069920" y="4475160"/>
            <a:ext cx="2508480" cy="2070000"/>
            <a:chOff x="1069920" y="4475160"/>
            <a:chExt cx="2508480" cy="2070000"/>
          </a:xfrm>
        </p:grpSpPr>
        <p:sp>
          <p:nvSpPr>
            <p:cNvPr id="2150" name=""/>
            <p:cNvSpPr/>
            <p:nvPr/>
          </p:nvSpPr>
          <p:spPr>
            <a:xfrm>
              <a:off x="1076400" y="4475160"/>
              <a:ext cx="250200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69920" y="4703760"/>
              <a:ext cx="24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11440" y="4532040"/>
              <a:ext cx="0" cy="19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371840" y="2278080"/>
            <a:ext cx="4248000" cy="4495680"/>
            <a:chOff x="4371840" y="2278080"/>
            <a:chExt cx="4248000" cy="4495680"/>
          </a:xfrm>
        </p:grpSpPr>
        <p:sp>
          <p:nvSpPr>
            <p:cNvPr id="2154" name=""/>
            <p:cNvSpPr/>
            <p:nvPr/>
          </p:nvSpPr>
          <p:spPr>
            <a:xfrm>
              <a:off x="7921440" y="269712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489280" y="2798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489280" y="3103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5483160" y="279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48400" y="2813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41920" y="2806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48040" y="2798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41560" y="2792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71840" y="295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933880" y="295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489280" y="3166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89280" y="347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83160" y="316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48400" y="3181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1920" y="3174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48040" y="3166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641560" y="3160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71840" y="331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33880" y="331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89280" y="3535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89280" y="3840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83160" y="352872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8400" y="35496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641920" y="3543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648040" y="35355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641560" y="352944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371840" y="36878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33880" y="3687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89280" y="3903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89280" y="420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5483160" y="38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48400" y="39178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41920" y="3911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48040" y="3903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41560" y="3897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71840" y="40561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33880" y="40561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184000" y="265248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07024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5728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19084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5456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12748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489240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7828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476496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9888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6224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35160" y="27414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4905000" y="2906640"/>
              <a:ext cx="114480" cy="88920"/>
              <a:chOff x="4905000" y="2906640"/>
              <a:chExt cx="114480" cy="88920"/>
            </a:xfrm>
          </p:grpSpPr>
          <p:sp>
            <p:nvSpPr>
              <p:cNvPr id="2204" name=""/>
              <p:cNvSpPr/>
              <p:nvPr/>
            </p:nvSpPr>
            <p:spPr>
              <a:xfrm>
                <a:off x="49179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4905000" y="2906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6" name=""/>
            <p:cNvSpPr/>
            <p:nvPr/>
          </p:nvSpPr>
          <p:spPr>
            <a:xfrm flipH="1">
              <a:off x="460044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485960" y="2652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447300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0656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7028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4320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4612680" y="2906640"/>
              <a:ext cx="114120" cy="88920"/>
              <a:chOff x="4612680" y="2906640"/>
              <a:chExt cx="114120" cy="88920"/>
            </a:xfrm>
          </p:grpSpPr>
          <p:sp>
            <p:nvSpPr>
              <p:cNvPr id="2213" name=""/>
              <p:cNvSpPr/>
              <p:nvPr/>
            </p:nvSpPr>
            <p:spPr>
              <a:xfrm>
                <a:off x="462564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461268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606096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3576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04980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04980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8156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8156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1" name=""/>
            <p:cNvGrpSpPr/>
            <p:nvPr/>
          </p:nvGrpSpPr>
          <p:grpSpPr>
            <a:xfrm>
              <a:off x="6124320" y="5484600"/>
              <a:ext cx="114480" cy="88920"/>
              <a:chOff x="6124320" y="5484600"/>
              <a:chExt cx="114480" cy="88920"/>
            </a:xfrm>
          </p:grpSpPr>
          <p:sp>
            <p:nvSpPr>
              <p:cNvPr id="2222" name=""/>
              <p:cNvSpPr/>
              <p:nvPr/>
            </p:nvSpPr>
            <p:spPr>
              <a:xfrm>
                <a:off x="613692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612432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4" name=""/>
            <p:cNvSpPr/>
            <p:nvPr/>
          </p:nvSpPr>
          <p:spPr>
            <a:xfrm>
              <a:off x="6429240" y="5649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03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18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18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49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549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6492600" y="5116320"/>
              <a:ext cx="114480" cy="88920"/>
              <a:chOff x="6492600" y="5116320"/>
              <a:chExt cx="114480" cy="889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50520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649260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492600" y="5484600"/>
              <a:ext cx="114480" cy="88920"/>
              <a:chOff x="6492600" y="5484600"/>
              <a:chExt cx="114480" cy="88920"/>
            </a:xfrm>
          </p:grpSpPr>
          <p:sp>
            <p:nvSpPr>
              <p:cNvPr id="2234" name=""/>
              <p:cNvSpPr/>
              <p:nvPr/>
            </p:nvSpPr>
            <p:spPr>
              <a:xfrm>
                <a:off x="650520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649260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78492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75972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77376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7376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055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9055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4060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14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29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29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0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60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2440" y="2278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97360" y="227808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63760" y="22780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0888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48296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9736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9736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6291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6291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89280" y="42717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89280" y="4576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483160" y="4265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648400" y="42861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41920" y="42796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648040" y="42721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41560" y="42656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1840" y="44244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933880" y="44244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9280" y="4640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89280" y="4944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5483160" y="463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648400" y="46544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641920" y="4647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648040" y="4640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41560" y="4633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71840" y="47926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33880" y="47926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89280" y="50083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89280" y="5313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5483160" y="5002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48400" y="5022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641920" y="50162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648040" y="5008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641560" y="50022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71840" y="51609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933880" y="5160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489280" y="53766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489280" y="568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483160" y="5370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48400" y="53910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41920" y="53845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48040" y="5376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41560" y="5370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371840" y="55292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33880" y="55292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3" name=""/>
            <p:cNvGrpSpPr/>
            <p:nvPr/>
          </p:nvGrpSpPr>
          <p:grpSpPr>
            <a:xfrm>
              <a:off x="5196960" y="2906640"/>
              <a:ext cx="114120" cy="88920"/>
              <a:chOff x="5196960" y="2906640"/>
              <a:chExt cx="114120" cy="88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20992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519696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7571880" y="3274920"/>
              <a:ext cx="114120" cy="88920"/>
              <a:chOff x="7571880" y="3274920"/>
              <a:chExt cx="114120" cy="88920"/>
            </a:xfrm>
          </p:grpSpPr>
          <p:sp>
            <p:nvSpPr>
              <p:cNvPr id="2297" name=""/>
              <p:cNvSpPr/>
              <p:nvPr/>
            </p:nvSpPr>
            <p:spPr>
              <a:xfrm>
                <a:off x="7584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571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6492600" y="4748040"/>
              <a:ext cx="114480" cy="88920"/>
              <a:chOff x="6492600" y="4748040"/>
              <a:chExt cx="114480" cy="88920"/>
            </a:xfrm>
          </p:grpSpPr>
          <p:sp>
            <p:nvSpPr>
              <p:cNvPr id="2300" name=""/>
              <p:cNvSpPr/>
              <p:nvPr/>
            </p:nvSpPr>
            <p:spPr>
              <a:xfrm>
                <a:off x="650520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64926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6847920" y="2906640"/>
              <a:ext cx="114120" cy="88920"/>
              <a:chOff x="6847920" y="2906640"/>
              <a:chExt cx="114120" cy="88920"/>
            </a:xfrm>
          </p:grpSpPr>
          <p:sp>
            <p:nvSpPr>
              <p:cNvPr id="2303" name=""/>
              <p:cNvSpPr/>
              <p:nvPr/>
            </p:nvSpPr>
            <p:spPr>
              <a:xfrm>
                <a:off x="686088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684792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523548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4316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65120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4905000" y="3274920"/>
              <a:ext cx="114480" cy="88920"/>
              <a:chOff x="4905000" y="3274920"/>
              <a:chExt cx="114480" cy="88920"/>
            </a:xfrm>
          </p:grpSpPr>
          <p:sp>
            <p:nvSpPr>
              <p:cNvPr id="2309" name=""/>
              <p:cNvSpPr/>
              <p:nvPr/>
            </p:nvSpPr>
            <p:spPr>
              <a:xfrm>
                <a:off x="49179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49050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12680" y="3274920"/>
              <a:ext cx="114120" cy="88920"/>
              <a:chOff x="4612680" y="3274920"/>
              <a:chExt cx="114120" cy="88920"/>
            </a:xfrm>
          </p:grpSpPr>
          <p:sp>
            <p:nvSpPr>
              <p:cNvPr id="2312" name=""/>
              <p:cNvSpPr/>
              <p:nvPr/>
            </p:nvSpPr>
            <p:spPr>
              <a:xfrm>
                <a:off x="46256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46126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5069880" y="3274920"/>
              <a:ext cx="114120" cy="88920"/>
              <a:chOff x="5069880" y="3274920"/>
              <a:chExt cx="114120" cy="88920"/>
            </a:xfrm>
          </p:grpSpPr>
          <p:sp>
            <p:nvSpPr>
              <p:cNvPr id="2315" name=""/>
              <p:cNvSpPr/>
              <p:nvPr/>
            </p:nvSpPr>
            <p:spPr>
              <a:xfrm>
                <a:off x="5082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5069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777920" y="3643200"/>
              <a:ext cx="114120" cy="88920"/>
              <a:chOff x="4777920" y="3643200"/>
              <a:chExt cx="114120" cy="88920"/>
            </a:xfrm>
          </p:grpSpPr>
          <p:sp>
            <p:nvSpPr>
              <p:cNvPr id="2318" name=""/>
              <p:cNvSpPr/>
              <p:nvPr/>
            </p:nvSpPr>
            <p:spPr>
              <a:xfrm>
                <a:off x="479088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477792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4612680" y="3643200"/>
              <a:ext cx="114120" cy="88920"/>
              <a:chOff x="4612680" y="3643200"/>
              <a:chExt cx="114120" cy="88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256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46126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196960" y="3643200"/>
              <a:ext cx="114120" cy="88920"/>
              <a:chOff x="5196960" y="3643200"/>
              <a:chExt cx="114120" cy="8892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0992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519696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4777920" y="4011480"/>
              <a:ext cx="114120" cy="88920"/>
              <a:chOff x="4777920" y="4011480"/>
              <a:chExt cx="114120" cy="88920"/>
            </a:xfrm>
          </p:grpSpPr>
          <p:sp>
            <p:nvSpPr>
              <p:cNvPr id="2327" name=""/>
              <p:cNvSpPr/>
              <p:nvPr/>
            </p:nvSpPr>
            <p:spPr>
              <a:xfrm>
                <a:off x="479088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477792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4612680" y="4011480"/>
              <a:ext cx="114120" cy="88920"/>
              <a:chOff x="4612680" y="4011480"/>
              <a:chExt cx="114120" cy="88920"/>
            </a:xfrm>
          </p:grpSpPr>
          <p:sp>
            <p:nvSpPr>
              <p:cNvPr id="2330" name=""/>
              <p:cNvSpPr/>
              <p:nvPr/>
            </p:nvSpPr>
            <p:spPr>
              <a:xfrm>
                <a:off x="46256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46126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5069880" y="4011480"/>
              <a:ext cx="114120" cy="88920"/>
              <a:chOff x="5069880" y="4011480"/>
              <a:chExt cx="114120" cy="88920"/>
            </a:xfrm>
          </p:grpSpPr>
          <p:sp>
            <p:nvSpPr>
              <p:cNvPr id="2333" name=""/>
              <p:cNvSpPr/>
              <p:nvPr/>
            </p:nvSpPr>
            <p:spPr>
              <a:xfrm>
                <a:off x="50828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50698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4905000" y="4379760"/>
              <a:ext cx="114480" cy="88920"/>
              <a:chOff x="4905000" y="4379760"/>
              <a:chExt cx="114480" cy="88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49179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49050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196960" y="4379760"/>
              <a:ext cx="114120" cy="88920"/>
              <a:chOff x="5196960" y="4379760"/>
              <a:chExt cx="114120" cy="889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20992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519696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4905000" y="4748040"/>
              <a:ext cx="114480" cy="88920"/>
              <a:chOff x="4905000" y="4748040"/>
              <a:chExt cx="114480" cy="88920"/>
            </a:xfrm>
          </p:grpSpPr>
          <p:sp>
            <p:nvSpPr>
              <p:cNvPr id="2342" name=""/>
              <p:cNvSpPr/>
              <p:nvPr/>
            </p:nvSpPr>
            <p:spPr>
              <a:xfrm>
                <a:off x="49179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49050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5069880" y="4748040"/>
              <a:ext cx="114120" cy="88920"/>
              <a:chOff x="5069880" y="4748040"/>
              <a:chExt cx="114120" cy="88920"/>
            </a:xfrm>
          </p:grpSpPr>
          <p:sp>
            <p:nvSpPr>
              <p:cNvPr id="2345" name=""/>
              <p:cNvSpPr/>
              <p:nvPr/>
            </p:nvSpPr>
            <p:spPr>
              <a:xfrm>
                <a:off x="508284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506988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77920" y="5116320"/>
              <a:ext cx="114120" cy="88920"/>
              <a:chOff x="4777920" y="5116320"/>
              <a:chExt cx="114120" cy="88920"/>
            </a:xfrm>
          </p:grpSpPr>
          <p:sp>
            <p:nvSpPr>
              <p:cNvPr id="2348" name=""/>
              <p:cNvSpPr/>
              <p:nvPr/>
            </p:nvSpPr>
            <p:spPr>
              <a:xfrm>
                <a:off x="479088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477792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5196960" y="5116320"/>
              <a:ext cx="114120" cy="88920"/>
              <a:chOff x="5196960" y="5116320"/>
              <a:chExt cx="114120" cy="88920"/>
            </a:xfrm>
          </p:grpSpPr>
          <p:sp>
            <p:nvSpPr>
              <p:cNvPr id="2351" name=""/>
              <p:cNvSpPr/>
              <p:nvPr/>
            </p:nvSpPr>
            <p:spPr>
              <a:xfrm>
                <a:off x="520992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519696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4777920" y="5484600"/>
              <a:ext cx="114120" cy="88920"/>
              <a:chOff x="4777920" y="5484600"/>
              <a:chExt cx="114120" cy="88920"/>
            </a:xfrm>
          </p:grpSpPr>
          <p:sp>
            <p:nvSpPr>
              <p:cNvPr id="2354" name=""/>
              <p:cNvSpPr/>
              <p:nvPr/>
            </p:nvSpPr>
            <p:spPr>
              <a:xfrm>
                <a:off x="479088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477792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5069880" y="5484600"/>
              <a:ext cx="114120" cy="88920"/>
              <a:chOff x="5069880" y="5484600"/>
              <a:chExt cx="114120" cy="88920"/>
            </a:xfrm>
          </p:grpSpPr>
          <p:sp>
            <p:nvSpPr>
              <p:cNvPr id="2357" name=""/>
              <p:cNvSpPr/>
              <p:nvPr/>
            </p:nvSpPr>
            <p:spPr>
              <a:xfrm>
                <a:off x="5082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5069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4485960" y="4379760"/>
              <a:ext cx="114480" cy="88920"/>
              <a:chOff x="4485960" y="4379760"/>
              <a:chExt cx="114480" cy="88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4498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448596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4485960" y="4748040"/>
              <a:ext cx="114480" cy="88920"/>
              <a:chOff x="4485960" y="4748040"/>
              <a:chExt cx="114480" cy="88920"/>
            </a:xfrm>
          </p:grpSpPr>
          <p:sp>
            <p:nvSpPr>
              <p:cNvPr id="2363" name=""/>
              <p:cNvSpPr/>
              <p:nvPr/>
            </p:nvSpPr>
            <p:spPr>
              <a:xfrm>
                <a:off x="4498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448596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4485960" y="5116320"/>
              <a:ext cx="114480" cy="88920"/>
              <a:chOff x="4485960" y="5116320"/>
              <a:chExt cx="114480" cy="88920"/>
            </a:xfrm>
          </p:grpSpPr>
          <p:sp>
            <p:nvSpPr>
              <p:cNvPr id="2366" name=""/>
              <p:cNvSpPr/>
              <p:nvPr/>
            </p:nvSpPr>
            <p:spPr>
              <a:xfrm>
                <a:off x="4498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448596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4485960" y="5484600"/>
              <a:ext cx="114480" cy="88920"/>
              <a:chOff x="4485960" y="5484600"/>
              <a:chExt cx="114480" cy="88920"/>
            </a:xfrm>
          </p:grpSpPr>
          <p:sp>
            <p:nvSpPr>
              <p:cNvPr id="2369" name=""/>
              <p:cNvSpPr/>
              <p:nvPr/>
            </p:nvSpPr>
            <p:spPr>
              <a:xfrm>
                <a:off x="449856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>
                <a:off x="448596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6492600" y="4024080"/>
              <a:ext cx="114480" cy="88560"/>
              <a:chOff x="6492600" y="4024080"/>
              <a:chExt cx="114480" cy="88560"/>
            </a:xfrm>
          </p:grpSpPr>
          <p:sp>
            <p:nvSpPr>
              <p:cNvPr id="2372" name=""/>
              <p:cNvSpPr/>
              <p:nvPr/>
            </p:nvSpPr>
            <p:spPr>
              <a:xfrm>
                <a:off x="6505200" y="402408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6492600" y="402408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492600" y="4379760"/>
              <a:ext cx="114480" cy="88920"/>
              <a:chOff x="6492600" y="4379760"/>
              <a:chExt cx="114480" cy="88920"/>
            </a:xfrm>
          </p:grpSpPr>
          <p:sp>
            <p:nvSpPr>
              <p:cNvPr id="2375" name=""/>
              <p:cNvSpPr/>
              <p:nvPr/>
            </p:nvSpPr>
            <p:spPr>
              <a:xfrm>
                <a:off x="650520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>
                <a:off x="64926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492600" y="3643200"/>
              <a:ext cx="114480" cy="88920"/>
              <a:chOff x="6492600" y="3643200"/>
              <a:chExt cx="114480" cy="88920"/>
            </a:xfrm>
          </p:grpSpPr>
          <p:sp>
            <p:nvSpPr>
              <p:cNvPr id="2378" name=""/>
              <p:cNvSpPr/>
              <p:nvPr/>
            </p:nvSpPr>
            <p:spPr>
              <a:xfrm>
                <a:off x="650520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6492600" y="36432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7203600" y="4748040"/>
              <a:ext cx="114120" cy="88920"/>
              <a:chOff x="7203600" y="4748040"/>
              <a:chExt cx="114120" cy="88920"/>
            </a:xfrm>
          </p:grpSpPr>
          <p:sp>
            <p:nvSpPr>
              <p:cNvPr id="2381" name=""/>
              <p:cNvSpPr/>
              <p:nvPr/>
            </p:nvSpPr>
            <p:spPr>
              <a:xfrm>
                <a:off x="7216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720360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7203600" y="5116320"/>
              <a:ext cx="114120" cy="88920"/>
              <a:chOff x="7203600" y="5116320"/>
              <a:chExt cx="114120" cy="88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7216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720360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7203600" y="4379760"/>
              <a:ext cx="114120" cy="88920"/>
              <a:chOff x="7203600" y="4379760"/>
              <a:chExt cx="114120" cy="88920"/>
            </a:xfrm>
          </p:grpSpPr>
          <p:sp>
            <p:nvSpPr>
              <p:cNvPr id="2387" name=""/>
              <p:cNvSpPr/>
              <p:nvPr/>
            </p:nvSpPr>
            <p:spPr>
              <a:xfrm>
                <a:off x="7216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720360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7203600" y="3643200"/>
              <a:ext cx="114120" cy="88920"/>
              <a:chOff x="7203600" y="3643200"/>
              <a:chExt cx="114120" cy="88920"/>
            </a:xfrm>
          </p:grpSpPr>
          <p:sp>
            <p:nvSpPr>
              <p:cNvPr id="2390" name=""/>
              <p:cNvSpPr/>
              <p:nvPr/>
            </p:nvSpPr>
            <p:spPr>
              <a:xfrm>
                <a:off x="721656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20360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7203600" y="4011480"/>
              <a:ext cx="114120" cy="88920"/>
              <a:chOff x="7203600" y="4011480"/>
              <a:chExt cx="114120" cy="88920"/>
            </a:xfrm>
          </p:grpSpPr>
          <p:sp>
            <p:nvSpPr>
              <p:cNvPr id="2393" name=""/>
              <p:cNvSpPr/>
              <p:nvPr/>
            </p:nvSpPr>
            <p:spPr>
              <a:xfrm>
                <a:off x="721656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720360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7203600" y="3274920"/>
              <a:ext cx="114120" cy="88920"/>
              <a:chOff x="7203600" y="3274920"/>
              <a:chExt cx="114120" cy="88920"/>
            </a:xfrm>
          </p:grpSpPr>
          <p:sp>
            <p:nvSpPr>
              <p:cNvPr id="2396" name=""/>
              <p:cNvSpPr/>
              <p:nvPr/>
            </p:nvSpPr>
            <p:spPr>
              <a:xfrm>
                <a:off x="72165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720360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492600" y="3274920"/>
              <a:ext cx="114480" cy="88920"/>
              <a:chOff x="6492600" y="3274920"/>
              <a:chExt cx="114480" cy="88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50520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64926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7203600" y="2906640"/>
              <a:ext cx="114120" cy="88920"/>
              <a:chOff x="7203600" y="2906640"/>
              <a:chExt cx="114120" cy="88920"/>
            </a:xfrm>
          </p:grpSpPr>
          <p:sp>
            <p:nvSpPr>
              <p:cNvPr id="2402" name=""/>
              <p:cNvSpPr/>
              <p:nvPr/>
            </p:nvSpPr>
            <p:spPr>
              <a:xfrm>
                <a:off x="72165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720360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7571880" y="3643200"/>
              <a:ext cx="114120" cy="88920"/>
              <a:chOff x="7571880" y="3643200"/>
              <a:chExt cx="114120" cy="88920"/>
            </a:xfrm>
          </p:grpSpPr>
          <p:sp>
            <p:nvSpPr>
              <p:cNvPr id="2405" name=""/>
              <p:cNvSpPr/>
              <p:nvPr/>
            </p:nvSpPr>
            <p:spPr>
              <a:xfrm>
                <a:off x="75848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75718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7571880" y="4379760"/>
              <a:ext cx="114120" cy="88920"/>
              <a:chOff x="7571880" y="4379760"/>
              <a:chExt cx="114120" cy="88920"/>
            </a:xfrm>
          </p:grpSpPr>
          <p:sp>
            <p:nvSpPr>
              <p:cNvPr id="2408" name=""/>
              <p:cNvSpPr/>
              <p:nvPr/>
            </p:nvSpPr>
            <p:spPr>
              <a:xfrm>
                <a:off x="758484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757188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7571880" y="5484600"/>
              <a:ext cx="114120" cy="88920"/>
              <a:chOff x="7571880" y="5484600"/>
              <a:chExt cx="114120" cy="88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7584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7571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60418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7200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7402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9596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424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64240" y="64436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4410000" y="2563920"/>
            <a:ext cx="158760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5705640" y="2042640"/>
            <a:ext cx="59688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753160" y="1749600"/>
            <a:ext cx="3098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ll decoder as for memory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6784920" y="2385720"/>
            <a:ext cx="19044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689880" y="2125800"/>
            <a:ext cx="213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s stored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functions of A, B,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A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A + 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A' B'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4 = A' + B' +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5 = A xor B x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6 = A xnor B xn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D26-BC68-4C7E-A6D2-422A6D15594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2013120" y="5025960"/>
            <a:ext cx="331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given column of the OR arr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 access to only a subse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ossible produc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5607000" y="2844720"/>
            <a:ext cx="3314880" cy="3784680"/>
            <a:chOff x="5607000" y="2844720"/>
            <a:chExt cx="3314880" cy="3784680"/>
          </a:xfrm>
        </p:grpSpPr>
        <p:sp>
          <p:nvSpPr>
            <p:cNvPr id="2428" name=""/>
            <p:cNvSpPr/>
            <p:nvPr/>
          </p:nvSpPr>
          <p:spPr>
            <a:xfrm>
              <a:off x="6953400" y="3117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953400" y="3422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6946920" y="3111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112520" y="31320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106040" y="3125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112160" y="3117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105680" y="3111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070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98000" y="32702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953400" y="3486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953400" y="3790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946920" y="3479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112520" y="35002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06040" y="3494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12160" y="3486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05680" y="34797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07000" y="36385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98000" y="36385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53400" y="3854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3400" y="4159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946920" y="3848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112520" y="38685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106040" y="3862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112160" y="3854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05680" y="3848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07000" y="40068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398000" y="4006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953400" y="4222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4527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946920" y="4216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112520" y="42368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106040" y="4230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112160" y="4222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05680" y="4216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07000" y="4375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398000" y="43750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64848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3436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52104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65496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71832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9124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635652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42040" y="29718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622908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6264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2636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299280" y="306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606420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95008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937480" y="29653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07068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13404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00732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52508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9916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51356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51356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4532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64532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9336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68160" y="556236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8184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88184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013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13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4904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2312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3752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3752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69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69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604360" y="596880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57880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59320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59320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724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724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53400" y="4591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53400" y="4895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946920" y="4584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112520" y="4605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06040" y="4599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12160" y="4591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105680" y="4584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607000" y="4743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8000" y="47433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53400" y="4959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53400" y="526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6946920" y="4952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12520" y="49737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106040" y="4967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112160" y="49590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105680" y="4952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07000" y="5111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398000" y="51116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953400" y="5327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953400" y="5632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6946920" y="5321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112520" y="5342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06040" y="5335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112160" y="5327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105680" y="5321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07000" y="54799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98000" y="5479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953400" y="5695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953400" y="6000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6946920" y="5689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112520" y="5710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106040" y="5703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112160" y="5695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105680" y="5689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07000" y="5848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398000" y="5848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924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0728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114960" y="3085920"/>
              <a:ext cx="511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578484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072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565740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9132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85468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2796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83560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5670360" y="3225600"/>
              <a:ext cx="1105200" cy="88920"/>
              <a:chOff x="5670360" y="3225600"/>
              <a:chExt cx="1105200" cy="88920"/>
            </a:xfrm>
          </p:grpSpPr>
          <p:grpSp>
            <p:nvGrpSpPr>
              <p:cNvPr id="2553" name=""/>
              <p:cNvGrpSpPr/>
              <p:nvPr/>
            </p:nvGrpSpPr>
            <p:grpSpPr>
              <a:xfrm>
                <a:off x="6369120" y="3225600"/>
                <a:ext cx="114480" cy="88920"/>
                <a:chOff x="6369120" y="3225600"/>
                <a:chExt cx="114480" cy="889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3817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>
                  <a:off x="636912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6076800" y="3225600"/>
                <a:ext cx="114120" cy="88920"/>
                <a:chOff x="6076800" y="3225600"/>
                <a:chExt cx="114120" cy="889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0897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>
                  <a:off x="60768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6661080" y="3225600"/>
                <a:ext cx="114480" cy="88920"/>
                <a:chOff x="6661080" y="3225600"/>
                <a:chExt cx="114480" cy="889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6740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>
                  <a:off x="666108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242040" y="3225600"/>
                <a:ext cx="114480" cy="88920"/>
                <a:chOff x="6242040" y="3225600"/>
                <a:chExt cx="114480" cy="8892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255000" y="32256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624204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949720" y="3225600"/>
                <a:ext cx="114120" cy="88920"/>
                <a:chOff x="5949720" y="3225600"/>
                <a:chExt cx="114120" cy="8892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9626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59497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6534000" y="3225600"/>
                <a:ext cx="114120" cy="88920"/>
                <a:chOff x="6534000" y="3225600"/>
                <a:chExt cx="114120" cy="889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65469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65340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797440" y="3225600"/>
                <a:ext cx="114120" cy="88920"/>
                <a:chOff x="5797440" y="3225600"/>
                <a:chExt cx="114120" cy="889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81040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579744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5670360" y="3225600"/>
                <a:ext cx="114120" cy="88920"/>
                <a:chOff x="5670360" y="3225600"/>
                <a:chExt cx="114120" cy="8892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56833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>
                  <a:off x="567036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7" name=""/>
            <p:cNvGrpSpPr/>
            <p:nvPr/>
          </p:nvGrpSpPr>
          <p:grpSpPr>
            <a:xfrm>
              <a:off x="5670360" y="3593880"/>
              <a:ext cx="1105200" cy="88920"/>
              <a:chOff x="5670360" y="3593880"/>
              <a:chExt cx="1105200" cy="88920"/>
            </a:xfrm>
          </p:grpSpPr>
          <p:grpSp>
            <p:nvGrpSpPr>
              <p:cNvPr id="2578" name=""/>
              <p:cNvGrpSpPr/>
              <p:nvPr/>
            </p:nvGrpSpPr>
            <p:grpSpPr>
              <a:xfrm>
                <a:off x="6369120" y="3593880"/>
                <a:ext cx="114480" cy="88920"/>
                <a:chOff x="6369120" y="3593880"/>
                <a:chExt cx="114480" cy="889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63817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>
                  <a:off x="636912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6076800" y="3593880"/>
                <a:ext cx="114120" cy="88920"/>
                <a:chOff x="6076800" y="3593880"/>
                <a:chExt cx="114120" cy="889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60897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>
                  <a:off x="60768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661080" y="3593880"/>
                <a:ext cx="114480" cy="88920"/>
                <a:chOff x="6661080" y="3593880"/>
                <a:chExt cx="114480" cy="88920"/>
              </a:xfrm>
            </p:grpSpPr>
            <p:sp>
              <p:nvSpPr>
                <p:cNvPr id="2585" name=""/>
                <p:cNvSpPr/>
                <p:nvPr/>
              </p:nvSpPr>
              <p:spPr>
                <a:xfrm>
                  <a:off x="66740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>
                  <a:off x="666108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242040" y="3593880"/>
                <a:ext cx="114480" cy="88920"/>
                <a:chOff x="6242040" y="3593880"/>
                <a:chExt cx="114480" cy="889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6255000" y="35938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>
                  <a:off x="624204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5949720" y="3593880"/>
                <a:ext cx="114120" cy="88920"/>
                <a:chOff x="5949720" y="3593880"/>
                <a:chExt cx="114120" cy="8892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59626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59497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6534000" y="3593880"/>
                <a:ext cx="114120" cy="88920"/>
                <a:chOff x="6534000" y="3593880"/>
                <a:chExt cx="114120" cy="889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5469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65340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5797440" y="3593880"/>
                <a:ext cx="114120" cy="88920"/>
                <a:chOff x="5797440" y="3593880"/>
                <a:chExt cx="114120" cy="8892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81040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>
                  <a:off x="579744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5670360" y="3593880"/>
                <a:ext cx="114120" cy="88920"/>
                <a:chOff x="5670360" y="3593880"/>
                <a:chExt cx="114120" cy="88920"/>
              </a:xfrm>
            </p:grpSpPr>
            <p:sp>
              <p:nvSpPr>
                <p:cNvPr id="2600" name=""/>
                <p:cNvSpPr/>
                <p:nvPr/>
              </p:nvSpPr>
              <p:spPr>
                <a:xfrm>
                  <a:off x="56833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567036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2" name=""/>
            <p:cNvGrpSpPr/>
            <p:nvPr/>
          </p:nvGrpSpPr>
          <p:grpSpPr>
            <a:xfrm>
              <a:off x="5670360" y="3962520"/>
              <a:ext cx="1105200" cy="88560"/>
              <a:chOff x="5670360" y="3962520"/>
              <a:chExt cx="1105200" cy="88560"/>
            </a:xfrm>
          </p:grpSpPr>
          <p:grpSp>
            <p:nvGrpSpPr>
              <p:cNvPr id="2603" name=""/>
              <p:cNvGrpSpPr/>
              <p:nvPr/>
            </p:nvGrpSpPr>
            <p:grpSpPr>
              <a:xfrm>
                <a:off x="6369120" y="3962520"/>
                <a:ext cx="114480" cy="88560"/>
                <a:chOff x="6369120" y="3962520"/>
                <a:chExt cx="114480" cy="885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63817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>
                  <a:off x="636912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6076800" y="3962520"/>
                <a:ext cx="114120" cy="88560"/>
                <a:chOff x="6076800" y="3962520"/>
                <a:chExt cx="114120" cy="8856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60897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>
                  <a:off x="60768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661080" y="3962520"/>
                <a:ext cx="114480" cy="88560"/>
                <a:chOff x="6661080" y="3962520"/>
                <a:chExt cx="114480" cy="8856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6740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666108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6242040" y="3962520"/>
                <a:ext cx="114480" cy="88560"/>
                <a:chOff x="6242040" y="3962520"/>
                <a:chExt cx="114480" cy="8856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6255000" y="39625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>
                  <a:off x="624204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5949720" y="3962520"/>
                <a:ext cx="114120" cy="88560"/>
                <a:chOff x="5949720" y="3962520"/>
                <a:chExt cx="114120" cy="8856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59626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>
                  <a:off x="59497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6534000" y="3962520"/>
                <a:ext cx="114120" cy="88560"/>
                <a:chOff x="6534000" y="3962520"/>
                <a:chExt cx="114120" cy="885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5469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65340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5797440" y="3962520"/>
                <a:ext cx="114120" cy="88560"/>
                <a:chOff x="5797440" y="3962520"/>
                <a:chExt cx="114120" cy="8856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81040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>
                  <a:off x="579744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70360" y="3962520"/>
                <a:ext cx="114120" cy="88560"/>
                <a:chOff x="5670360" y="3962520"/>
                <a:chExt cx="114120" cy="885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833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>
                  <a:off x="567036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70360" y="4330800"/>
              <a:ext cx="1105200" cy="88920"/>
              <a:chOff x="5670360" y="4330800"/>
              <a:chExt cx="1105200" cy="88920"/>
            </a:xfrm>
          </p:grpSpPr>
          <p:grpSp>
            <p:nvGrpSpPr>
              <p:cNvPr id="2628" name=""/>
              <p:cNvGrpSpPr/>
              <p:nvPr/>
            </p:nvGrpSpPr>
            <p:grpSpPr>
              <a:xfrm>
                <a:off x="6369120" y="4330800"/>
                <a:ext cx="114480" cy="88920"/>
                <a:chOff x="6369120" y="4330800"/>
                <a:chExt cx="114480" cy="889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63817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636912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6076800" y="4330800"/>
                <a:ext cx="114120" cy="88920"/>
                <a:chOff x="6076800" y="4330800"/>
                <a:chExt cx="114120" cy="889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60897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>
                  <a:off x="60768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6661080" y="4330800"/>
                <a:ext cx="114480" cy="88920"/>
                <a:chOff x="6661080" y="4330800"/>
                <a:chExt cx="114480" cy="8892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66740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>
                  <a:off x="666108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6242040" y="4330800"/>
                <a:ext cx="114480" cy="88920"/>
                <a:chOff x="6242040" y="4330800"/>
                <a:chExt cx="114480" cy="889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6255000" y="4330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>
                  <a:off x="624204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949720" y="4330800"/>
                <a:ext cx="114120" cy="88920"/>
                <a:chOff x="5949720" y="4330800"/>
                <a:chExt cx="114120" cy="8892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9626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59497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6534000" y="4330800"/>
                <a:ext cx="114120" cy="88920"/>
                <a:chOff x="6534000" y="4330800"/>
                <a:chExt cx="114120" cy="889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5469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>
                  <a:off x="65340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797440" y="4330800"/>
                <a:ext cx="114120" cy="88920"/>
                <a:chOff x="5797440" y="4330800"/>
                <a:chExt cx="114120" cy="8892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581040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>
                  <a:off x="579744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5670360" y="4330800"/>
                <a:ext cx="114120" cy="88920"/>
                <a:chOff x="5670360" y="4330800"/>
                <a:chExt cx="114120" cy="8892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6833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>
                  <a:off x="567036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2" name=""/>
            <p:cNvGrpSpPr/>
            <p:nvPr/>
          </p:nvGrpSpPr>
          <p:grpSpPr>
            <a:xfrm>
              <a:off x="5670360" y="4699080"/>
              <a:ext cx="1105200" cy="88920"/>
              <a:chOff x="5670360" y="4699080"/>
              <a:chExt cx="1105200" cy="88920"/>
            </a:xfrm>
          </p:grpSpPr>
          <p:grpSp>
            <p:nvGrpSpPr>
              <p:cNvPr id="2653" name=""/>
              <p:cNvGrpSpPr/>
              <p:nvPr/>
            </p:nvGrpSpPr>
            <p:grpSpPr>
              <a:xfrm>
                <a:off x="6369120" y="4699080"/>
                <a:ext cx="114480" cy="88920"/>
                <a:chOff x="6369120" y="4699080"/>
                <a:chExt cx="114480" cy="8892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63817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>
                  <a:off x="636912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6076800" y="4699080"/>
                <a:ext cx="114120" cy="88920"/>
                <a:chOff x="6076800" y="4699080"/>
                <a:chExt cx="114120" cy="8892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60897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>
                  <a:off x="60768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6661080" y="4699080"/>
                <a:ext cx="114480" cy="88920"/>
                <a:chOff x="6661080" y="4699080"/>
                <a:chExt cx="114480" cy="8892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66740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666108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6242040" y="4699080"/>
                <a:ext cx="114480" cy="88920"/>
                <a:chOff x="6242040" y="4699080"/>
                <a:chExt cx="114480" cy="8892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6255000" y="4699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>
                  <a:off x="624204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5949720" y="4699080"/>
                <a:ext cx="114120" cy="88920"/>
                <a:chOff x="5949720" y="4699080"/>
                <a:chExt cx="114120" cy="8892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59626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>
                  <a:off x="59497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6534000" y="4699080"/>
                <a:ext cx="114120" cy="88920"/>
                <a:chOff x="6534000" y="4699080"/>
                <a:chExt cx="114120" cy="8892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65469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>
                  <a:off x="65340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797440" y="4699080"/>
                <a:ext cx="114120" cy="88920"/>
                <a:chOff x="5797440" y="4699080"/>
                <a:chExt cx="114120" cy="889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81040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>
                  <a:off x="579744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4" name=""/>
              <p:cNvGrpSpPr/>
              <p:nvPr/>
            </p:nvGrpSpPr>
            <p:grpSpPr>
              <a:xfrm>
                <a:off x="5670360" y="4699080"/>
                <a:ext cx="114120" cy="88920"/>
                <a:chOff x="5670360" y="4699080"/>
                <a:chExt cx="114120" cy="889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56833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>
                  <a:off x="567036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7" name=""/>
            <p:cNvGrpSpPr/>
            <p:nvPr/>
          </p:nvGrpSpPr>
          <p:grpSpPr>
            <a:xfrm>
              <a:off x="5670360" y="5067360"/>
              <a:ext cx="1105200" cy="88920"/>
              <a:chOff x="5670360" y="5067360"/>
              <a:chExt cx="1105200" cy="88920"/>
            </a:xfrm>
          </p:grpSpPr>
          <p:grpSp>
            <p:nvGrpSpPr>
              <p:cNvPr id="2678" name=""/>
              <p:cNvGrpSpPr/>
              <p:nvPr/>
            </p:nvGrpSpPr>
            <p:grpSpPr>
              <a:xfrm>
                <a:off x="6369120" y="5067360"/>
                <a:ext cx="114480" cy="88920"/>
                <a:chOff x="6369120" y="5067360"/>
                <a:chExt cx="114480" cy="889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63817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>
                  <a:off x="636912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6076800" y="5067360"/>
                <a:ext cx="114120" cy="88920"/>
                <a:chOff x="6076800" y="5067360"/>
                <a:chExt cx="114120" cy="8892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60897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>
                  <a:off x="60768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6661080" y="5067360"/>
                <a:ext cx="114480" cy="88920"/>
                <a:chOff x="6661080" y="5067360"/>
                <a:chExt cx="114480" cy="8892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6740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>
                  <a:off x="666108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6242040" y="5067360"/>
                <a:ext cx="114480" cy="88920"/>
                <a:chOff x="6242040" y="5067360"/>
                <a:chExt cx="114480" cy="8892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6255000" y="50673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624204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5949720" y="5067360"/>
                <a:ext cx="114120" cy="88920"/>
                <a:chOff x="5949720" y="5067360"/>
                <a:chExt cx="114120" cy="889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9626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>
                  <a:off x="59497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534000" y="5067360"/>
                <a:ext cx="114120" cy="88920"/>
                <a:chOff x="6534000" y="5067360"/>
                <a:chExt cx="114120" cy="889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5469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65340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797440" y="5067360"/>
                <a:ext cx="114120" cy="88920"/>
                <a:chOff x="5797440" y="5067360"/>
                <a:chExt cx="114120" cy="889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81040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>
                  <a:off x="579744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5670360" y="5067360"/>
                <a:ext cx="114120" cy="88920"/>
                <a:chOff x="5670360" y="5067360"/>
                <a:chExt cx="114120" cy="8892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6833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567036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2" name=""/>
            <p:cNvGrpSpPr/>
            <p:nvPr/>
          </p:nvGrpSpPr>
          <p:grpSpPr>
            <a:xfrm>
              <a:off x="5670360" y="5435640"/>
              <a:ext cx="1105200" cy="88920"/>
              <a:chOff x="5670360" y="5435640"/>
              <a:chExt cx="1105200" cy="88920"/>
            </a:xfrm>
          </p:grpSpPr>
          <p:grpSp>
            <p:nvGrpSpPr>
              <p:cNvPr id="2703" name=""/>
              <p:cNvGrpSpPr/>
              <p:nvPr/>
            </p:nvGrpSpPr>
            <p:grpSpPr>
              <a:xfrm>
                <a:off x="6369120" y="5435640"/>
                <a:ext cx="114480" cy="88920"/>
                <a:chOff x="6369120" y="5435640"/>
                <a:chExt cx="114480" cy="889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63817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>
                  <a:off x="636912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6076800" y="5435640"/>
                <a:ext cx="114120" cy="88920"/>
                <a:chOff x="6076800" y="5435640"/>
                <a:chExt cx="114120" cy="88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60897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60768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6661080" y="5435640"/>
                <a:ext cx="114480" cy="88920"/>
                <a:chOff x="6661080" y="5435640"/>
                <a:chExt cx="114480" cy="889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66740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666108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6242040" y="5435640"/>
                <a:ext cx="114480" cy="88920"/>
                <a:chOff x="6242040" y="5435640"/>
                <a:chExt cx="114480" cy="889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6255000" y="54356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>
                  <a:off x="624204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949720" y="5435640"/>
                <a:ext cx="114120" cy="88920"/>
                <a:chOff x="5949720" y="5435640"/>
                <a:chExt cx="114120" cy="8892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9626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>
                  <a:off x="59497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6534000" y="5435640"/>
                <a:ext cx="114120" cy="88920"/>
                <a:chOff x="6534000" y="5435640"/>
                <a:chExt cx="114120" cy="889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65469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65340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797440" y="5435640"/>
                <a:ext cx="114120" cy="88920"/>
                <a:chOff x="5797440" y="5435640"/>
                <a:chExt cx="114120" cy="88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581040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579744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5670360" y="5435640"/>
                <a:ext cx="114120" cy="88920"/>
                <a:chOff x="5670360" y="5435640"/>
                <a:chExt cx="114120" cy="8892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56833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567036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7" name=""/>
            <p:cNvGrpSpPr/>
            <p:nvPr/>
          </p:nvGrpSpPr>
          <p:grpSpPr>
            <a:xfrm>
              <a:off x="5670360" y="5803920"/>
              <a:ext cx="1105200" cy="88920"/>
              <a:chOff x="5670360" y="5803920"/>
              <a:chExt cx="1105200" cy="88920"/>
            </a:xfrm>
          </p:grpSpPr>
          <p:grpSp>
            <p:nvGrpSpPr>
              <p:cNvPr id="2728" name=""/>
              <p:cNvGrpSpPr/>
              <p:nvPr/>
            </p:nvGrpSpPr>
            <p:grpSpPr>
              <a:xfrm>
                <a:off x="6369120" y="5803920"/>
                <a:ext cx="114480" cy="88920"/>
                <a:chOff x="6369120" y="5803920"/>
                <a:chExt cx="114480" cy="8892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63817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>
                  <a:off x="636912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1" name=""/>
              <p:cNvGrpSpPr/>
              <p:nvPr/>
            </p:nvGrpSpPr>
            <p:grpSpPr>
              <a:xfrm>
                <a:off x="6076800" y="5803920"/>
                <a:ext cx="114120" cy="88920"/>
                <a:chOff x="6076800" y="5803920"/>
                <a:chExt cx="114120" cy="88920"/>
              </a:xfrm>
            </p:grpSpPr>
            <p:sp>
              <p:nvSpPr>
                <p:cNvPr id="2732" name=""/>
                <p:cNvSpPr/>
                <p:nvPr/>
              </p:nvSpPr>
              <p:spPr>
                <a:xfrm>
                  <a:off x="60897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>
                  <a:off x="60768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4" name=""/>
              <p:cNvGrpSpPr/>
              <p:nvPr/>
            </p:nvGrpSpPr>
            <p:grpSpPr>
              <a:xfrm>
                <a:off x="6661080" y="5803920"/>
                <a:ext cx="114480" cy="88920"/>
                <a:chOff x="6661080" y="5803920"/>
                <a:chExt cx="114480" cy="88920"/>
              </a:xfrm>
            </p:grpSpPr>
            <p:sp>
              <p:nvSpPr>
                <p:cNvPr id="2735" name=""/>
                <p:cNvSpPr/>
                <p:nvPr/>
              </p:nvSpPr>
              <p:spPr>
                <a:xfrm>
                  <a:off x="66740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H="1">
                  <a:off x="666108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7" name=""/>
              <p:cNvGrpSpPr/>
              <p:nvPr/>
            </p:nvGrpSpPr>
            <p:grpSpPr>
              <a:xfrm>
                <a:off x="6242040" y="5803920"/>
                <a:ext cx="114480" cy="88920"/>
                <a:chOff x="6242040" y="5803920"/>
                <a:chExt cx="114480" cy="8892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255000" y="58039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>
                  <a:off x="624204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5949720" y="5803920"/>
                <a:ext cx="114120" cy="88920"/>
                <a:chOff x="5949720" y="5803920"/>
                <a:chExt cx="114120" cy="8892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9626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H="1">
                  <a:off x="59497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3" name=""/>
              <p:cNvGrpSpPr/>
              <p:nvPr/>
            </p:nvGrpSpPr>
            <p:grpSpPr>
              <a:xfrm>
                <a:off x="6534000" y="5803920"/>
                <a:ext cx="114120" cy="88920"/>
                <a:chOff x="6534000" y="5803920"/>
                <a:chExt cx="114120" cy="889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65469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>
                  <a:off x="65340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5797440" y="5803920"/>
                <a:ext cx="114120" cy="88920"/>
                <a:chOff x="5797440" y="5803920"/>
                <a:chExt cx="114120" cy="88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581040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579744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9" name=""/>
              <p:cNvGrpSpPr/>
              <p:nvPr/>
            </p:nvGrpSpPr>
            <p:grpSpPr>
              <a:xfrm>
                <a:off x="5670360" y="5803920"/>
                <a:ext cx="114120" cy="88920"/>
                <a:chOff x="5670360" y="5803920"/>
                <a:chExt cx="114120" cy="8892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833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567036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2" name=""/>
            <p:cNvSpPr/>
            <p:nvPr/>
          </p:nvSpPr>
          <p:spPr>
            <a:xfrm>
              <a:off x="7588440" y="32130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588440" y="35812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956720" y="3949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956720" y="43178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312400" y="4686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2400" y="50544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680680" y="5422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680680" y="5791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strained fully-general AND and O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topology of the OR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by Monolithic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and smaller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04D-004D-4C44-B2E8-5212F58753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"/>
          <p:cNvSpPr/>
          <p:nvPr/>
        </p:nvSpPr>
        <p:spPr>
          <a:xfrm>
            <a:off x="5086440" y="3073320"/>
            <a:ext cx="3111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3" name=""/>
          <p:cNvGrpSpPr/>
          <p:nvPr/>
        </p:nvGrpSpPr>
        <p:grpSpPr>
          <a:xfrm>
            <a:off x="679320" y="2158920"/>
            <a:ext cx="3714840" cy="3187800"/>
            <a:chOff x="679320" y="2158920"/>
            <a:chExt cx="3714840" cy="3187800"/>
          </a:xfrm>
        </p:grpSpPr>
        <p:sp>
          <p:nvSpPr>
            <p:cNvPr id="2764" name=""/>
            <p:cNvSpPr/>
            <p:nvPr/>
          </p:nvSpPr>
          <p:spPr>
            <a:xfrm>
              <a:off x="736560" y="2158920"/>
              <a:ext cx="36576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463840" y="2190600"/>
              <a:ext cx="0" cy="28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9320" y="241308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to Gray code co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3B4-A297-4255-A5AA-2C4021AC45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5289480" y="3498840"/>
            <a:ext cx="32641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 particularl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didate for PAL/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 since no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shared among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much more comp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regular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ompared with discre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nd OR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771480" y="1944720"/>
            <a:ext cx="3297240" cy="4454280"/>
            <a:chOff x="771480" y="1944720"/>
            <a:chExt cx="3297240" cy="4454280"/>
          </a:xfrm>
        </p:grpSpPr>
        <p:sp>
          <p:nvSpPr>
            <p:cNvPr id="2771" name=""/>
            <p:cNvSpPr/>
            <p:nvPr/>
          </p:nvSpPr>
          <p:spPr>
            <a:xfrm>
              <a:off x="18558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73520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45584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29852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9856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206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17880" y="3544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17880" y="3835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2111400" y="35380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62600" y="35528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262240" y="35402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71480" y="3691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541600" y="36910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178920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681200" y="2351160"/>
              <a:ext cx="108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166824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38160" y="2460600"/>
              <a:ext cx="4788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79532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17880" y="24908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17880" y="27813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11400" y="2484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62600" y="2496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62240" y="2482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7148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41600" y="26352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7880" y="28414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17880" y="31320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111400" y="2835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62600" y="284940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62240" y="28368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1480" y="2987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541600" y="2987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17880" y="3193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17880" y="3484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2111400" y="31878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62600" y="32004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262240" y="3186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71480" y="3338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41600" y="3338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51128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40184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1388880" y="234468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558800" y="246060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51776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577880" y="2521080"/>
              <a:ext cx="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123192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12248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111096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281240" y="2460600"/>
              <a:ext cx="475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3840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17792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953640" y="2351160"/>
              <a:ext cx="1335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456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831960" y="23446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001880" y="2460600"/>
              <a:ext cx="489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95868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17880" y="38847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117880" y="41752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2111400" y="3878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262600" y="38926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262240" y="3876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71480" y="4029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541600" y="4029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17880" y="42242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117880" y="45147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2111400" y="4218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262600" y="4230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262240" y="4216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1480" y="43689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541600" y="43689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17880" y="45626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17880" y="48546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V="1">
              <a:off x="2111400" y="45576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62600" y="4570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262240" y="45576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1480" y="47084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41600" y="47084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17880" y="49021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117880" y="51926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111400" y="48960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62600" y="49100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62240" y="48974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71480" y="50482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541600" y="50482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17880" y="52419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17880" y="553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2111400" y="523512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62600" y="52498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62240" y="523728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1480" y="5388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541600" y="5388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117880" y="558180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117880" y="58723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2111400" y="5575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262600" y="558972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62240" y="557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1480" y="57261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541600" y="57261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7812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2638080" y="5381280"/>
              <a:ext cx="291240" cy="1017720"/>
              <a:chOff x="2638080" y="5381280"/>
              <a:chExt cx="291240" cy="1017720"/>
            </a:xfrm>
          </p:grpSpPr>
          <p:sp>
            <p:nvSpPr>
              <p:cNvPr id="2871" name=""/>
              <p:cNvSpPr/>
              <p:nvPr/>
            </p:nvSpPr>
            <p:spPr>
              <a:xfrm>
                <a:off x="266184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638080" y="5381280"/>
                <a:ext cx="27756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65104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65104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77704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6" name=""/>
            <p:cNvSpPr/>
            <p:nvPr/>
          </p:nvSpPr>
          <p:spPr>
            <a:xfrm>
              <a:off x="311616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2976840" y="5381280"/>
              <a:ext cx="292320" cy="1017720"/>
              <a:chOff x="2976840" y="5381280"/>
              <a:chExt cx="292320" cy="1017720"/>
            </a:xfrm>
          </p:grpSpPr>
          <p:sp>
            <p:nvSpPr>
              <p:cNvPr id="2878" name=""/>
              <p:cNvSpPr/>
              <p:nvPr/>
            </p:nvSpPr>
            <p:spPr>
              <a:xfrm>
                <a:off x="3002400" y="576900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7684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9088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99088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11616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45600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3316680" y="5381280"/>
              <a:ext cx="292320" cy="1017720"/>
              <a:chOff x="3316680" y="5381280"/>
              <a:chExt cx="292320" cy="1017720"/>
            </a:xfrm>
          </p:grpSpPr>
          <p:sp>
            <p:nvSpPr>
              <p:cNvPr id="2885" name=""/>
              <p:cNvSpPr/>
              <p:nvPr/>
            </p:nvSpPr>
            <p:spPr>
              <a:xfrm>
                <a:off x="334116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1668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3072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3072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45600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380844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3667680" y="5381280"/>
              <a:ext cx="293400" cy="1017720"/>
              <a:chOff x="3667680" y="5381280"/>
              <a:chExt cx="293400" cy="1017720"/>
            </a:xfrm>
          </p:grpSpPr>
          <p:sp>
            <p:nvSpPr>
              <p:cNvPr id="2892" name=""/>
              <p:cNvSpPr/>
              <p:nvPr/>
            </p:nvSpPr>
            <p:spPr>
              <a:xfrm>
                <a:off x="3691440" y="5769000"/>
                <a:ext cx="25596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667680" y="5381280"/>
                <a:ext cx="27972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1360" y="5429880"/>
                <a:ext cx="27972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681360" y="5769000"/>
                <a:ext cx="279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80772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874800" y="1944720"/>
              <a:ext cx="1344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5416560" y="1695600"/>
            <a:ext cx="3111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837720" y="2428920"/>
            <a:ext cx="4024800" cy="3516120"/>
            <a:chOff x="837720" y="2428920"/>
            <a:chExt cx="4024800" cy="3516120"/>
          </a:xfrm>
        </p:grpSpPr>
        <p:sp>
          <p:nvSpPr>
            <p:cNvPr id="2902" name=""/>
            <p:cNvSpPr/>
            <p:nvPr/>
          </p:nvSpPr>
          <p:spPr>
            <a:xfrm>
              <a:off x="4098960" y="2428920"/>
              <a:ext cx="76356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837720" y="2590920"/>
              <a:ext cx="1066680" cy="3200400"/>
              <a:chOff x="837720" y="2590920"/>
              <a:chExt cx="1066680" cy="3200400"/>
            </a:xfrm>
          </p:grpSpPr>
          <p:grpSp>
            <p:nvGrpSpPr>
              <p:cNvPr id="2904" name=""/>
              <p:cNvGrpSpPr/>
              <p:nvPr/>
            </p:nvGrpSpPr>
            <p:grpSpPr>
              <a:xfrm>
                <a:off x="837720" y="2590920"/>
                <a:ext cx="114120" cy="88920"/>
                <a:chOff x="837720" y="2590920"/>
                <a:chExt cx="114120" cy="88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85068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3772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1104480" y="2959200"/>
                <a:ext cx="114120" cy="88920"/>
                <a:chOff x="1104480" y="2959200"/>
                <a:chExt cx="114120" cy="8892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11174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11044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1676160" y="2971800"/>
                <a:ext cx="114120" cy="88920"/>
                <a:chOff x="1676160" y="2971800"/>
                <a:chExt cx="114120" cy="8892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1689120" y="297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676160" y="297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1104480" y="3276720"/>
                <a:ext cx="114120" cy="88920"/>
                <a:chOff x="1104480" y="3276720"/>
                <a:chExt cx="114120" cy="889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11174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H="1">
                  <a:off x="11044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1371240" y="3276720"/>
                <a:ext cx="114120" cy="88920"/>
                <a:chOff x="1371240" y="3276720"/>
                <a:chExt cx="114120" cy="889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38420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137124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1104480" y="3657600"/>
                <a:ext cx="114120" cy="88920"/>
                <a:chOff x="1104480" y="3657600"/>
                <a:chExt cx="114120" cy="889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111744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H="1">
                  <a:off x="110448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1523520" y="3657600"/>
                <a:ext cx="114120" cy="88920"/>
                <a:chOff x="1523520" y="3657600"/>
                <a:chExt cx="114120" cy="889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153648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>
                  <a:off x="152352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1104480" y="3962520"/>
                <a:ext cx="114120" cy="88920"/>
                <a:chOff x="1104480" y="3962520"/>
                <a:chExt cx="114120" cy="889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1117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1104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1409400" y="4330800"/>
                <a:ext cx="114120" cy="88920"/>
                <a:chOff x="1409400" y="4330800"/>
                <a:chExt cx="114120" cy="889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422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>
                  <a:off x="14094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952200" y="4648320"/>
                <a:ext cx="114120" cy="88920"/>
                <a:chOff x="952200" y="4648320"/>
                <a:chExt cx="114120" cy="889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96516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>
                  <a:off x="95220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1218960" y="4648320"/>
                <a:ext cx="114120" cy="88920"/>
                <a:chOff x="1218960" y="4648320"/>
                <a:chExt cx="114120" cy="889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12319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12189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1523520" y="4648320"/>
                <a:ext cx="114120" cy="88920"/>
                <a:chOff x="1523520" y="4648320"/>
                <a:chExt cx="114120" cy="889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153648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152352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1676160" y="4648320"/>
                <a:ext cx="114120" cy="88920"/>
                <a:chOff x="1676160" y="4648320"/>
                <a:chExt cx="114120" cy="889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16891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>
                  <a:off x="16761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1104480" y="5016600"/>
                <a:ext cx="114120" cy="88920"/>
                <a:chOff x="1104480" y="5016600"/>
                <a:chExt cx="114120" cy="88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111744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110448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1371240" y="5029200"/>
                <a:ext cx="114120" cy="88920"/>
                <a:chOff x="1371240" y="5029200"/>
                <a:chExt cx="114120" cy="889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138420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>
                  <a:off x="137124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1676160" y="5016600"/>
                <a:ext cx="114120" cy="88920"/>
                <a:chOff x="1676160" y="5016600"/>
                <a:chExt cx="114120" cy="889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68912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H="1">
                  <a:off x="167616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837720" y="5334120"/>
                <a:ext cx="114120" cy="88920"/>
                <a:chOff x="837720" y="5334120"/>
                <a:chExt cx="114120" cy="889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5068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>
                  <a:off x="83772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1790280" y="5334120"/>
                <a:ext cx="114120" cy="88920"/>
                <a:chOff x="1790280" y="5334120"/>
                <a:chExt cx="114120" cy="8892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180324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H="1">
                  <a:off x="179028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1104480" y="5702400"/>
                <a:ext cx="114120" cy="88920"/>
                <a:chOff x="1104480" y="5702400"/>
                <a:chExt cx="114120" cy="8892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11174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11044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1371240" y="5702400"/>
                <a:ext cx="114120" cy="88920"/>
                <a:chOff x="1371240" y="5702400"/>
                <a:chExt cx="114120" cy="8892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138420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137124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1790280" y="5702400"/>
                <a:ext cx="114120" cy="88920"/>
                <a:chOff x="1790280" y="5702400"/>
                <a:chExt cx="114120" cy="8892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18032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17902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2704680" y="2590920"/>
            <a:ext cx="1344960" cy="4117680"/>
            <a:chOff x="2704680" y="2590920"/>
            <a:chExt cx="1344960" cy="4117680"/>
          </a:xfrm>
        </p:grpSpPr>
        <p:sp>
          <p:nvSpPr>
            <p:cNvPr id="2968" name=""/>
            <p:cNvSpPr/>
            <p:nvPr/>
          </p:nvSpPr>
          <p:spPr>
            <a:xfrm>
              <a:off x="2705040" y="6321600"/>
              <a:ext cx="1344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2704680" y="2590920"/>
              <a:ext cx="1143000" cy="3213000"/>
              <a:chOff x="2704680" y="2590920"/>
              <a:chExt cx="1143000" cy="3213000"/>
            </a:xfrm>
          </p:grpSpPr>
          <p:grpSp>
            <p:nvGrpSpPr>
              <p:cNvPr id="2970" name=""/>
              <p:cNvGrpSpPr/>
              <p:nvPr/>
            </p:nvGrpSpPr>
            <p:grpSpPr>
              <a:xfrm>
                <a:off x="2704680" y="2590920"/>
                <a:ext cx="114120" cy="88920"/>
                <a:chOff x="2704680" y="2590920"/>
                <a:chExt cx="114120" cy="889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1764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H="1">
                  <a:off x="270468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2704680" y="2959200"/>
                <a:ext cx="114120" cy="88920"/>
                <a:chOff x="2704680" y="2959200"/>
                <a:chExt cx="114120" cy="8892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27176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27046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2704680" y="3276720"/>
                <a:ext cx="114120" cy="88920"/>
                <a:chOff x="2704680" y="3276720"/>
                <a:chExt cx="114120" cy="889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27176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>
                  <a:off x="27046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3047760" y="3657600"/>
                <a:ext cx="114120" cy="88920"/>
                <a:chOff x="3047760" y="3657600"/>
                <a:chExt cx="114120" cy="8892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306072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304776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390480" y="3962520"/>
                <a:ext cx="114120" cy="88920"/>
                <a:chOff x="3390480" y="3962520"/>
                <a:chExt cx="114120" cy="8892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403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3390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3390480" y="4343400"/>
                <a:ext cx="114120" cy="88920"/>
                <a:chOff x="3390480" y="4343400"/>
                <a:chExt cx="114120" cy="8892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3403440" y="4343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3390480" y="4343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3733560" y="4648320"/>
                <a:ext cx="114120" cy="88920"/>
                <a:chOff x="3733560" y="4648320"/>
                <a:chExt cx="114120" cy="8892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37465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>
                  <a:off x="37335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3733560" y="5029200"/>
                <a:ext cx="114120" cy="88920"/>
                <a:chOff x="3733560" y="5029200"/>
                <a:chExt cx="114120" cy="889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374652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>
                  <a:off x="373356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33560" y="5334120"/>
                <a:ext cx="114120" cy="88920"/>
                <a:chOff x="3733560" y="5334120"/>
                <a:chExt cx="114120" cy="8892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74652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373356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3733560" y="5715000"/>
                <a:ext cx="114120" cy="88920"/>
                <a:chOff x="3733560" y="5715000"/>
                <a:chExt cx="114120" cy="889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3746520" y="57150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3733560" y="5715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DB9-9987-4AE1-878F-9D21102660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figure out exactly what gat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from logic to NAND/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minimum number of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changes to logic function could decr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to difficult to re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wir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new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with spares (few extra inverters and gates on every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E99-0D91-4E4D-962F-4EA7C0705D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3225960" y="3575160"/>
            <a:ext cx="2031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product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ach O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634000" y="1584360"/>
            <a:ext cx="3560400" cy="5263920"/>
            <a:chOff x="5634000" y="1584360"/>
            <a:chExt cx="3560400" cy="5263920"/>
          </a:xfrm>
        </p:grpSpPr>
        <p:sp>
          <p:nvSpPr>
            <p:cNvPr id="3002" name=""/>
            <p:cNvSpPr/>
            <p:nvPr/>
          </p:nvSpPr>
          <p:spPr>
            <a:xfrm>
              <a:off x="8422560" y="1786320"/>
              <a:ext cx="77184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34000" y="5101920"/>
              <a:ext cx="313776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83680" y="1816920"/>
              <a:ext cx="0" cy="42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48576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5248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11784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79924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89716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810840" y="2950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810840" y="31838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6804360" y="29448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921720" y="295812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21360" y="294516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682960" y="30733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41320" y="30733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6295680" y="3042720"/>
              <a:ext cx="97920" cy="48960"/>
              <a:chOff x="6295680" y="3042720"/>
              <a:chExt cx="97920" cy="48960"/>
            </a:xfrm>
          </p:grpSpPr>
          <p:sp>
            <p:nvSpPr>
              <p:cNvPr id="3018" name=""/>
              <p:cNvSpPr/>
              <p:nvPr/>
            </p:nvSpPr>
            <p:spPr>
              <a:xfrm>
                <a:off x="6307560" y="304272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295680" y="304272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64480" y="3042720"/>
              <a:ext cx="110160" cy="48960"/>
              <a:chOff x="5964480" y="3042720"/>
              <a:chExt cx="110160" cy="48960"/>
            </a:xfrm>
          </p:grpSpPr>
          <p:sp>
            <p:nvSpPr>
              <p:cNvPr id="3021" name=""/>
              <p:cNvSpPr/>
              <p:nvPr/>
            </p:nvSpPr>
            <p:spPr>
              <a:xfrm>
                <a:off x="5976720" y="304272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5964480" y="304272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 flipH="1">
              <a:off x="652860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43068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6418440" y="16761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6532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3472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10840" y="18601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810840" y="2092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804360" y="185328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21720" y="18676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21360" y="186660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682960" y="198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141320" y="1982160"/>
              <a:ext cx="122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10840" y="2141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10840" y="2362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804360" y="2135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921720" y="21495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921360" y="213624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682960" y="225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141320" y="225216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10840" y="24112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10840" y="26319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6804360" y="24055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921720" y="241920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921360" y="240588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682960" y="25218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41320" y="252180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6430320" y="2209320"/>
              <a:ext cx="109800" cy="73440"/>
              <a:chOff x="6430320" y="2209320"/>
              <a:chExt cx="109800" cy="73440"/>
            </a:xfrm>
          </p:grpSpPr>
          <p:sp>
            <p:nvSpPr>
              <p:cNvPr id="3050" name=""/>
              <p:cNvSpPr/>
              <p:nvPr/>
            </p:nvSpPr>
            <p:spPr>
              <a:xfrm>
                <a:off x="644256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>
                <a:off x="6430320" y="2209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2" name=""/>
            <p:cNvSpPr/>
            <p:nvPr/>
          </p:nvSpPr>
          <p:spPr>
            <a:xfrm flipH="1">
              <a:off x="629532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19776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H="1">
              <a:off x="618516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44640" y="1767960"/>
              <a:ext cx="2448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0216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51120" y="1792800"/>
              <a:ext cx="0" cy="42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6185160" y="2478960"/>
              <a:ext cx="110160" cy="73440"/>
              <a:chOff x="6185160" y="2478960"/>
              <a:chExt cx="110160" cy="73440"/>
            </a:xfrm>
          </p:grpSpPr>
          <p:sp>
            <p:nvSpPr>
              <p:cNvPr id="3059" name=""/>
              <p:cNvSpPr/>
              <p:nvPr/>
            </p:nvSpPr>
            <p:spPr>
              <a:xfrm>
                <a:off x="619740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618516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1" name=""/>
            <p:cNvSpPr/>
            <p:nvPr/>
          </p:nvSpPr>
          <p:spPr>
            <a:xfrm flipH="1">
              <a:off x="606240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96448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595260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1208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6888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1992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5964480" y="2209320"/>
              <a:ext cx="110160" cy="73440"/>
              <a:chOff x="5964480" y="2209320"/>
              <a:chExt cx="110160" cy="73440"/>
            </a:xfrm>
          </p:grpSpPr>
          <p:sp>
            <p:nvSpPr>
              <p:cNvPr id="3068" name=""/>
              <p:cNvSpPr/>
              <p:nvPr/>
            </p:nvSpPr>
            <p:spPr>
              <a:xfrm>
                <a:off x="597672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5964480" y="2209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964480" y="2478960"/>
              <a:ext cx="110160" cy="73440"/>
              <a:chOff x="5964480" y="2478960"/>
              <a:chExt cx="110160" cy="73440"/>
            </a:xfrm>
          </p:grpSpPr>
          <p:sp>
            <p:nvSpPr>
              <p:cNvPr id="3071" name=""/>
              <p:cNvSpPr/>
              <p:nvPr/>
            </p:nvSpPr>
            <p:spPr>
              <a:xfrm>
                <a:off x="597672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596448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5842440" y="1682280"/>
              <a:ext cx="856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74380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5731560" y="1676160"/>
              <a:ext cx="1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6656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84820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8" name=""/>
            <p:cNvGrpSpPr/>
            <p:nvPr/>
          </p:nvGrpSpPr>
          <p:grpSpPr>
            <a:xfrm>
              <a:off x="5731920" y="1939680"/>
              <a:ext cx="97920" cy="73440"/>
              <a:chOff x="5731920" y="1939680"/>
              <a:chExt cx="97920" cy="73440"/>
            </a:xfrm>
          </p:grpSpPr>
          <p:sp>
            <p:nvSpPr>
              <p:cNvPr id="3079" name=""/>
              <p:cNvSpPr/>
              <p:nvPr/>
            </p:nvSpPr>
            <p:spPr>
              <a:xfrm>
                <a:off x="5743800" y="193968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731920" y="193968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6810840" y="40417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810840" y="42620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6804360" y="403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921720" y="4049280"/>
              <a:ext cx="21888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921360" y="40356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82960" y="4151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141320" y="4151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964480" y="4121280"/>
              <a:ext cx="110160" cy="73440"/>
              <a:chOff x="5964480" y="4121280"/>
              <a:chExt cx="110160" cy="73440"/>
            </a:xfrm>
          </p:grpSpPr>
          <p:sp>
            <p:nvSpPr>
              <p:cNvPr id="3089" name=""/>
              <p:cNvSpPr/>
              <p:nvPr/>
            </p:nvSpPr>
            <p:spPr>
              <a:xfrm>
                <a:off x="5976720" y="41212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964480" y="41212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6810840" y="4311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810840" y="4531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804360" y="430524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921720" y="431892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921360" y="430524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682960" y="44215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141320" y="44215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6185160" y="4378680"/>
              <a:ext cx="110160" cy="73440"/>
              <a:chOff x="6185160" y="4378680"/>
              <a:chExt cx="110160" cy="73440"/>
            </a:xfrm>
          </p:grpSpPr>
          <p:sp>
            <p:nvSpPr>
              <p:cNvPr id="3099" name=""/>
              <p:cNvSpPr/>
              <p:nvPr/>
            </p:nvSpPr>
            <p:spPr>
              <a:xfrm>
                <a:off x="6197400" y="43786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6185160" y="43786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6810840" y="5107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810840" y="53532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6804360" y="51019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921720" y="51156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921360" y="511416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82960" y="52426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141320" y="52426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8" name=""/>
            <p:cNvGrpSpPr/>
            <p:nvPr/>
          </p:nvGrpSpPr>
          <p:grpSpPr>
            <a:xfrm>
              <a:off x="6430320" y="5199840"/>
              <a:ext cx="109800" cy="60840"/>
              <a:chOff x="6430320" y="5199840"/>
              <a:chExt cx="109800" cy="60840"/>
            </a:xfrm>
          </p:grpSpPr>
          <p:sp>
            <p:nvSpPr>
              <p:cNvPr id="3109" name=""/>
              <p:cNvSpPr/>
              <p:nvPr/>
            </p:nvSpPr>
            <p:spPr>
              <a:xfrm>
                <a:off x="6442560" y="519984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6430320" y="519984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1" name=""/>
            <p:cNvGrpSpPr/>
            <p:nvPr/>
          </p:nvGrpSpPr>
          <p:grpSpPr>
            <a:xfrm>
              <a:off x="6295680" y="5199840"/>
              <a:ext cx="97920" cy="60840"/>
              <a:chOff x="6295680" y="5199840"/>
              <a:chExt cx="97920" cy="60840"/>
            </a:xfrm>
          </p:grpSpPr>
          <p:sp>
            <p:nvSpPr>
              <p:cNvPr id="3112" name=""/>
              <p:cNvSpPr/>
              <p:nvPr/>
            </p:nvSpPr>
            <p:spPr>
              <a:xfrm>
                <a:off x="6307560" y="519984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6295680" y="519984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"/>
            <p:cNvGrpSpPr/>
            <p:nvPr/>
          </p:nvGrpSpPr>
          <p:grpSpPr>
            <a:xfrm>
              <a:off x="6075000" y="5199840"/>
              <a:ext cx="85680" cy="60840"/>
              <a:chOff x="6075000" y="5199840"/>
              <a:chExt cx="85680" cy="60840"/>
            </a:xfrm>
          </p:grpSpPr>
          <p:sp>
            <p:nvSpPr>
              <p:cNvPr id="3115" name=""/>
              <p:cNvSpPr/>
              <p:nvPr/>
            </p:nvSpPr>
            <p:spPr>
              <a:xfrm>
                <a:off x="6086880" y="519984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607500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5842440" y="5199840"/>
              <a:ext cx="85680" cy="60840"/>
              <a:chOff x="5842440" y="5199840"/>
              <a:chExt cx="85680" cy="60840"/>
            </a:xfrm>
          </p:grpSpPr>
          <p:sp>
            <p:nvSpPr>
              <p:cNvPr id="3118" name=""/>
              <p:cNvSpPr/>
              <p:nvPr/>
            </p:nvSpPr>
            <p:spPr>
              <a:xfrm>
                <a:off x="5854320" y="519984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584244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0" name=""/>
            <p:cNvSpPr/>
            <p:nvPr/>
          </p:nvSpPr>
          <p:spPr>
            <a:xfrm>
              <a:off x="6810840" y="537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810840" y="5610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6804360" y="537156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921720" y="538524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921360" y="537228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82960" y="54878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141320" y="54878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6430320" y="5469480"/>
              <a:ext cx="109800" cy="48960"/>
              <a:chOff x="6430320" y="5469480"/>
              <a:chExt cx="109800" cy="48960"/>
            </a:xfrm>
          </p:grpSpPr>
          <p:sp>
            <p:nvSpPr>
              <p:cNvPr id="3128" name=""/>
              <p:cNvSpPr/>
              <p:nvPr/>
            </p:nvSpPr>
            <p:spPr>
              <a:xfrm>
                <a:off x="644256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6430320" y="54694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6185160" y="5469480"/>
              <a:ext cx="110160" cy="48960"/>
              <a:chOff x="6185160" y="5469480"/>
              <a:chExt cx="110160" cy="48960"/>
            </a:xfrm>
          </p:grpSpPr>
          <p:sp>
            <p:nvSpPr>
              <p:cNvPr id="3131" name=""/>
              <p:cNvSpPr/>
              <p:nvPr/>
            </p:nvSpPr>
            <p:spPr>
              <a:xfrm>
                <a:off x="619740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618516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5964480" y="5469480"/>
              <a:ext cx="110160" cy="48960"/>
              <a:chOff x="5964480" y="5469480"/>
              <a:chExt cx="110160" cy="48960"/>
            </a:xfrm>
          </p:grpSpPr>
          <p:sp>
            <p:nvSpPr>
              <p:cNvPr id="3134" name=""/>
              <p:cNvSpPr/>
              <p:nvPr/>
            </p:nvSpPr>
            <p:spPr>
              <a:xfrm>
                <a:off x="597672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596448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6810840" y="564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810840" y="58802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04360" y="56412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921720" y="56548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921360" y="56412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682960" y="57697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141320" y="57697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6540840" y="5726880"/>
              <a:ext cx="85680" cy="60840"/>
              <a:chOff x="6540840" y="5726880"/>
              <a:chExt cx="85680" cy="60840"/>
            </a:xfrm>
          </p:grpSpPr>
          <p:sp>
            <p:nvSpPr>
              <p:cNvPr id="3144" name=""/>
              <p:cNvSpPr/>
              <p:nvPr/>
            </p:nvSpPr>
            <p:spPr>
              <a:xfrm>
                <a:off x="6553080" y="572688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>
                <a:off x="6540840" y="572688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5731920" y="5726880"/>
              <a:ext cx="97920" cy="60840"/>
              <a:chOff x="5731920" y="5726880"/>
              <a:chExt cx="97920" cy="60840"/>
            </a:xfrm>
          </p:grpSpPr>
          <p:sp>
            <p:nvSpPr>
              <p:cNvPr id="3147" name=""/>
              <p:cNvSpPr/>
              <p:nvPr/>
            </p:nvSpPr>
            <p:spPr>
              <a:xfrm>
                <a:off x="5743800" y="572688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5731920" y="572688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6810840" y="59043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10840" y="6137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804360" y="58986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921720" y="591228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921360" y="591084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682960" y="6014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141320" y="6014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6" name=""/>
            <p:cNvGrpSpPr/>
            <p:nvPr/>
          </p:nvGrpSpPr>
          <p:grpSpPr>
            <a:xfrm>
              <a:off x="6540840" y="5996520"/>
              <a:ext cx="85680" cy="60840"/>
              <a:chOff x="6540840" y="5996520"/>
              <a:chExt cx="85680" cy="60840"/>
            </a:xfrm>
          </p:grpSpPr>
          <p:sp>
            <p:nvSpPr>
              <p:cNvPr id="3157" name=""/>
              <p:cNvSpPr/>
              <p:nvPr/>
            </p:nvSpPr>
            <p:spPr>
              <a:xfrm>
                <a:off x="6553080" y="599652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654084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6185160" y="5996520"/>
              <a:ext cx="110160" cy="60840"/>
              <a:chOff x="6185160" y="5996520"/>
              <a:chExt cx="110160" cy="60840"/>
            </a:xfrm>
          </p:grpSpPr>
          <p:sp>
            <p:nvSpPr>
              <p:cNvPr id="3160" name=""/>
              <p:cNvSpPr/>
              <p:nvPr/>
            </p:nvSpPr>
            <p:spPr>
              <a:xfrm>
                <a:off x="6197400" y="599652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>
                <a:off x="6185160" y="599652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6075000" y="5996520"/>
              <a:ext cx="85680" cy="60840"/>
              <a:chOff x="6075000" y="5996520"/>
              <a:chExt cx="85680" cy="60840"/>
            </a:xfrm>
          </p:grpSpPr>
          <p:sp>
            <p:nvSpPr>
              <p:cNvPr id="3163" name=""/>
              <p:cNvSpPr/>
              <p:nvPr/>
            </p:nvSpPr>
            <p:spPr>
              <a:xfrm>
                <a:off x="6086880" y="599652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>
                <a:off x="607500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7343640" y="1829160"/>
              <a:ext cx="0" cy="43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6" name=""/>
            <p:cNvGrpSpPr/>
            <p:nvPr/>
          </p:nvGrpSpPr>
          <p:grpSpPr>
            <a:xfrm>
              <a:off x="7239960" y="5751720"/>
              <a:ext cx="232560" cy="783360"/>
              <a:chOff x="7239960" y="5751720"/>
              <a:chExt cx="232560" cy="783360"/>
            </a:xfrm>
          </p:grpSpPr>
          <p:sp>
            <p:nvSpPr>
              <p:cNvPr id="3167" name=""/>
              <p:cNvSpPr/>
              <p:nvPr/>
            </p:nvSpPr>
            <p:spPr>
              <a:xfrm>
                <a:off x="7251480" y="605772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996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3280" y="5788800"/>
                <a:ext cx="21924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532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4328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7625880" y="2932200"/>
              <a:ext cx="0" cy="32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7521840" y="5751720"/>
              <a:ext cx="232560" cy="783360"/>
              <a:chOff x="7521840" y="5751720"/>
              <a:chExt cx="232560" cy="783360"/>
            </a:xfrm>
          </p:grpSpPr>
          <p:sp>
            <p:nvSpPr>
              <p:cNvPr id="3174" name=""/>
              <p:cNvSpPr/>
              <p:nvPr/>
            </p:nvSpPr>
            <p:spPr>
              <a:xfrm>
                <a:off x="753336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1840" y="5751720"/>
                <a:ext cx="23148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522920" y="5788800"/>
                <a:ext cx="23148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522920" y="6057720"/>
                <a:ext cx="23148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625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7895520" y="4084560"/>
              <a:ext cx="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7791120" y="5751720"/>
              <a:ext cx="246600" cy="783360"/>
              <a:chOff x="7791120" y="5751720"/>
              <a:chExt cx="246600" cy="783360"/>
            </a:xfrm>
          </p:grpSpPr>
          <p:sp>
            <p:nvSpPr>
              <p:cNvPr id="3181" name=""/>
              <p:cNvSpPr/>
              <p:nvPr/>
            </p:nvSpPr>
            <p:spPr>
              <a:xfrm>
                <a:off x="78040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91120" y="5751720"/>
                <a:ext cx="23220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804800" y="5788800"/>
                <a:ext cx="23292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804800" y="6057720"/>
                <a:ext cx="2329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89516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6" name=""/>
            <p:cNvSpPr/>
            <p:nvPr/>
          </p:nvSpPr>
          <p:spPr>
            <a:xfrm>
              <a:off x="8201880" y="5126400"/>
              <a:ext cx="0" cy="10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8085600" y="5751720"/>
              <a:ext cx="233280" cy="783360"/>
              <a:chOff x="8085600" y="5751720"/>
              <a:chExt cx="233280" cy="783360"/>
            </a:xfrm>
          </p:grpSpPr>
          <p:sp>
            <p:nvSpPr>
              <p:cNvPr id="3188" name=""/>
              <p:cNvSpPr/>
              <p:nvPr/>
            </p:nvSpPr>
            <p:spPr>
              <a:xfrm>
                <a:off x="8097840" y="6057720"/>
                <a:ext cx="20700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08560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098920" y="5788800"/>
                <a:ext cx="21996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09892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01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3" name=""/>
            <p:cNvSpPr/>
            <p:nvPr/>
          </p:nvSpPr>
          <p:spPr>
            <a:xfrm>
              <a:off x="6810840" y="32328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810840" y="34534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804360" y="32263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921720" y="32403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921360" y="323928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682960" y="33429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141320" y="33429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10840" y="26809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810840" y="2901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804360" y="267516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921720" y="268884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921360" y="267552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682960" y="27914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141320" y="27914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810840" y="35024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810840" y="3735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6804360" y="349560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921720" y="35100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921360" y="350856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682960" y="36126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141320" y="36126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810840" y="3772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810840" y="4004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804360" y="376524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921720" y="377964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921360" y="377820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682960" y="38944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141320" y="38944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810840" y="45687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810840" y="4789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V="1">
              <a:off x="6804360" y="456192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921720" y="457632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921360" y="457488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682960" y="46792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141320" y="46792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10840" y="48384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810840" y="5083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6804360" y="48322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21720" y="484596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921360" y="484452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682960" y="49485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41320" y="49485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634000" y="1841760"/>
              <a:ext cx="1838520" cy="109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634000" y="2932200"/>
              <a:ext cx="21448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634000" y="4011120"/>
              <a:ext cx="24022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5731920" y="2773080"/>
              <a:ext cx="97920" cy="48960"/>
              <a:chOff x="5731920" y="2773080"/>
              <a:chExt cx="97920" cy="48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574380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573192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5842440" y="2773080"/>
              <a:ext cx="85680" cy="48960"/>
              <a:chOff x="5842440" y="2773080"/>
              <a:chExt cx="85680" cy="48960"/>
            </a:xfrm>
          </p:grpSpPr>
          <p:sp>
            <p:nvSpPr>
              <p:cNvPr id="3242" name=""/>
              <p:cNvSpPr/>
              <p:nvPr/>
            </p:nvSpPr>
            <p:spPr>
              <a:xfrm>
                <a:off x="585432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8424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5964480" y="2773080"/>
              <a:ext cx="110160" cy="48960"/>
              <a:chOff x="5964480" y="2773080"/>
              <a:chExt cx="110160" cy="48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597672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596448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6075000" y="2773080"/>
              <a:ext cx="85680" cy="48960"/>
              <a:chOff x="6075000" y="2773080"/>
              <a:chExt cx="85680" cy="48960"/>
            </a:xfrm>
          </p:grpSpPr>
          <p:sp>
            <p:nvSpPr>
              <p:cNvPr id="3248" name=""/>
              <p:cNvSpPr/>
              <p:nvPr/>
            </p:nvSpPr>
            <p:spPr>
              <a:xfrm>
                <a:off x="6086880" y="2773080"/>
                <a:ext cx="612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>
                <a:off x="607500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6185160" y="2773080"/>
              <a:ext cx="110160" cy="48960"/>
              <a:chOff x="6185160" y="2773080"/>
              <a:chExt cx="110160" cy="48960"/>
            </a:xfrm>
          </p:grpSpPr>
          <p:sp>
            <p:nvSpPr>
              <p:cNvPr id="3251" name=""/>
              <p:cNvSpPr/>
              <p:nvPr/>
            </p:nvSpPr>
            <p:spPr>
              <a:xfrm>
                <a:off x="619740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>
                <a:off x="618516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6295680" y="2773080"/>
              <a:ext cx="97920" cy="48960"/>
              <a:chOff x="6295680" y="2773080"/>
              <a:chExt cx="97920" cy="48960"/>
            </a:xfrm>
          </p:grpSpPr>
          <p:sp>
            <p:nvSpPr>
              <p:cNvPr id="3254" name=""/>
              <p:cNvSpPr/>
              <p:nvPr/>
            </p:nvSpPr>
            <p:spPr>
              <a:xfrm>
                <a:off x="630756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629568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6430320" y="2773080"/>
              <a:ext cx="109800" cy="48960"/>
              <a:chOff x="6430320" y="2773080"/>
              <a:chExt cx="109800" cy="48960"/>
            </a:xfrm>
          </p:grpSpPr>
          <p:sp>
            <p:nvSpPr>
              <p:cNvPr id="3257" name=""/>
              <p:cNvSpPr/>
              <p:nvPr/>
            </p:nvSpPr>
            <p:spPr>
              <a:xfrm>
                <a:off x="644256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>
                <a:off x="6430320" y="27730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6540840" y="2773080"/>
              <a:ext cx="85680" cy="48960"/>
              <a:chOff x="6540840" y="2773080"/>
              <a:chExt cx="85680" cy="48960"/>
            </a:xfrm>
          </p:grpSpPr>
          <p:sp>
            <p:nvSpPr>
              <p:cNvPr id="3260" name=""/>
              <p:cNvSpPr/>
              <p:nvPr/>
            </p:nvSpPr>
            <p:spPr>
              <a:xfrm>
                <a:off x="655308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>
                <a:off x="65408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7313040" y="1951920"/>
              <a:ext cx="7344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313040" y="223380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313040" y="250344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13040" y="277308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520" y="30427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07520" y="332460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607520" y="359424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607520" y="3876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877160" y="412128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77160" y="440316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77160" y="464832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877160" y="494244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95760" y="52120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95760" y="54694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95760" y="5739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95760" y="5996520"/>
              <a:ext cx="48960" cy="6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"/>
            <p:cNvGrpSpPr/>
            <p:nvPr/>
          </p:nvGrpSpPr>
          <p:grpSpPr>
            <a:xfrm>
              <a:off x="5731920" y="3312360"/>
              <a:ext cx="97920" cy="73440"/>
              <a:chOff x="5731920" y="3312360"/>
              <a:chExt cx="97920" cy="73440"/>
            </a:xfrm>
          </p:grpSpPr>
          <p:sp>
            <p:nvSpPr>
              <p:cNvPr id="3279" name=""/>
              <p:cNvSpPr/>
              <p:nvPr/>
            </p:nvSpPr>
            <p:spPr>
              <a:xfrm>
                <a:off x="574380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573192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842440" y="3312360"/>
              <a:ext cx="85680" cy="73440"/>
              <a:chOff x="5842440" y="3312360"/>
              <a:chExt cx="85680" cy="73440"/>
            </a:xfrm>
          </p:grpSpPr>
          <p:sp>
            <p:nvSpPr>
              <p:cNvPr id="3282" name=""/>
              <p:cNvSpPr/>
              <p:nvPr/>
            </p:nvSpPr>
            <p:spPr>
              <a:xfrm>
                <a:off x="585432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58424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964480" y="3312360"/>
              <a:ext cx="110160" cy="73440"/>
              <a:chOff x="5964480" y="3312360"/>
              <a:chExt cx="110160" cy="73440"/>
            </a:xfrm>
          </p:grpSpPr>
          <p:sp>
            <p:nvSpPr>
              <p:cNvPr id="3285" name=""/>
              <p:cNvSpPr/>
              <p:nvPr/>
            </p:nvSpPr>
            <p:spPr>
              <a:xfrm>
                <a:off x="597672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596448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075000" y="3312360"/>
              <a:ext cx="85680" cy="73440"/>
              <a:chOff x="6075000" y="3312360"/>
              <a:chExt cx="85680" cy="73440"/>
            </a:xfrm>
          </p:grpSpPr>
          <p:sp>
            <p:nvSpPr>
              <p:cNvPr id="3288" name=""/>
              <p:cNvSpPr/>
              <p:nvPr/>
            </p:nvSpPr>
            <p:spPr>
              <a:xfrm>
                <a:off x="6086880" y="331236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607500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0" name=""/>
            <p:cNvGrpSpPr/>
            <p:nvPr/>
          </p:nvGrpSpPr>
          <p:grpSpPr>
            <a:xfrm>
              <a:off x="6185160" y="3312360"/>
              <a:ext cx="110160" cy="73440"/>
              <a:chOff x="6185160" y="3312360"/>
              <a:chExt cx="110160" cy="73440"/>
            </a:xfrm>
          </p:grpSpPr>
          <p:sp>
            <p:nvSpPr>
              <p:cNvPr id="3291" name=""/>
              <p:cNvSpPr/>
              <p:nvPr/>
            </p:nvSpPr>
            <p:spPr>
              <a:xfrm>
                <a:off x="619740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618516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3" name=""/>
            <p:cNvGrpSpPr/>
            <p:nvPr/>
          </p:nvGrpSpPr>
          <p:grpSpPr>
            <a:xfrm>
              <a:off x="6295680" y="3312360"/>
              <a:ext cx="97920" cy="73440"/>
              <a:chOff x="6295680" y="3312360"/>
              <a:chExt cx="97920" cy="73440"/>
            </a:xfrm>
          </p:grpSpPr>
          <p:sp>
            <p:nvSpPr>
              <p:cNvPr id="3294" name=""/>
              <p:cNvSpPr/>
              <p:nvPr/>
            </p:nvSpPr>
            <p:spPr>
              <a:xfrm>
                <a:off x="630756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629568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6430320" y="3312360"/>
              <a:ext cx="109800" cy="73440"/>
              <a:chOff x="6430320" y="3312360"/>
              <a:chExt cx="109800" cy="73440"/>
            </a:xfrm>
          </p:grpSpPr>
          <p:sp>
            <p:nvSpPr>
              <p:cNvPr id="3297" name=""/>
              <p:cNvSpPr/>
              <p:nvPr/>
            </p:nvSpPr>
            <p:spPr>
              <a:xfrm>
                <a:off x="644256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6430320" y="331236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6540840" y="3312360"/>
              <a:ext cx="85680" cy="73440"/>
              <a:chOff x="6540840" y="3312360"/>
              <a:chExt cx="85680" cy="73440"/>
            </a:xfrm>
          </p:grpSpPr>
          <p:sp>
            <p:nvSpPr>
              <p:cNvPr id="3300" name=""/>
              <p:cNvSpPr/>
              <p:nvPr/>
            </p:nvSpPr>
            <p:spPr>
              <a:xfrm>
                <a:off x="655308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65408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5731920" y="3582000"/>
              <a:ext cx="97920" cy="73440"/>
              <a:chOff x="5731920" y="3582000"/>
              <a:chExt cx="97920" cy="73440"/>
            </a:xfrm>
          </p:grpSpPr>
          <p:sp>
            <p:nvSpPr>
              <p:cNvPr id="3303" name=""/>
              <p:cNvSpPr/>
              <p:nvPr/>
            </p:nvSpPr>
            <p:spPr>
              <a:xfrm>
                <a:off x="574380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H="1">
                <a:off x="573192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842440" y="3582000"/>
              <a:ext cx="85680" cy="73440"/>
              <a:chOff x="5842440" y="3582000"/>
              <a:chExt cx="85680" cy="734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85432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58424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8" name=""/>
            <p:cNvGrpSpPr/>
            <p:nvPr/>
          </p:nvGrpSpPr>
          <p:grpSpPr>
            <a:xfrm>
              <a:off x="5964480" y="3582000"/>
              <a:ext cx="110160" cy="73440"/>
              <a:chOff x="5964480" y="3582000"/>
              <a:chExt cx="110160" cy="73440"/>
            </a:xfrm>
          </p:grpSpPr>
          <p:sp>
            <p:nvSpPr>
              <p:cNvPr id="3309" name=""/>
              <p:cNvSpPr/>
              <p:nvPr/>
            </p:nvSpPr>
            <p:spPr>
              <a:xfrm>
                <a:off x="597672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H="1">
                <a:off x="596448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1" name=""/>
            <p:cNvGrpSpPr/>
            <p:nvPr/>
          </p:nvGrpSpPr>
          <p:grpSpPr>
            <a:xfrm>
              <a:off x="6075000" y="3582000"/>
              <a:ext cx="85680" cy="73440"/>
              <a:chOff x="6075000" y="3582000"/>
              <a:chExt cx="85680" cy="73440"/>
            </a:xfrm>
          </p:grpSpPr>
          <p:sp>
            <p:nvSpPr>
              <p:cNvPr id="3312" name=""/>
              <p:cNvSpPr/>
              <p:nvPr/>
            </p:nvSpPr>
            <p:spPr>
              <a:xfrm>
                <a:off x="6086880" y="358200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607500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"/>
            <p:cNvGrpSpPr/>
            <p:nvPr/>
          </p:nvGrpSpPr>
          <p:grpSpPr>
            <a:xfrm>
              <a:off x="6185160" y="3582000"/>
              <a:ext cx="110160" cy="73440"/>
              <a:chOff x="6185160" y="3582000"/>
              <a:chExt cx="110160" cy="73440"/>
            </a:xfrm>
          </p:grpSpPr>
          <p:sp>
            <p:nvSpPr>
              <p:cNvPr id="3315" name=""/>
              <p:cNvSpPr/>
              <p:nvPr/>
            </p:nvSpPr>
            <p:spPr>
              <a:xfrm>
                <a:off x="619740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H="1">
                <a:off x="618516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7" name=""/>
            <p:cNvGrpSpPr/>
            <p:nvPr/>
          </p:nvGrpSpPr>
          <p:grpSpPr>
            <a:xfrm>
              <a:off x="6295680" y="3582000"/>
              <a:ext cx="97920" cy="73440"/>
              <a:chOff x="6295680" y="3582000"/>
              <a:chExt cx="97920" cy="73440"/>
            </a:xfrm>
          </p:grpSpPr>
          <p:sp>
            <p:nvSpPr>
              <p:cNvPr id="3318" name=""/>
              <p:cNvSpPr/>
              <p:nvPr/>
            </p:nvSpPr>
            <p:spPr>
              <a:xfrm>
                <a:off x="630756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629568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6430320" y="3582000"/>
              <a:ext cx="109800" cy="73440"/>
              <a:chOff x="6430320" y="3582000"/>
              <a:chExt cx="109800" cy="73440"/>
            </a:xfrm>
          </p:grpSpPr>
          <p:sp>
            <p:nvSpPr>
              <p:cNvPr id="3321" name=""/>
              <p:cNvSpPr/>
              <p:nvPr/>
            </p:nvSpPr>
            <p:spPr>
              <a:xfrm>
                <a:off x="644256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6430320" y="358200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6540840" y="3582000"/>
              <a:ext cx="85680" cy="73440"/>
              <a:chOff x="6540840" y="3582000"/>
              <a:chExt cx="85680" cy="73440"/>
            </a:xfrm>
          </p:grpSpPr>
          <p:sp>
            <p:nvSpPr>
              <p:cNvPr id="3324" name=""/>
              <p:cNvSpPr/>
              <p:nvPr/>
            </p:nvSpPr>
            <p:spPr>
              <a:xfrm>
                <a:off x="655308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>
                <a:off x="65408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5731920" y="3851640"/>
              <a:ext cx="97920" cy="73440"/>
              <a:chOff x="5731920" y="3851640"/>
              <a:chExt cx="97920" cy="73440"/>
            </a:xfrm>
          </p:grpSpPr>
          <p:sp>
            <p:nvSpPr>
              <p:cNvPr id="3327" name=""/>
              <p:cNvSpPr/>
              <p:nvPr/>
            </p:nvSpPr>
            <p:spPr>
              <a:xfrm>
                <a:off x="574380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573192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5842440" y="3851640"/>
              <a:ext cx="85680" cy="73440"/>
              <a:chOff x="5842440" y="3851640"/>
              <a:chExt cx="85680" cy="73440"/>
            </a:xfrm>
          </p:grpSpPr>
          <p:sp>
            <p:nvSpPr>
              <p:cNvPr id="3330" name=""/>
              <p:cNvSpPr/>
              <p:nvPr/>
            </p:nvSpPr>
            <p:spPr>
              <a:xfrm>
                <a:off x="585432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8424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"/>
            <p:cNvGrpSpPr/>
            <p:nvPr/>
          </p:nvGrpSpPr>
          <p:grpSpPr>
            <a:xfrm>
              <a:off x="5964480" y="3851640"/>
              <a:ext cx="110160" cy="73440"/>
              <a:chOff x="5964480" y="3851640"/>
              <a:chExt cx="110160" cy="73440"/>
            </a:xfrm>
          </p:grpSpPr>
          <p:sp>
            <p:nvSpPr>
              <p:cNvPr id="3333" name=""/>
              <p:cNvSpPr/>
              <p:nvPr/>
            </p:nvSpPr>
            <p:spPr>
              <a:xfrm>
                <a:off x="597672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596448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6075000" y="3851640"/>
              <a:ext cx="85680" cy="73440"/>
              <a:chOff x="6075000" y="3851640"/>
              <a:chExt cx="85680" cy="73440"/>
            </a:xfrm>
          </p:grpSpPr>
          <p:sp>
            <p:nvSpPr>
              <p:cNvPr id="3336" name=""/>
              <p:cNvSpPr/>
              <p:nvPr/>
            </p:nvSpPr>
            <p:spPr>
              <a:xfrm>
                <a:off x="6086880" y="385164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07500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8" name=""/>
            <p:cNvGrpSpPr/>
            <p:nvPr/>
          </p:nvGrpSpPr>
          <p:grpSpPr>
            <a:xfrm>
              <a:off x="6185160" y="3851640"/>
              <a:ext cx="110160" cy="73440"/>
              <a:chOff x="6185160" y="3851640"/>
              <a:chExt cx="110160" cy="73440"/>
            </a:xfrm>
          </p:grpSpPr>
          <p:sp>
            <p:nvSpPr>
              <p:cNvPr id="3339" name=""/>
              <p:cNvSpPr/>
              <p:nvPr/>
            </p:nvSpPr>
            <p:spPr>
              <a:xfrm>
                <a:off x="619740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18516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"/>
            <p:cNvGrpSpPr/>
            <p:nvPr/>
          </p:nvGrpSpPr>
          <p:grpSpPr>
            <a:xfrm>
              <a:off x="6295680" y="3851640"/>
              <a:ext cx="97920" cy="73440"/>
              <a:chOff x="6295680" y="3851640"/>
              <a:chExt cx="97920" cy="73440"/>
            </a:xfrm>
          </p:grpSpPr>
          <p:sp>
            <p:nvSpPr>
              <p:cNvPr id="3342" name=""/>
              <p:cNvSpPr/>
              <p:nvPr/>
            </p:nvSpPr>
            <p:spPr>
              <a:xfrm>
                <a:off x="630756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29568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4" name=""/>
            <p:cNvGrpSpPr/>
            <p:nvPr/>
          </p:nvGrpSpPr>
          <p:grpSpPr>
            <a:xfrm>
              <a:off x="6430320" y="3851640"/>
              <a:ext cx="109800" cy="73440"/>
              <a:chOff x="6430320" y="3851640"/>
              <a:chExt cx="109800" cy="73440"/>
            </a:xfrm>
          </p:grpSpPr>
          <p:sp>
            <p:nvSpPr>
              <p:cNvPr id="3345" name=""/>
              <p:cNvSpPr/>
              <p:nvPr/>
            </p:nvSpPr>
            <p:spPr>
              <a:xfrm>
                <a:off x="644256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30320" y="385164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7" name=""/>
            <p:cNvGrpSpPr/>
            <p:nvPr/>
          </p:nvGrpSpPr>
          <p:grpSpPr>
            <a:xfrm>
              <a:off x="6540840" y="3851640"/>
              <a:ext cx="85680" cy="73440"/>
              <a:chOff x="6540840" y="3851640"/>
              <a:chExt cx="85680" cy="73440"/>
            </a:xfrm>
          </p:grpSpPr>
          <p:sp>
            <p:nvSpPr>
              <p:cNvPr id="3348" name=""/>
              <p:cNvSpPr/>
              <p:nvPr/>
            </p:nvSpPr>
            <p:spPr>
              <a:xfrm>
                <a:off x="655308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5408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0" name=""/>
            <p:cNvGrpSpPr/>
            <p:nvPr/>
          </p:nvGrpSpPr>
          <p:grpSpPr>
            <a:xfrm>
              <a:off x="5731920" y="4648320"/>
              <a:ext cx="97920" cy="73440"/>
              <a:chOff x="5731920" y="4648320"/>
              <a:chExt cx="97920" cy="73440"/>
            </a:xfrm>
          </p:grpSpPr>
          <p:sp>
            <p:nvSpPr>
              <p:cNvPr id="3351" name=""/>
              <p:cNvSpPr/>
              <p:nvPr/>
            </p:nvSpPr>
            <p:spPr>
              <a:xfrm>
                <a:off x="574380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573192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842440" y="4648320"/>
              <a:ext cx="85680" cy="73440"/>
              <a:chOff x="5842440" y="4648320"/>
              <a:chExt cx="85680" cy="73440"/>
            </a:xfrm>
          </p:grpSpPr>
          <p:sp>
            <p:nvSpPr>
              <p:cNvPr id="3354" name=""/>
              <p:cNvSpPr/>
              <p:nvPr/>
            </p:nvSpPr>
            <p:spPr>
              <a:xfrm>
                <a:off x="585432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58424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964480" y="4648320"/>
              <a:ext cx="110160" cy="73440"/>
              <a:chOff x="5964480" y="4648320"/>
              <a:chExt cx="110160" cy="73440"/>
            </a:xfrm>
          </p:grpSpPr>
          <p:sp>
            <p:nvSpPr>
              <p:cNvPr id="3357" name=""/>
              <p:cNvSpPr/>
              <p:nvPr/>
            </p:nvSpPr>
            <p:spPr>
              <a:xfrm>
                <a:off x="597672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596448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6075000" y="4648320"/>
              <a:ext cx="85680" cy="73440"/>
              <a:chOff x="6075000" y="4648320"/>
              <a:chExt cx="85680" cy="73440"/>
            </a:xfrm>
          </p:grpSpPr>
          <p:sp>
            <p:nvSpPr>
              <p:cNvPr id="3360" name=""/>
              <p:cNvSpPr/>
              <p:nvPr/>
            </p:nvSpPr>
            <p:spPr>
              <a:xfrm>
                <a:off x="6086880" y="464832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607500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6185160" y="4648320"/>
              <a:ext cx="110160" cy="73440"/>
              <a:chOff x="6185160" y="4648320"/>
              <a:chExt cx="110160" cy="73440"/>
            </a:xfrm>
          </p:grpSpPr>
          <p:sp>
            <p:nvSpPr>
              <p:cNvPr id="3363" name=""/>
              <p:cNvSpPr/>
              <p:nvPr/>
            </p:nvSpPr>
            <p:spPr>
              <a:xfrm>
                <a:off x="619740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618516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295680" y="4648320"/>
              <a:ext cx="97920" cy="73440"/>
              <a:chOff x="6295680" y="4648320"/>
              <a:chExt cx="97920" cy="73440"/>
            </a:xfrm>
          </p:grpSpPr>
          <p:sp>
            <p:nvSpPr>
              <p:cNvPr id="3366" name=""/>
              <p:cNvSpPr/>
              <p:nvPr/>
            </p:nvSpPr>
            <p:spPr>
              <a:xfrm>
                <a:off x="630756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629568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430320" y="4648320"/>
              <a:ext cx="109800" cy="73440"/>
              <a:chOff x="6430320" y="4648320"/>
              <a:chExt cx="109800" cy="73440"/>
            </a:xfrm>
          </p:grpSpPr>
          <p:sp>
            <p:nvSpPr>
              <p:cNvPr id="3369" name=""/>
              <p:cNvSpPr/>
              <p:nvPr/>
            </p:nvSpPr>
            <p:spPr>
              <a:xfrm>
                <a:off x="644256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430320" y="4648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40840" y="4648320"/>
              <a:ext cx="85680" cy="73440"/>
              <a:chOff x="6540840" y="4648320"/>
              <a:chExt cx="85680" cy="7344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5308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>
                <a:off x="65408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731920" y="4930200"/>
              <a:ext cx="97920" cy="60840"/>
              <a:chOff x="5731920" y="4930200"/>
              <a:chExt cx="97920" cy="60840"/>
            </a:xfrm>
          </p:grpSpPr>
          <p:sp>
            <p:nvSpPr>
              <p:cNvPr id="3375" name=""/>
              <p:cNvSpPr/>
              <p:nvPr/>
            </p:nvSpPr>
            <p:spPr>
              <a:xfrm>
                <a:off x="574380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573192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842440" y="4930200"/>
              <a:ext cx="85680" cy="60840"/>
              <a:chOff x="5842440" y="4930200"/>
              <a:chExt cx="85680" cy="60840"/>
            </a:xfrm>
          </p:grpSpPr>
          <p:sp>
            <p:nvSpPr>
              <p:cNvPr id="3378" name=""/>
              <p:cNvSpPr/>
              <p:nvPr/>
            </p:nvSpPr>
            <p:spPr>
              <a:xfrm>
                <a:off x="585432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58424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964480" y="4930200"/>
              <a:ext cx="110160" cy="60840"/>
              <a:chOff x="5964480" y="4930200"/>
              <a:chExt cx="110160" cy="60840"/>
            </a:xfrm>
          </p:grpSpPr>
          <p:sp>
            <p:nvSpPr>
              <p:cNvPr id="3381" name=""/>
              <p:cNvSpPr/>
              <p:nvPr/>
            </p:nvSpPr>
            <p:spPr>
              <a:xfrm>
                <a:off x="597672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596448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6075000" y="4930200"/>
              <a:ext cx="85680" cy="60840"/>
              <a:chOff x="6075000" y="4930200"/>
              <a:chExt cx="85680" cy="60840"/>
            </a:xfrm>
          </p:grpSpPr>
          <p:sp>
            <p:nvSpPr>
              <p:cNvPr id="3384" name=""/>
              <p:cNvSpPr/>
              <p:nvPr/>
            </p:nvSpPr>
            <p:spPr>
              <a:xfrm>
                <a:off x="6086880" y="493020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607500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6185160" y="4930200"/>
              <a:ext cx="110160" cy="60840"/>
              <a:chOff x="6185160" y="4930200"/>
              <a:chExt cx="110160" cy="60840"/>
            </a:xfrm>
          </p:grpSpPr>
          <p:sp>
            <p:nvSpPr>
              <p:cNvPr id="3387" name=""/>
              <p:cNvSpPr/>
              <p:nvPr/>
            </p:nvSpPr>
            <p:spPr>
              <a:xfrm>
                <a:off x="619740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618516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295680" y="4930200"/>
              <a:ext cx="97920" cy="60840"/>
              <a:chOff x="6295680" y="4930200"/>
              <a:chExt cx="97920" cy="60840"/>
            </a:xfrm>
          </p:grpSpPr>
          <p:sp>
            <p:nvSpPr>
              <p:cNvPr id="3390" name=""/>
              <p:cNvSpPr/>
              <p:nvPr/>
            </p:nvSpPr>
            <p:spPr>
              <a:xfrm>
                <a:off x="630756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629568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6430320" y="4930200"/>
              <a:ext cx="109800" cy="60840"/>
              <a:chOff x="6430320" y="4930200"/>
              <a:chExt cx="109800" cy="60840"/>
            </a:xfrm>
          </p:grpSpPr>
          <p:sp>
            <p:nvSpPr>
              <p:cNvPr id="3393" name=""/>
              <p:cNvSpPr/>
              <p:nvPr/>
            </p:nvSpPr>
            <p:spPr>
              <a:xfrm>
                <a:off x="644256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>
                <a:off x="6430320" y="493020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6540840" y="4930200"/>
              <a:ext cx="85680" cy="60840"/>
              <a:chOff x="6540840" y="4930200"/>
              <a:chExt cx="85680" cy="60840"/>
            </a:xfrm>
          </p:grpSpPr>
          <p:sp>
            <p:nvSpPr>
              <p:cNvPr id="3396" name=""/>
              <p:cNvSpPr/>
              <p:nvPr/>
            </p:nvSpPr>
            <p:spPr>
              <a:xfrm>
                <a:off x="655308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65408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7245720" y="6456240"/>
              <a:ext cx="1348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9" name=""/>
          <p:cNvSpPr/>
          <p:nvPr/>
        </p:nvSpPr>
        <p:spPr>
          <a:xfrm>
            <a:off x="5710320" y="1290600"/>
            <a:ext cx="14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79360"/>
                <a:tab algn="l" pos="5716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DEC-E736-436A-BC9F-C282AE4B6B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2724480" y="3468600"/>
            <a:ext cx="1345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295800" y="3494160"/>
            <a:ext cx="2152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724480" y="3441600"/>
            <a:ext cx="13456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295440" y="3454560"/>
            <a:ext cx="2156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40992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08400" y="34416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308400" y="3809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898640" y="290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1898640" y="308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892160" y="290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178000" y="30607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98640" y="343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898640" y="387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1892160" y="3441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40560" y="34434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140200" y="34164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58444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898640" y="3994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98640" y="445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1892160" y="4000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140560" y="400212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140200" y="3987720"/>
            <a:ext cx="443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584440" y="4191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660760" y="4844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660760" y="5289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54280" y="4851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902680" y="4853160"/>
            <a:ext cx="4305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902320" y="4826160"/>
            <a:ext cx="4309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3336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00160" y="497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000160" y="515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994040" y="497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898640" y="51307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879720" y="488952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879720" y="5067000"/>
            <a:ext cx="2667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3873600" y="4889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37908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038320" y="5791320"/>
            <a:ext cx="1294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038680" y="5818320"/>
            <a:ext cx="129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622600" y="5818320"/>
            <a:ext cx="12672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660400" y="5816520"/>
            <a:ext cx="889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660760" y="588024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660760" y="607068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00160" y="59180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2000160" y="6095520"/>
            <a:ext cx="2667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994040" y="59180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279520" y="6070680"/>
            <a:ext cx="763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5950080" y="3054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5950080" y="3498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5943600" y="3060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191280" y="3062160"/>
            <a:ext cx="444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190920" y="3035520"/>
            <a:ext cx="44460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635880" y="32511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943600" y="290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943600" y="3492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080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080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496200" y="4116240"/>
            <a:ext cx="13456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7143840" y="4129200"/>
            <a:ext cx="1267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496200" y="4089600"/>
            <a:ext cx="1345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067160" y="4127760"/>
            <a:ext cx="20340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7175520" y="4520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75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182000" y="41911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182000" y="43815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479920" y="3803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479920" y="4260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473800" y="38098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721840" y="381168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721480" y="3797640"/>
            <a:ext cx="4438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153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479920" y="503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479920" y="547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473800" y="5041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5721840" y="50436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721480" y="50166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153120" y="523224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479920" y="437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479920" y="481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5473800" y="43815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5721840" y="4383000"/>
            <a:ext cx="443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721480" y="435636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153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289480" y="33782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5289480" y="35560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5283360" y="3378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5568840" y="35305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4070520" y="36511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267080" y="3511440"/>
            <a:ext cx="26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130560" y="3460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27952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470320" y="30924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124080" y="309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219480" y="3651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660760" y="365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838600" y="3651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130560" y="3841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660760" y="42228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124080" y="3848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838600" y="422280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40992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60036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1590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330800" y="49338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470320" y="51624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27952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470320" y="59119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368440" y="5911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2320" y="51688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355840" y="5156280"/>
            <a:ext cx="38160" cy="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308400" y="60134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498840" y="6013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343400" y="58863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68896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699240" y="32828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883560" y="32893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82964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026560" y="418464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89480" y="38419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2560" y="376560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759280" y="318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562720" y="31050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180972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1708200" y="610236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511280" y="602604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2470320" y="49719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368440" y="4971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362320" y="4788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708200" y="4781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511280" y="47052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08200" y="41212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511280" y="40449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0820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511280" y="34862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699120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22944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610320" y="4222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603840" y="403848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64198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2894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991040" y="499752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470320" y="61023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36844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28948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092560" y="517536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52894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5092560" y="395604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759280" y="33717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5562720" y="329580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70820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511280" y="50864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70820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511280" y="42354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8896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622944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419880" y="525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883560" y="46101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289480" y="45021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5092560" y="442584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759280" y="29908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62720" y="2914560"/>
            <a:ext cx="25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0820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511280" y="301608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991200" y="44132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22944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10320" y="4413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4198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603840" y="44197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09904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902120" y="34862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8948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092560" y="414648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1708200" y="37530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1511280" y="367668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75928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670720" y="35622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5289480" y="5442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991040" y="53658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289480" y="46926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991040" y="461628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NAND gat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r regularity, hard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mak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5CF-80C1-4AD6-A486-EB7139AAEA9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4" name=""/>
          <p:cNvGrpSpPr/>
          <p:nvPr/>
        </p:nvGrpSpPr>
        <p:grpSpPr>
          <a:xfrm>
            <a:off x="5275440" y="1414440"/>
            <a:ext cx="3931560" cy="5370120"/>
            <a:chOff x="5275440" y="1414440"/>
            <a:chExt cx="3931560" cy="5370120"/>
          </a:xfrm>
        </p:grpSpPr>
        <p:sp>
          <p:nvSpPr>
            <p:cNvPr id="3585" name=""/>
            <p:cNvSpPr/>
            <p:nvPr/>
          </p:nvSpPr>
          <p:spPr>
            <a:xfrm>
              <a:off x="633096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219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48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78772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17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15920" y="188964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4040" y="2908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584040" y="31921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6577560" y="290124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32360" y="29156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32000" y="288972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275440" y="30438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16040" y="30438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8" name=""/>
            <p:cNvGrpSpPr/>
            <p:nvPr/>
          </p:nvGrpSpPr>
          <p:grpSpPr>
            <a:xfrm>
              <a:off x="6003720" y="2321280"/>
              <a:ext cx="110880" cy="86400"/>
              <a:chOff x="6003720" y="2321280"/>
              <a:chExt cx="110880" cy="86400"/>
            </a:xfrm>
          </p:grpSpPr>
          <p:sp>
            <p:nvSpPr>
              <p:cNvPr id="3599" name=""/>
              <p:cNvSpPr/>
              <p:nvPr/>
            </p:nvSpPr>
            <p:spPr>
              <a:xfrm>
                <a:off x="601596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600372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5632920" y="2321280"/>
              <a:ext cx="111240" cy="86400"/>
              <a:chOff x="5632920" y="2321280"/>
              <a:chExt cx="111240" cy="86400"/>
            </a:xfrm>
          </p:grpSpPr>
          <p:sp>
            <p:nvSpPr>
              <p:cNvPr id="3602" name=""/>
              <p:cNvSpPr/>
              <p:nvPr/>
            </p:nvSpPr>
            <p:spPr>
              <a:xfrm>
                <a:off x="5645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5632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 flipH="1">
              <a:off x="6262920" y="1741320"/>
              <a:ext cx="147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176880" y="1741320"/>
              <a:ext cx="864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1642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3248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2690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84040" y="1883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584040" y="21672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V="1">
              <a:off x="6577560" y="187668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32360" y="1891080"/>
              <a:ext cx="27072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32000" y="18644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275440" y="2018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016040" y="2018880"/>
              <a:ext cx="14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84040" y="2216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584040" y="2512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6577560" y="22100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32360" y="22244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732000" y="22100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75440" y="23648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16040" y="23648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84040" y="2562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28465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577560" y="2556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32360" y="257004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732000" y="255600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75440" y="2710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16040" y="27104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6003720" y="1976040"/>
              <a:ext cx="110880" cy="86400"/>
              <a:chOff x="6003720" y="1976040"/>
              <a:chExt cx="110880" cy="86400"/>
            </a:xfrm>
          </p:grpSpPr>
          <p:sp>
            <p:nvSpPr>
              <p:cNvPr id="3631" name=""/>
              <p:cNvSpPr/>
              <p:nvPr/>
            </p:nvSpPr>
            <p:spPr>
              <a:xfrm>
                <a:off x="60159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60037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600336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905080" y="1741320"/>
              <a:ext cx="986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58924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0530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0098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059520" y="1901880"/>
              <a:ext cx="0" cy="38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6275520" y="1976040"/>
              <a:ext cx="110880" cy="86400"/>
              <a:chOff x="6275520" y="1976040"/>
              <a:chExt cx="110880" cy="86400"/>
            </a:xfrm>
          </p:grpSpPr>
          <p:sp>
            <p:nvSpPr>
              <p:cNvPr id="3640" name=""/>
              <p:cNvSpPr/>
              <p:nvPr/>
            </p:nvSpPr>
            <p:spPr>
              <a:xfrm>
                <a:off x="62877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62755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 flipH="1">
              <a:off x="573192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2104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5608800" y="173520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78160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7384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688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8" name=""/>
            <p:cNvGrpSpPr/>
            <p:nvPr/>
          </p:nvGrpSpPr>
          <p:grpSpPr>
            <a:xfrm>
              <a:off x="5732280" y="1976040"/>
              <a:ext cx="110880" cy="86400"/>
              <a:chOff x="5732280" y="1976040"/>
              <a:chExt cx="110880" cy="86400"/>
            </a:xfrm>
          </p:grpSpPr>
          <p:sp>
            <p:nvSpPr>
              <p:cNvPr id="3649" name=""/>
              <p:cNvSpPr/>
              <p:nvPr/>
            </p:nvSpPr>
            <p:spPr>
              <a:xfrm>
                <a:off x="574452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H="1">
                <a:off x="573228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1" name=""/>
            <p:cNvGrpSpPr/>
            <p:nvPr/>
          </p:nvGrpSpPr>
          <p:grpSpPr>
            <a:xfrm>
              <a:off x="5460840" y="2321280"/>
              <a:ext cx="110880" cy="86400"/>
              <a:chOff x="5460840" y="2321280"/>
              <a:chExt cx="110880" cy="86400"/>
            </a:xfrm>
          </p:grpSpPr>
          <p:sp>
            <p:nvSpPr>
              <p:cNvPr id="3652" name=""/>
              <p:cNvSpPr/>
              <p:nvPr/>
            </p:nvSpPr>
            <p:spPr>
              <a:xfrm>
                <a:off x="5473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>
                <a:off x="546084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 flipH="1">
              <a:off x="5460840" y="1741320"/>
              <a:ext cx="1231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960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5337000" y="1735200"/>
              <a:ext cx="2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510160" y="1852560"/>
              <a:ext cx="3672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4666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5460840" y="1976040"/>
              <a:ext cx="110880" cy="86400"/>
              <a:chOff x="5460840" y="1976040"/>
              <a:chExt cx="110880" cy="86400"/>
            </a:xfrm>
          </p:grpSpPr>
          <p:sp>
            <p:nvSpPr>
              <p:cNvPr id="3660" name=""/>
              <p:cNvSpPr/>
              <p:nvPr/>
            </p:nvSpPr>
            <p:spPr>
              <a:xfrm>
                <a:off x="5473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546084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2" name=""/>
            <p:cNvSpPr/>
            <p:nvPr/>
          </p:nvSpPr>
          <p:spPr>
            <a:xfrm>
              <a:off x="6584040" y="3228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584040" y="3513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6577560" y="322308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732360" y="323676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732000" y="323496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275440" y="337716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16040" y="337716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6163920" y="2321280"/>
              <a:ext cx="111240" cy="86400"/>
              <a:chOff x="6163920" y="2321280"/>
              <a:chExt cx="111240" cy="86400"/>
            </a:xfrm>
          </p:grpSpPr>
          <p:sp>
            <p:nvSpPr>
              <p:cNvPr id="3670" name=""/>
              <p:cNvSpPr/>
              <p:nvPr/>
            </p:nvSpPr>
            <p:spPr>
              <a:xfrm>
                <a:off x="6176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63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2" name=""/>
            <p:cNvSpPr/>
            <p:nvPr/>
          </p:nvSpPr>
          <p:spPr>
            <a:xfrm>
              <a:off x="6584040" y="35748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84040" y="38588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577560" y="356796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732360" y="358236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732000" y="355644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275440" y="37105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6040" y="37105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5361480" y="2667240"/>
              <a:ext cx="111240" cy="86400"/>
              <a:chOff x="5361480" y="2667240"/>
              <a:chExt cx="111240" cy="86400"/>
            </a:xfrm>
          </p:grpSpPr>
          <p:sp>
            <p:nvSpPr>
              <p:cNvPr id="3680" name=""/>
              <p:cNvSpPr/>
              <p:nvPr/>
            </p:nvSpPr>
            <p:spPr>
              <a:xfrm>
                <a:off x="5374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5361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6584040" y="3895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84040" y="4179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6577560" y="38898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732360" y="390348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732000" y="390168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275440" y="4043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16040" y="404388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5361480" y="3000600"/>
              <a:ext cx="111240" cy="86400"/>
              <a:chOff x="5361480" y="3000600"/>
              <a:chExt cx="111240" cy="86400"/>
            </a:xfrm>
          </p:grpSpPr>
          <p:sp>
            <p:nvSpPr>
              <p:cNvPr id="3690" name=""/>
              <p:cNvSpPr/>
              <p:nvPr/>
            </p:nvSpPr>
            <p:spPr>
              <a:xfrm>
                <a:off x="5374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5361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6163920" y="2667240"/>
              <a:ext cx="111240" cy="86400"/>
              <a:chOff x="6163920" y="2667240"/>
              <a:chExt cx="111240" cy="86400"/>
            </a:xfrm>
          </p:grpSpPr>
          <p:sp>
            <p:nvSpPr>
              <p:cNvPr id="3693" name=""/>
              <p:cNvSpPr/>
              <p:nvPr/>
            </p:nvSpPr>
            <p:spPr>
              <a:xfrm>
                <a:off x="6176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H="1">
                <a:off x="6163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5892120" y="2667240"/>
              <a:ext cx="111240" cy="86400"/>
              <a:chOff x="5892120" y="2667240"/>
              <a:chExt cx="111240" cy="86400"/>
            </a:xfrm>
          </p:grpSpPr>
          <p:sp>
            <p:nvSpPr>
              <p:cNvPr id="3696" name=""/>
              <p:cNvSpPr/>
              <p:nvPr/>
            </p:nvSpPr>
            <p:spPr>
              <a:xfrm>
                <a:off x="5904720" y="266724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58921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8" name=""/>
            <p:cNvGrpSpPr/>
            <p:nvPr/>
          </p:nvGrpSpPr>
          <p:grpSpPr>
            <a:xfrm>
              <a:off x="5632920" y="2667240"/>
              <a:ext cx="111240" cy="86400"/>
              <a:chOff x="5632920" y="2667240"/>
              <a:chExt cx="111240" cy="86400"/>
            </a:xfrm>
          </p:grpSpPr>
          <p:sp>
            <p:nvSpPr>
              <p:cNvPr id="3699" name=""/>
              <p:cNvSpPr/>
              <p:nvPr/>
            </p:nvSpPr>
            <p:spPr>
              <a:xfrm>
                <a:off x="5645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5632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6584040" y="42415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84040" y="4512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6577560" y="4234680"/>
              <a:ext cx="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32360" y="424908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732000" y="422316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75440" y="43650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016040" y="43650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6275520" y="3000600"/>
              <a:ext cx="110880" cy="86400"/>
              <a:chOff x="6275520" y="3000600"/>
              <a:chExt cx="110880" cy="86400"/>
            </a:xfrm>
          </p:grpSpPr>
          <p:sp>
            <p:nvSpPr>
              <p:cNvPr id="3709" name=""/>
              <p:cNvSpPr/>
              <p:nvPr/>
            </p:nvSpPr>
            <p:spPr>
              <a:xfrm>
                <a:off x="628776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627552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"/>
            <p:cNvGrpSpPr/>
            <p:nvPr/>
          </p:nvGrpSpPr>
          <p:grpSpPr>
            <a:xfrm>
              <a:off x="5892120" y="3000600"/>
              <a:ext cx="111240" cy="86400"/>
              <a:chOff x="5892120" y="3000600"/>
              <a:chExt cx="111240" cy="86400"/>
            </a:xfrm>
          </p:grpSpPr>
          <p:sp>
            <p:nvSpPr>
              <p:cNvPr id="3712" name=""/>
              <p:cNvSpPr/>
              <p:nvPr/>
            </p:nvSpPr>
            <p:spPr>
              <a:xfrm>
                <a:off x="5904720" y="300060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>
                <a:off x="589212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5732280" y="3000600"/>
              <a:ext cx="110880" cy="86400"/>
              <a:chOff x="5732280" y="3000600"/>
              <a:chExt cx="110880" cy="86400"/>
            </a:xfrm>
          </p:grpSpPr>
          <p:sp>
            <p:nvSpPr>
              <p:cNvPr id="3715" name=""/>
              <p:cNvSpPr/>
              <p:nvPr/>
            </p:nvSpPr>
            <p:spPr>
              <a:xfrm>
                <a:off x="574452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H="1">
                <a:off x="573228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7" name=""/>
            <p:cNvSpPr/>
            <p:nvPr/>
          </p:nvSpPr>
          <p:spPr>
            <a:xfrm>
              <a:off x="6584040" y="4562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584040" y="4846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577560" y="4556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32360" y="457020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732000" y="455616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275440" y="47106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016040" y="47106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4" name=""/>
            <p:cNvGrpSpPr/>
            <p:nvPr/>
          </p:nvGrpSpPr>
          <p:grpSpPr>
            <a:xfrm>
              <a:off x="5892120" y="3667320"/>
              <a:ext cx="111240" cy="86400"/>
              <a:chOff x="5892120" y="3667320"/>
              <a:chExt cx="111240" cy="86400"/>
            </a:xfrm>
          </p:grpSpPr>
          <p:sp>
            <p:nvSpPr>
              <p:cNvPr id="3725" name=""/>
              <p:cNvSpPr/>
              <p:nvPr/>
            </p:nvSpPr>
            <p:spPr>
              <a:xfrm>
                <a:off x="5904720" y="36673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H="1">
                <a:off x="589212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7" name=""/>
            <p:cNvGrpSpPr/>
            <p:nvPr/>
          </p:nvGrpSpPr>
          <p:grpSpPr>
            <a:xfrm>
              <a:off x="5361480" y="3333960"/>
              <a:ext cx="111240" cy="86400"/>
              <a:chOff x="5361480" y="3333960"/>
              <a:chExt cx="111240" cy="86400"/>
            </a:xfrm>
          </p:grpSpPr>
          <p:sp>
            <p:nvSpPr>
              <p:cNvPr id="3728" name=""/>
              <p:cNvSpPr/>
              <p:nvPr/>
            </p:nvSpPr>
            <p:spPr>
              <a:xfrm>
                <a:off x="537408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>
                <a:off x="5361480" y="33339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0" name=""/>
            <p:cNvSpPr/>
            <p:nvPr/>
          </p:nvSpPr>
          <p:spPr>
            <a:xfrm>
              <a:off x="6584040" y="4883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84040" y="5179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6577560" y="487692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732360" y="489132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732000" y="488988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275440" y="50317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016040" y="50317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7" name=""/>
            <p:cNvGrpSpPr/>
            <p:nvPr/>
          </p:nvGrpSpPr>
          <p:grpSpPr>
            <a:xfrm>
              <a:off x="6163920" y="4000680"/>
              <a:ext cx="111240" cy="86400"/>
              <a:chOff x="6163920" y="4000680"/>
              <a:chExt cx="111240" cy="86400"/>
            </a:xfrm>
          </p:grpSpPr>
          <p:sp>
            <p:nvSpPr>
              <p:cNvPr id="3738" name=""/>
              <p:cNvSpPr/>
              <p:nvPr/>
            </p:nvSpPr>
            <p:spPr>
              <a:xfrm>
                <a:off x="6176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>
                <a:off x="6163920" y="40006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0" name=""/>
            <p:cNvGrpSpPr/>
            <p:nvPr/>
          </p:nvGrpSpPr>
          <p:grpSpPr>
            <a:xfrm>
              <a:off x="5732280" y="4000680"/>
              <a:ext cx="110880" cy="86400"/>
              <a:chOff x="5732280" y="4000680"/>
              <a:chExt cx="110880" cy="86400"/>
            </a:xfrm>
          </p:grpSpPr>
          <p:sp>
            <p:nvSpPr>
              <p:cNvPr id="3741" name=""/>
              <p:cNvSpPr/>
              <p:nvPr/>
            </p:nvSpPr>
            <p:spPr>
              <a:xfrm>
                <a:off x="5744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573228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3" name=""/>
            <p:cNvGrpSpPr/>
            <p:nvPr/>
          </p:nvGrpSpPr>
          <p:grpSpPr>
            <a:xfrm>
              <a:off x="5460840" y="3667320"/>
              <a:ext cx="110880" cy="86400"/>
              <a:chOff x="5460840" y="3667320"/>
              <a:chExt cx="110880" cy="86400"/>
            </a:xfrm>
          </p:grpSpPr>
          <p:sp>
            <p:nvSpPr>
              <p:cNvPr id="3744" name=""/>
              <p:cNvSpPr/>
              <p:nvPr/>
            </p:nvSpPr>
            <p:spPr>
              <a:xfrm>
                <a:off x="547308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546084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6" name=""/>
            <p:cNvSpPr/>
            <p:nvPr/>
          </p:nvSpPr>
          <p:spPr>
            <a:xfrm>
              <a:off x="724428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7" name=""/>
            <p:cNvGrpSpPr/>
            <p:nvPr/>
          </p:nvGrpSpPr>
          <p:grpSpPr>
            <a:xfrm>
              <a:off x="7188480" y="1976040"/>
              <a:ext cx="111240" cy="86400"/>
              <a:chOff x="7188480" y="1976040"/>
              <a:chExt cx="111240" cy="86400"/>
            </a:xfrm>
          </p:grpSpPr>
          <p:sp>
            <p:nvSpPr>
              <p:cNvPr id="3748" name=""/>
              <p:cNvSpPr/>
              <p:nvPr/>
            </p:nvSpPr>
            <p:spPr>
              <a:xfrm>
                <a:off x="7201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7188480" y="19760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7188480" y="2321280"/>
              <a:ext cx="111240" cy="86400"/>
              <a:chOff x="7188480" y="2321280"/>
              <a:chExt cx="111240" cy="86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7201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H="1">
                <a:off x="718848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7188480" y="2667240"/>
              <a:ext cx="111240" cy="86400"/>
              <a:chOff x="7188480" y="2667240"/>
              <a:chExt cx="111240" cy="86400"/>
            </a:xfrm>
          </p:grpSpPr>
          <p:sp>
            <p:nvSpPr>
              <p:cNvPr id="3754" name=""/>
              <p:cNvSpPr/>
              <p:nvPr/>
            </p:nvSpPr>
            <p:spPr>
              <a:xfrm>
                <a:off x="7201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7188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7102800" y="5507280"/>
              <a:ext cx="271440" cy="999360"/>
              <a:chOff x="7102800" y="5507280"/>
              <a:chExt cx="271440" cy="999360"/>
            </a:xfrm>
          </p:grpSpPr>
          <p:sp>
            <p:nvSpPr>
              <p:cNvPr id="3757" name=""/>
              <p:cNvSpPr/>
              <p:nvPr/>
            </p:nvSpPr>
            <p:spPr>
              <a:xfrm>
                <a:off x="711432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10280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10388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10388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24392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"/>
            <p:cNvSpPr/>
            <p:nvPr/>
          </p:nvSpPr>
          <p:spPr>
            <a:xfrm>
              <a:off x="756540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3" name=""/>
            <p:cNvGrpSpPr/>
            <p:nvPr/>
          </p:nvGrpSpPr>
          <p:grpSpPr>
            <a:xfrm>
              <a:off x="7188480" y="3000600"/>
              <a:ext cx="111240" cy="86400"/>
              <a:chOff x="7188480" y="3000600"/>
              <a:chExt cx="111240" cy="86400"/>
            </a:xfrm>
          </p:grpSpPr>
          <p:sp>
            <p:nvSpPr>
              <p:cNvPr id="3764" name=""/>
              <p:cNvSpPr/>
              <p:nvPr/>
            </p:nvSpPr>
            <p:spPr>
              <a:xfrm>
                <a:off x="7201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>
                <a:off x="7188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7423920" y="5507280"/>
              <a:ext cx="296640" cy="999360"/>
              <a:chOff x="7423920" y="5507280"/>
              <a:chExt cx="296640" cy="999360"/>
            </a:xfrm>
          </p:grpSpPr>
          <p:sp>
            <p:nvSpPr>
              <p:cNvPr id="3767" name=""/>
              <p:cNvSpPr/>
              <p:nvPr/>
            </p:nvSpPr>
            <p:spPr>
              <a:xfrm>
                <a:off x="7460640" y="5889960"/>
                <a:ext cx="2336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239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437240" y="5556600"/>
                <a:ext cx="28332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437240" y="5889960"/>
                <a:ext cx="28332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56504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>
              <a:off x="78987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7769520" y="5507280"/>
              <a:ext cx="271440" cy="999360"/>
              <a:chOff x="7769520" y="5507280"/>
              <a:chExt cx="271440" cy="999360"/>
            </a:xfrm>
          </p:grpSpPr>
          <p:sp>
            <p:nvSpPr>
              <p:cNvPr id="3774" name=""/>
              <p:cNvSpPr/>
              <p:nvPr/>
            </p:nvSpPr>
            <p:spPr>
              <a:xfrm>
                <a:off x="778104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7695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77060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77060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89840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509960" y="3333960"/>
              <a:ext cx="110880" cy="86400"/>
              <a:chOff x="7509960" y="3333960"/>
              <a:chExt cx="110880" cy="86400"/>
            </a:xfrm>
          </p:grpSpPr>
          <p:sp>
            <p:nvSpPr>
              <p:cNvPr id="3780" name=""/>
              <p:cNvSpPr/>
              <p:nvPr/>
            </p:nvSpPr>
            <p:spPr>
              <a:xfrm>
                <a:off x="752220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50996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509960" y="3667320"/>
              <a:ext cx="110880" cy="86400"/>
              <a:chOff x="7509960" y="3667320"/>
              <a:chExt cx="110880" cy="86400"/>
            </a:xfrm>
          </p:grpSpPr>
          <p:sp>
            <p:nvSpPr>
              <p:cNvPr id="3783" name=""/>
              <p:cNvSpPr/>
              <p:nvPr/>
            </p:nvSpPr>
            <p:spPr>
              <a:xfrm>
                <a:off x="7522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50996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82443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6" name=""/>
            <p:cNvGrpSpPr/>
            <p:nvPr/>
          </p:nvGrpSpPr>
          <p:grpSpPr>
            <a:xfrm>
              <a:off x="8102880" y="5507280"/>
              <a:ext cx="271440" cy="999360"/>
              <a:chOff x="8102880" y="5507280"/>
              <a:chExt cx="271440" cy="999360"/>
            </a:xfrm>
          </p:grpSpPr>
          <p:sp>
            <p:nvSpPr>
              <p:cNvPr id="3787" name=""/>
              <p:cNvSpPr/>
              <p:nvPr/>
            </p:nvSpPr>
            <p:spPr>
              <a:xfrm>
                <a:off x="811548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810288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8116560" y="5556600"/>
                <a:ext cx="2577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811656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824436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2" name=""/>
            <p:cNvGrpSpPr/>
            <p:nvPr/>
          </p:nvGrpSpPr>
          <p:grpSpPr>
            <a:xfrm>
              <a:off x="7509960" y="4000680"/>
              <a:ext cx="110880" cy="86400"/>
              <a:chOff x="7509960" y="4000680"/>
              <a:chExt cx="110880" cy="86400"/>
            </a:xfrm>
          </p:grpSpPr>
          <p:sp>
            <p:nvSpPr>
              <p:cNvPr id="3793" name=""/>
              <p:cNvSpPr/>
              <p:nvPr/>
            </p:nvSpPr>
            <p:spPr>
              <a:xfrm>
                <a:off x="752220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H="1">
                <a:off x="750996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5" name=""/>
            <p:cNvGrpSpPr/>
            <p:nvPr/>
          </p:nvGrpSpPr>
          <p:grpSpPr>
            <a:xfrm>
              <a:off x="7509960" y="4321440"/>
              <a:ext cx="110880" cy="86400"/>
              <a:chOff x="7509960" y="4321440"/>
              <a:chExt cx="110880" cy="86400"/>
            </a:xfrm>
          </p:grpSpPr>
          <p:sp>
            <p:nvSpPr>
              <p:cNvPr id="3796" name=""/>
              <p:cNvSpPr/>
              <p:nvPr/>
            </p:nvSpPr>
            <p:spPr>
              <a:xfrm>
                <a:off x="752220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>
                <a:off x="7509960" y="43214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7842600" y="3667320"/>
              <a:ext cx="111240" cy="86400"/>
              <a:chOff x="7842600" y="3667320"/>
              <a:chExt cx="111240" cy="86400"/>
            </a:xfrm>
          </p:grpSpPr>
          <p:sp>
            <p:nvSpPr>
              <p:cNvPr id="3799" name=""/>
              <p:cNvSpPr/>
              <p:nvPr/>
            </p:nvSpPr>
            <p:spPr>
              <a:xfrm>
                <a:off x="7855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>
                <a:off x="784260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1" name=""/>
            <p:cNvGrpSpPr/>
            <p:nvPr/>
          </p:nvGrpSpPr>
          <p:grpSpPr>
            <a:xfrm>
              <a:off x="7842600" y="4667400"/>
              <a:ext cx="111240" cy="86400"/>
              <a:chOff x="7842600" y="4667400"/>
              <a:chExt cx="111240" cy="86400"/>
            </a:xfrm>
          </p:grpSpPr>
          <p:sp>
            <p:nvSpPr>
              <p:cNvPr id="3802" name=""/>
              <p:cNvSpPr/>
              <p:nvPr/>
            </p:nvSpPr>
            <p:spPr>
              <a:xfrm>
                <a:off x="785520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84260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4" name=""/>
            <p:cNvSpPr/>
            <p:nvPr/>
          </p:nvSpPr>
          <p:spPr>
            <a:xfrm>
              <a:off x="7059240" y="6488640"/>
              <a:ext cx="1394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68280"/>
                  <a:tab algn="l" pos="72396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584040" y="5229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584040" y="5500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V="1">
              <a:off x="6577560" y="5223240"/>
              <a:ext cx="0" cy="28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732360" y="523692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732000" y="522288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275440" y="53773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16040" y="53773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2" name=""/>
            <p:cNvGrpSpPr/>
            <p:nvPr/>
          </p:nvGrpSpPr>
          <p:grpSpPr>
            <a:xfrm>
              <a:off x="5632920" y="4321440"/>
              <a:ext cx="111240" cy="86400"/>
              <a:chOff x="5632920" y="4321440"/>
              <a:chExt cx="111240" cy="86400"/>
            </a:xfrm>
          </p:grpSpPr>
          <p:sp>
            <p:nvSpPr>
              <p:cNvPr id="3813" name=""/>
              <p:cNvSpPr/>
              <p:nvPr/>
            </p:nvSpPr>
            <p:spPr>
              <a:xfrm>
                <a:off x="5645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H="1">
                <a:off x="5632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003720" y="3333960"/>
              <a:ext cx="110880" cy="86400"/>
              <a:chOff x="6003720" y="3333960"/>
              <a:chExt cx="110880" cy="864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0159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H="1">
                <a:off x="60037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8" name=""/>
            <p:cNvSpPr/>
            <p:nvPr/>
          </p:nvSpPr>
          <p:spPr>
            <a:xfrm>
              <a:off x="6584040" y="5550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584040" y="58464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6577560" y="55436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732360" y="55580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732000" y="55436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275440" y="5698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016040" y="569844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6163920" y="4321440"/>
              <a:ext cx="111240" cy="86400"/>
              <a:chOff x="6163920" y="4321440"/>
              <a:chExt cx="111240" cy="86400"/>
            </a:xfrm>
          </p:grpSpPr>
          <p:sp>
            <p:nvSpPr>
              <p:cNvPr id="3826" name=""/>
              <p:cNvSpPr/>
              <p:nvPr/>
            </p:nvSpPr>
            <p:spPr>
              <a:xfrm>
                <a:off x="6176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>
                <a:off x="6163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"/>
            <p:cNvGrpSpPr/>
            <p:nvPr/>
          </p:nvGrpSpPr>
          <p:grpSpPr>
            <a:xfrm>
              <a:off x="5732280" y="4667400"/>
              <a:ext cx="110880" cy="86400"/>
              <a:chOff x="5732280" y="4667400"/>
              <a:chExt cx="110880" cy="86400"/>
            </a:xfrm>
          </p:grpSpPr>
          <p:sp>
            <p:nvSpPr>
              <p:cNvPr id="3829" name=""/>
              <p:cNvSpPr/>
              <p:nvPr/>
            </p:nvSpPr>
            <p:spPr>
              <a:xfrm>
                <a:off x="5744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573228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5460840" y="4667400"/>
              <a:ext cx="110880" cy="86400"/>
              <a:chOff x="5460840" y="4667400"/>
              <a:chExt cx="110880" cy="86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547308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H="1">
                <a:off x="546084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4" name=""/>
            <p:cNvGrpSpPr/>
            <p:nvPr/>
          </p:nvGrpSpPr>
          <p:grpSpPr>
            <a:xfrm>
              <a:off x="7842600" y="4988160"/>
              <a:ext cx="111240" cy="86400"/>
              <a:chOff x="7842600" y="4988160"/>
              <a:chExt cx="111240" cy="86400"/>
            </a:xfrm>
          </p:grpSpPr>
          <p:sp>
            <p:nvSpPr>
              <p:cNvPr id="3835" name=""/>
              <p:cNvSpPr/>
              <p:nvPr/>
            </p:nvSpPr>
            <p:spPr>
              <a:xfrm>
                <a:off x="785520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>
                <a:off x="784260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8188920" y="3333960"/>
              <a:ext cx="110880" cy="86400"/>
              <a:chOff x="8188920" y="3333960"/>
              <a:chExt cx="110880" cy="86400"/>
            </a:xfrm>
          </p:grpSpPr>
          <p:sp>
            <p:nvSpPr>
              <p:cNvPr id="3838" name=""/>
              <p:cNvSpPr/>
              <p:nvPr/>
            </p:nvSpPr>
            <p:spPr>
              <a:xfrm>
                <a:off x="82011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81889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0" name=""/>
            <p:cNvGrpSpPr/>
            <p:nvPr/>
          </p:nvGrpSpPr>
          <p:grpSpPr>
            <a:xfrm>
              <a:off x="6163920" y="4667400"/>
              <a:ext cx="111240" cy="86400"/>
              <a:chOff x="6163920" y="4667400"/>
              <a:chExt cx="111240" cy="86400"/>
            </a:xfrm>
          </p:grpSpPr>
          <p:sp>
            <p:nvSpPr>
              <p:cNvPr id="3841" name=""/>
              <p:cNvSpPr/>
              <p:nvPr/>
            </p:nvSpPr>
            <p:spPr>
              <a:xfrm>
                <a:off x="6176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H="1">
                <a:off x="616392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5892120" y="4988160"/>
              <a:ext cx="111240" cy="86400"/>
              <a:chOff x="5892120" y="4988160"/>
              <a:chExt cx="111240" cy="86400"/>
            </a:xfrm>
          </p:grpSpPr>
          <p:sp>
            <p:nvSpPr>
              <p:cNvPr id="3844" name=""/>
              <p:cNvSpPr/>
              <p:nvPr/>
            </p:nvSpPr>
            <p:spPr>
              <a:xfrm>
                <a:off x="5904720" y="498816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>
                <a:off x="58921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5732280" y="4988160"/>
              <a:ext cx="110880" cy="86400"/>
              <a:chOff x="5732280" y="4988160"/>
              <a:chExt cx="110880" cy="86400"/>
            </a:xfrm>
          </p:grpSpPr>
          <p:sp>
            <p:nvSpPr>
              <p:cNvPr id="3847" name=""/>
              <p:cNvSpPr/>
              <p:nvPr/>
            </p:nvSpPr>
            <p:spPr>
              <a:xfrm>
                <a:off x="5744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5732280" y="49881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6163920" y="4988160"/>
              <a:ext cx="111240" cy="86400"/>
              <a:chOff x="6163920" y="4988160"/>
              <a:chExt cx="111240" cy="86400"/>
            </a:xfrm>
          </p:grpSpPr>
          <p:sp>
            <p:nvSpPr>
              <p:cNvPr id="3850" name=""/>
              <p:cNvSpPr/>
              <p:nvPr/>
            </p:nvSpPr>
            <p:spPr>
              <a:xfrm>
                <a:off x="6176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61639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8188920" y="5654880"/>
              <a:ext cx="110880" cy="86400"/>
              <a:chOff x="8188920" y="5654880"/>
              <a:chExt cx="110880" cy="86400"/>
            </a:xfrm>
          </p:grpSpPr>
          <p:sp>
            <p:nvSpPr>
              <p:cNvPr id="3853" name=""/>
              <p:cNvSpPr/>
              <p:nvPr/>
            </p:nvSpPr>
            <p:spPr>
              <a:xfrm>
                <a:off x="82011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1889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8188920" y="5334120"/>
              <a:ext cx="110880" cy="86400"/>
              <a:chOff x="8188920" y="5334120"/>
              <a:chExt cx="110880" cy="86400"/>
            </a:xfrm>
          </p:grpSpPr>
          <p:sp>
            <p:nvSpPr>
              <p:cNvPr id="3856" name=""/>
              <p:cNvSpPr/>
              <p:nvPr/>
            </p:nvSpPr>
            <p:spPr>
              <a:xfrm>
                <a:off x="820116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8188920" y="53341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5632920" y="5334120"/>
              <a:ext cx="111240" cy="86400"/>
              <a:chOff x="5632920" y="5334120"/>
              <a:chExt cx="111240" cy="86400"/>
            </a:xfrm>
          </p:grpSpPr>
          <p:sp>
            <p:nvSpPr>
              <p:cNvPr id="3859" name=""/>
              <p:cNvSpPr/>
              <p:nvPr/>
            </p:nvSpPr>
            <p:spPr>
              <a:xfrm>
                <a:off x="564552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H="1">
                <a:off x="56329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1" name=""/>
            <p:cNvGrpSpPr/>
            <p:nvPr/>
          </p:nvGrpSpPr>
          <p:grpSpPr>
            <a:xfrm>
              <a:off x="5361480" y="5334120"/>
              <a:ext cx="111240" cy="86400"/>
              <a:chOff x="5361480" y="5334120"/>
              <a:chExt cx="111240" cy="86400"/>
            </a:xfrm>
          </p:grpSpPr>
          <p:sp>
            <p:nvSpPr>
              <p:cNvPr id="3862" name=""/>
              <p:cNvSpPr/>
              <p:nvPr/>
            </p:nvSpPr>
            <p:spPr>
              <a:xfrm>
                <a:off x="537408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H="1">
                <a:off x="536148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5892120" y="5334120"/>
              <a:ext cx="111240" cy="86400"/>
              <a:chOff x="5892120" y="5334120"/>
              <a:chExt cx="111240" cy="86400"/>
            </a:xfrm>
          </p:grpSpPr>
          <p:sp>
            <p:nvSpPr>
              <p:cNvPr id="3865" name=""/>
              <p:cNvSpPr/>
              <p:nvPr/>
            </p:nvSpPr>
            <p:spPr>
              <a:xfrm>
                <a:off x="5904720" y="53341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58921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003720" y="5654880"/>
              <a:ext cx="110880" cy="86400"/>
              <a:chOff x="6003720" y="5654880"/>
              <a:chExt cx="110880" cy="86400"/>
            </a:xfrm>
          </p:grpSpPr>
          <p:sp>
            <p:nvSpPr>
              <p:cNvPr id="3868" name=""/>
              <p:cNvSpPr/>
              <p:nvPr/>
            </p:nvSpPr>
            <p:spPr>
              <a:xfrm>
                <a:off x="60159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H="1">
                <a:off x="60037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5632920" y="5654880"/>
              <a:ext cx="111240" cy="86400"/>
              <a:chOff x="5632920" y="5654880"/>
              <a:chExt cx="111240" cy="86400"/>
            </a:xfrm>
          </p:grpSpPr>
          <p:sp>
            <p:nvSpPr>
              <p:cNvPr id="3871" name=""/>
              <p:cNvSpPr/>
              <p:nvPr/>
            </p:nvSpPr>
            <p:spPr>
              <a:xfrm>
                <a:off x="564552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>
                <a:off x="5632920" y="56548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6275520" y="5654880"/>
              <a:ext cx="110880" cy="86400"/>
              <a:chOff x="6275520" y="5654880"/>
              <a:chExt cx="110880" cy="86400"/>
            </a:xfrm>
          </p:grpSpPr>
          <p:sp>
            <p:nvSpPr>
              <p:cNvPr id="3874" name=""/>
              <p:cNvSpPr/>
              <p:nvPr/>
            </p:nvSpPr>
            <p:spPr>
              <a:xfrm>
                <a:off x="62877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2755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8491320" y="1784520"/>
              <a:ext cx="715680" cy="41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355720" y="1414440"/>
              <a:ext cx="1357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another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itude compa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0" name=""/>
          <p:cNvGrpSpPr/>
          <p:nvPr/>
        </p:nvGrpSpPr>
        <p:grpSpPr>
          <a:xfrm>
            <a:off x="692280" y="2025720"/>
            <a:ext cx="3714120" cy="3797280"/>
            <a:chOff x="692280" y="2025720"/>
            <a:chExt cx="3714120" cy="3797280"/>
          </a:xfrm>
        </p:grpSpPr>
        <p:sp>
          <p:nvSpPr>
            <p:cNvPr id="3881" name=""/>
            <p:cNvSpPr/>
            <p:nvPr/>
          </p:nvSpPr>
          <p:spPr>
            <a:xfrm>
              <a:off x="725400" y="2025720"/>
              <a:ext cx="3681000" cy="37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476440" y="2057400"/>
              <a:ext cx="0" cy="37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92280" y="2279520"/>
              <a:ext cx="36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4" name=""/>
          <p:cNvSpPr/>
          <p:nvPr/>
        </p:nvSpPr>
        <p:spPr>
          <a:xfrm>
            <a:off x="241200" y="5854680"/>
            <a:ext cx="64645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 = A’B’C’D’ + A’BC’D + ABCD + AB’CD’     NE = AC’ + A’C + B’D + B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T = A’C + A’B’D + B’CD                            GT = AC’ + ABC + BC’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B10-FAE0-4F7B-A91A-F5AF11FB6B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the following functions to the PLA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AB + A’C’ + B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108840" y="2666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884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6102360" y="2660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267960" y="26812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261840" y="2674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67600" y="26672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261480" y="2660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991040" y="28195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553080" y="28195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8840" y="30351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108840" y="3340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6102360" y="302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67960" y="304956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261840" y="30430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267600" y="30355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261480" y="30290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4991040" y="31878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553080" y="31878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108840" y="34034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08840" y="37083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6102360" y="33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267960" y="34178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261840" y="34113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267600" y="340380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261480" y="339732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991040" y="3556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553080" y="35560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108840" y="37720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108840" y="40766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V="1">
            <a:off x="6102360" y="3765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267960" y="378612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61840" y="37800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267600" y="377208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261480" y="376560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991040" y="392436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553080" y="39243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580392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68944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567648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581040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87376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74668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H="1">
            <a:off x="551196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39748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38452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51808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58180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54720" y="261000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H="1">
            <a:off x="521964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105520" y="2521080"/>
            <a:ext cx="114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>
            <a:off x="509220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22612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528948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516240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68052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665460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66900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666900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680076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680076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04880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02288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03728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703728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16904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716904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7404120" y="551808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737856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739296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39296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752472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52472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511164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541656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83320" y="214632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108840" y="41403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108840" y="4444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6102360" y="4133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67960" y="41544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261840" y="41482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67600" y="414036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261480" y="413388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4991040" y="429264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553080" y="4292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108840" y="45086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108840" y="481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6102360" y="4502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267960" y="452268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261840" y="45165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267600" y="45086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261480" y="45021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991040" y="46609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6553080" y="4660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6108840" y="4876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10884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6102360" y="4870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6267960" y="48909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261840" y="488484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6267600" y="48769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6261480" y="48704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991040" y="5029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553080" y="50292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585468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556272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527040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70572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7112160" y="6222960"/>
            <a:ext cx="63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8044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E1C-756B-4C43-A272-2DA613DED9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terms won’t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ly concensus theor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 to simplify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terms wont’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AB = ABC + AB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write W to reuse term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t 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technolog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ogic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y can use avail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5098680" y="2438280"/>
            <a:ext cx="3524760" cy="3073680"/>
            <a:chOff x="5098680" y="2438280"/>
            <a:chExt cx="3524760" cy="3073680"/>
          </a:xfrm>
        </p:grpSpPr>
        <p:sp>
          <p:nvSpPr>
            <p:cNvPr id="3998" name=""/>
            <p:cNvSpPr/>
            <p:nvPr/>
          </p:nvSpPr>
          <p:spPr>
            <a:xfrm>
              <a:off x="7924680" y="2438280"/>
              <a:ext cx="69876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098680" y="2768760"/>
              <a:ext cx="828360" cy="2306520"/>
              <a:chOff x="5098680" y="2768760"/>
              <a:chExt cx="828360" cy="2306520"/>
            </a:xfrm>
          </p:grpSpPr>
          <p:grpSp>
            <p:nvGrpSpPr>
              <p:cNvPr id="4000" name=""/>
              <p:cNvGrpSpPr/>
              <p:nvPr/>
            </p:nvGrpSpPr>
            <p:grpSpPr>
              <a:xfrm>
                <a:off x="5105160" y="2768760"/>
                <a:ext cx="114120" cy="88920"/>
                <a:chOff x="5105160" y="2768760"/>
                <a:chExt cx="114120" cy="8892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5118120" y="27687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flipH="1">
                  <a:off x="5105160" y="27687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5405040" y="2774880"/>
                <a:ext cx="114120" cy="88920"/>
                <a:chOff x="5405040" y="2774880"/>
                <a:chExt cx="114120" cy="8892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5418000" y="2774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>
                  <a:off x="5405040" y="2774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5684400" y="2787480"/>
                <a:ext cx="114120" cy="88920"/>
                <a:chOff x="5684400" y="2787480"/>
                <a:chExt cx="114120" cy="8892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5697360" y="27874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>
                  <a:off x="5684400" y="27874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5098680" y="3139920"/>
                <a:ext cx="114120" cy="88920"/>
                <a:chOff x="5098680" y="3139920"/>
                <a:chExt cx="114120" cy="8892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511164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flipH="1">
                  <a:off x="509868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5379840" y="3139920"/>
                <a:ext cx="114120" cy="88920"/>
                <a:chOff x="5379840" y="3139920"/>
                <a:chExt cx="114120" cy="8892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539280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flipH="1">
                  <a:off x="537984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5812920" y="3133800"/>
                <a:ext cx="114120" cy="88920"/>
                <a:chOff x="5812920" y="3133800"/>
                <a:chExt cx="114120" cy="8892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5825880" y="3133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H="1">
                  <a:off x="5812920" y="3133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8" name=""/>
              <p:cNvGrpSpPr/>
              <p:nvPr/>
            </p:nvGrpSpPr>
            <p:grpSpPr>
              <a:xfrm>
                <a:off x="5239800" y="3535200"/>
                <a:ext cx="114120" cy="88920"/>
                <a:chOff x="5239800" y="3535200"/>
                <a:chExt cx="114120" cy="88920"/>
              </a:xfrm>
            </p:grpSpPr>
            <p:sp>
              <p:nvSpPr>
                <p:cNvPr id="4019" name=""/>
                <p:cNvSpPr/>
                <p:nvPr/>
              </p:nvSpPr>
              <p:spPr>
                <a:xfrm>
                  <a:off x="5252760" y="3535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5239800" y="3535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1" name=""/>
              <p:cNvGrpSpPr/>
              <p:nvPr/>
            </p:nvGrpSpPr>
            <p:grpSpPr>
              <a:xfrm>
                <a:off x="5811480" y="3511440"/>
                <a:ext cx="114120" cy="88920"/>
                <a:chOff x="5811480" y="3511440"/>
                <a:chExt cx="114120" cy="88920"/>
              </a:xfrm>
            </p:grpSpPr>
            <p:sp>
              <p:nvSpPr>
                <p:cNvPr id="4022" name=""/>
                <p:cNvSpPr/>
                <p:nvPr/>
              </p:nvSpPr>
              <p:spPr>
                <a:xfrm>
                  <a:off x="5824440" y="35114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5811480" y="35114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4" name=""/>
              <p:cNvGrpSpPr/>
              <p:nvPr/>
            </p:nvGrpSpPr>
            <p:grpSpPr>
              <a:xfrm>
                <a:off x="5105160" y="3890880"/>
                <a:ext cx="114120" cy="88920"/>
                <a:chOff x="5105160" y="3890880"/>
                <a:chExt cx="114120" cy="8892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5118120" y="3890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H="1">
                  <a:off x="5105160" y="3890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5519520" y="3878280"/>
                <a:ext cx="114120" cy="88920"/>
                <a:chOff x="5519520" y="3878280"/>
                <a:chExt cx="114120" cy="8892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5532480" y="38782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5519520" y="3878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5225760" y="4230720"/>
                <a:ext cx="114120" cy="88920"/>
                <a:chOff x="5225760" y="4230720"/>
                <a:chExt cx="114120" cy="8892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5238720" y="4230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>
                  <a:off x="5225760" y="4230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3" name=""/>
              <p:cNvGrpSpPr/>
              <p:nvPr/>
            </p:nvGrpSpPr>
            <p:grpSpPr>
              <a:xfrm>
                <a:off x="5398560" y="4232160"/>
                <a:ext cx="114120" cy="88920"/>
                <a:chOff x="5398560" y="4232160"/>
                <a:chExt cx="114120" cy="8892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5411520" y="4232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5398560" y="4232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"/>
              <p:cNvGrpSpPr/>
              <p:nvPr/>
            </p:nvGrpSpPr>
            <p:grpSpPr>
              <a:xfrm>
                <a:off x="5373360" y="4610160"/>
                <a:ext cx="114120" cy="88920"/>
                <a:chOff x="5373360" y="4610160"/>
                <a:chExt cx="114120" cy="88920"/>
              </a:xfrm>
            </p:grpSpPr>
            <p:sp>
              <p:nvSpPr>
                <p:cNvPr id="4037" name=""/>
                <p:cNvSpPr/>
                <p:nvPr/>
              </p:nvSpPr>
              <p:spPr>
                <a:xfrm>
                  <a:off x="538632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537336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5702040" y="4610160"/>
                <a:ext cx="114120" cy="88920"/>
                <a:chOff x="5702040" y="4610160"/>
                <a:chExt cx="114120" cy="8892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571500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H="1">
                  <a:off x="570204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2" name=""/>
              <p:cNvGrpSpPr/>
              <p:nvPr/>
            </p:nvGrpSpPr>
            <p:grpSpPr>
              <a:xfrm>
                <a:off x="5530320" y="4986360"/>
                <a:ext cx="114120" cy="88920"/>
                <a:chOff x="5530320" y="4986360"/>
                <a:chExt cx="114120" cy="88920"/>
              </a:xfrm>
            </p:grpSpPr>
            <p:sp>
              <p:nvSpPr>
                <p:cNvPr id="4043" name=""/>
                <p:cNvSpPr/>
                <p:nvPr/>
              </p:nvSpPr>
              <p:spPr>
                <a:xfrm>
                  <a:off x="55432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H="1">
                  <a:off x="55303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5" name=""/>
              <p:cNvGrpSpPr/>
              <p:nvPr/>
            </p:nvGrpSpPr>
            <p:grpSpPr>
              <a:xfrm>
                <a:off x="5812920" y="4986360"/>
                <a:ext cx="114120" cy="88920"/>
                <a:chOff x="5812920" y="4986360"/>
                <a:chExt cx="114120" cy="8892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58258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58129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8" name=""/>
          <p:cNvGrpSpPr/>
          <p:nvPr/>
        </p:nvGrpSpPr>
        <p:grpSpPr>
          <a:xfrm>
            <a:off x="4991040" y="2146320"/>
            <a:ext cx="3530520" cy="4406760"/>
            <a:chOff x="4991040" y="2146320"/>
            <a:chExt cx="3530520" cy="4406760"/>
          </a:xfrm>
        </p:grpSpPr>
        <p:sp>
          <p:nvSpPr>
            <p:cNvPr id="4049" name=""/>
            <p:cNvSpPr/>
            <p:nvPr/>
          </p:nvSpPr>
          <p:spPr>
            <a:xfrm>
              <a:off x="6108840" y="2666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10884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6102360" y="2660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267960" y="26812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261840" y="26748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267600" y="2667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261480" y="26607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91040" y="28195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553080" y="2819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108840" y="3035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108840" y="3340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V="1">
              <a:off x="6102360" y="302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267960" y="3049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261840" y="304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267600" y="3035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261480" y="30290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991040" y="31878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553080" y="31878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108840" y="34034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108840" y="3708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6102360" y="339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267960" y="34178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261840" y="341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267600" y="3403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6261480" y="33973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991040" y="35560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6553080" y="35560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108840" y="3772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108840" y="4076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6102360" y="376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267960" y="3786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261840" y="37800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267600" y="3772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261480" y="37656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991040" y="3924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553080" y="39243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580392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8944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567648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81040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87376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74668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551196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9748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538452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51808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58180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454720" y="261000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H="1">
              <a:off x="521964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05520" y="25210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509220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22612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28948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6240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68052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65460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666900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666900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680076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80076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04880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02288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03728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03728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904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904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404120" y="55180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37856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39296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39296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2472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1164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41656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683320" y="21463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08840" y="4140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8840" y="4444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V="1">
              <a:off x="6102360" y="413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67960" y="4154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261840" y="41482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267600" y="4140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261480" y="41338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91040" y="42926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553080" y="42926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108840" y="4508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108840" y="4813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6102360" y="450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267960" y="45226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261840" y="45165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267600" y="45086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261480" y="45021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91040" y="466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553080" y="466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08840" y="4876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08840" y="5181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V="1">
              <a:off x="6102360" y="487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67960" y="4890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61840" y="48848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267600" y="4876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261480" y="48704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991040" y="502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53080" y="502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85468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56272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27040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70572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112160" y="622296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748044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6725880" y="2768760"/>
            <a:ext cx="858600" cy="2306520"/>
            <a:chOff x="6725880" y="2768760"/>
            <a:chExt cx="858600" cy="2306520"/>
          </a:xfrm>
        </p:grpSpPr>
        <p:grpSp>
          <p:nvGrpSpPr>
            <p:cNvPr id="4158" name=""/>
            <p:cNvGrpSpPr/>
            <p:nvPr/>
          </p:nvGrpSpPr>
          <p:grpSpPr>
            <a:xfrm>
              <a:off x="6738480" y="2779560"/>
              <a:ext cx="114120" cy="88920"/>
              <a:chOff x="6738480" y="2779560"/>
              <a:chExt cx="114120" cy="88920"/>
            </a:xfrm>
          </p:grpSpPr>
          <p:sp>
            <p:nvSpPr>
              <p:cNvPr id="4159" name=""/>
              <p:cNvSpPr/>
              <p:nvPr/>
            </p:nvSpPr>
            <p:spPr>
              <a:xfrm>
                <a:off x="6751440" y="2779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6738480" y="2779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6725880" y="3144960"/>
              <a:ext cx="114120" cy="88920"/>
              <a:chOff x="6725880" y="3144960"/>
              <a:chExt cx="114120" cy="88920"/>
            </a:xfrm>
          </p:grpSpPr>
          <p:sp>
            <p:nvSpPr>
              <p:cNvPr id="4162" name=""/>
              <p:cNvSpPr/>
              <p:nvPr/>
            </p:nvSpPr>
            <p:spPr>
              <a:xfrm>
                <a:off x="673884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>
                <a:off x="672588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6751440" y="3524400"/>
              <a:ext cx="114120" cy="88920"/>
              <a:chOff x="6751440" y="3524400"/>
              <a:chExt cx="114120" cy="88920"/>
            </a:xfrm>
          </p:grpSpPr>
          <p:sp>
            <p:nvSpPr>
              <p:cNvPr id="4165" name=""/>
              <p:cNvSpPr/>
              <p:nvPr/>
            </p:nvSpPr>
            <p:spPr>
              <a:xfrm>
                <a:off x="6764400" y="3524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6751440" y="3524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7105320" y="2768760"/>
              <a:ext cx="114120" cy="88920"/>
              <a:chOff x="7105320" y="2768760"/>
              <a:chExt cx="114120" cy="88920"/>
            </a:xfrm>
          </p:grpSpPr>
          <p:sp>
            <p:nvSpPr>
              <p:cNvPr id="4168" name=""/>
              <p:cNvSpPr/>
              <p:nvPr/>
            </p:nvSpPr>
            <p:spPr>
              <a:xfrm>
                <a:off x="7118280" y="276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7105320" y="2768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7105320" y="3890880"/>
              <a:ext cx="114120" cy="88920"/>
              <a:chOff x="7105320" y="3890880"/>
              <a:chExt cx="114120" cy="88920"/>
            </a:xfrm>
          </p:grpSpPr>
          <p:sp>
            <p:nvSpPr>
              <p:cNvPr id="4171" name=""/>
              <p:cNvSpPr/>
              <p:nvPr/>
            </p:nvSpPr>
            <p:spPr>
              <a:xfrm>
                <a:off x="7118280" y="38908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>
                <a:off x="7105320" y="38908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7103880" y="4243320"/>
              <a:ext cx="114120" cy="88920"/>
              <a:chOff x="7103880" y="4243320"/>
              <a:chExt cx="114120" cy="88920"/>
            </a:xfrm>
          </p:grpSpPr>
          <p:sp>
            <p:nvSpPr>
              <p:cNvPr id="4174" name=""/>
              <p:cNvSpPr/>
              <p:nvPr/>
            </p:nvSpPr>
            <p:spPr>
              <a:xfrm>
                <a:off x="7116840" y="4243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H="1">
                <a:off x="7103880" y="4243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7468920" y="3144960"/>
              <a:ext cx="114120" cy="88920"/>
              <a:chOff x="7468920" y="3144960"/>
              <a:chExt cx="114120" cy="88920"/>
            </a:xfrm>
          </p:grpSpPr>
          <p:sp>
            <p:nvSpPr>
              <p:cNvPr id="4177" name=""/>
              <p:cNvSpPr/>
              <p:nvPr/>
            </p:nvSpPr>
            <p:spPr>
              <a:xfrm>
                <a:off x="748188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H="1">
                <a:off x="746892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7470360" y="4633920"/>
              <a:ext cx="114120" cy="88920"/>
              <a:chOff x="7470360" y="4633920"/>
              <a:chExt cx="114120" cy="88920"/>
            </a:xfrm>
          </p:grpSpPr>
          <p:sp>
            <p:nvSpPr>
              <p:cNvPr id="4180" name=""/>
              <p:cNvSpPr/>
              <p:nvPr/>
            </p:nvSpPr>
            <p:spPr>
              <a:xfrm>
                <a:off x="7483320" y="4633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7470360" y="4633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7470360" y="4986360"/>
              <a:ext cx="114120" cy="88920"/>
              <a:chOff x="7470360" y="4986360"/>
              <a:chExt cx="114120" cy="88920"/>
            </a:xfrm>
          </p:grpSpPr>
          <p:sp>
            <p:nvSpPr>
              <p:cNvPr id="4183" name=""/>
              <p:cNvSpPr/>
              <p:nvPr/>
            </p:nvSpPr>
            <p:spPr>
              <a:xfrm>
                <a:off x="7483320" y="498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7470360" y="498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5" name=""/>
          <p:cNvSpPr/>
          <p:nvPr/>
        </p:nvSpPr>
        <p:spPr>
          <a:xfrm>
            <a:off x="331920" y="1509840"/>
            <a:ext cx="869292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5A3-716B-4BA7-A208-CE4A2F904A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4040280" y="3241800"/>
            <a:ext cx="1092240" cy="18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084560" y="40356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18608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43387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50360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6562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8085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737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3995640" y="5254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4643280" y="33498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757760" y="32353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897440" y="47466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132520" y="34639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132520" y="487368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32520" y="39337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5595840" y="33814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600228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6396120" y="33940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680256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132520" y="435276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5310000" y="3914640"/>
            <a:ext cx="292320" cy="374760"/>
            <a:chOff x="5310000" y="3914640"/>
            <a:chExt cx="292320" cy="374760"/>
          </a:xfrm>
        </p:grpSpPr>
        <p:sp>
          <p:nvSpPr>
            <p:cNvPr id="4207" name=""/>
            <p:cNvSpPr/>
            <p:nvPr/>
          </p:nvSpPr>
          <p:spPr>
            <a:xfrm flipH="1">
              <a:off x="5488200" y="3997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172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H="1">
              <a:off x="5398920" y="4086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5411880" y="4174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054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5399280" y="4181400"/>
              <a:ext cx="152280" cy="108000"/>
              <a:chOff x="5399280" y="4181400"/>
              <a:chExt cx="152280" cy="108000"/>
            </a:xfrm>
          </p:grpSpPr>
          <p:sp>
            <p:nvSpPr>
              <p:cNvPr id="4213" name=""/>
              <p:cNvSpPr/>
              <p:nvPr/>
            </p:nvSpPr>
            <p:spPr>
              <a:xfrm>
                <a:off x="5399280" y="422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24480" y="425124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62640" y="42894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8172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8172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3676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>
              <a:off x="5310000" y="4111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531684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31036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589720" y="3990960"/>
              <a:ext cx="126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3" name=""/>
          <p:cNvGrpSpPr/>
          <p:nvPr/>
        </p:nvGrpSpPr>
        <p:grpSpPr>
          <a:xfrm>
            <a:off x="5703840" y="3914640"/>
            <a:ext cx="304920" cy="374760"/>
            <a:chOff x="5703840" y="3914640"/>
            <a:chExt cx="304920" cy="374760"/>
          </a:xfrm>
        </p:grpSpPr>
        <p:sp>
          <p:nvSpPr>
            <p:cNvPr id="4224" name=""/>
            <p:cNvSpPr/>
            <p:nvPr/>
          </p:nvSpPr>
          <p:spPr>
            <a:xfrm flipH="1">
              <a:off x="5881320" y="399744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87556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H="1">
              <a:off x="5805360" y="4086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H="1">
              <a:off x="5818320" y="417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8118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9" name=""/>
            <p:cNvGrpSpPr/>
            <p:nvPr/>
          </p:nvGrpSpPr>
          <p:grpSpPr>
            <a:xfrm>
              <a:off x="5792760" y="4181400"/>
              <a:ext cx="165240" cy="108000"/>
              <a:chOff x="5792760" y="4181400"/>
              <a:chExt cx="165240" cy="108000"/>
            </a:xfrm>
          </p:grpSpPr>
          <p:sp>
            <p:nvSpPr>
              <p:cNvPr id="4230" name=""/>
              <p:cNvSpPr/>
              <p:nvPr/>
            </p:nvSpPr>
            <p:spPr>
              <a:xfrm>
                <a:off x="5792760" y="42260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830920" y="4251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869080" y="428940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87556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7556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57740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5716800" y="411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72292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0384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983560" y="399096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5703840" y="4346640"/>
            <a:ext cx="304920" cy="374400"/>
            <a:chOff x="5703840" y="4346640"/>
            <a:chExt cx="304920" cy="374400"/>
          </a:xfrm>
        </p:grpSpPr>
        <p:sp>
          <p:nvSpPr>
            <p:cNvPr id="4241" name=""/>
            <p:cNvSpPr/>
            <p:nvPr/>
          </p:nvSpPr>
          <p:spPr>
            <a:xfrm flipH="1">
              <a:off x="5881320" y="44290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7556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H="1">
              <a:off x="580536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581832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81184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792760" y="4600440"/>
              <a:ext cx="165240" cy="120600"/>
              <a:chOff x="5792760" y="4600440"/>
              <a:chExt cx="165240" cy="120600"/>
            </a:xfrm>
          </p:grpSpPr>
          <p:sp>
            <p:nvSpPr>
              <p:cNvPr id="4247" name=""/>
              <p:cNvSpPr/>
              <p:nvPr/>
            </p:nvSpPr>
            <p:spPr>
              <a:xfrm>
                <a:off x="579276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83092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586908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8755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8755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577404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571680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572292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70384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98356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6504120" y="4346640"/>
            <a:ext cx="304200" cy="374400"/>
            <a:chOff x="6504120" y="4346640"/>
            <a:chExt cx="304200" cy="374400"/>
          </a:xfrm>
        </p:grpSpPr>
        <p:sp>
          <p:nvSpPr>
            <p:cNvPr id="4258" name=""/>
            <p:cNvSpPr/>
            <p:nvPr/>
          </p:nvSpPr>
          <p:spPr>
            <a:xfrm flipH="1">
              <a:off x="6681240" y="44290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67512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660492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661788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61176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6592680" y="4600440"/>
              <a:ext cx="164880" cy="120600"/>
              <a:chOff x="6592680" y="4600440"/>
              <a:chExt cx="164880" cy="120600"/>
            </a:xfrm>
          </p:grpSpPr>
          <p:sp>
            <p:nvSpPr>
              <p:cNvPr id="4264" name=""/>
              <p:cNvSpPr/>
              <p:nvPr/>
            </p:nvSpPr>
            <p:spPr>
              <a:xfrm>
                <a:off x="6592680" y="46576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630480" y="468324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668640" y="472104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6747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747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9" name=""/>
            <p:cNvSpPr/>
            <p:nvPr/>
          </p:nvSpPr>
          <p:spPr>
            <a:xfrm>
              <a:off x="657360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H="1">
              <a:off x="6516000" y="45432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2284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04120" y="4346640"/>
              <a:ext cx="378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78312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4" name=""/>
          <p:cNvGrpSpPr/>
          <p:nvPr/>
        </p:nvGrpSpPr>
        <p:grpSpPr>
          <a:xfrm>
            <a:off x="5392800" y="2625840"/>
            <a:ext cx="368280" cy="806040"/>
            <a:chOff x="5392800" y="2625840"/>
            <a:chExt cx="368280" cy="806040"/>
          </a:xfrm>
        </p:grpSpPr>
        <p:sp>
          <p:nvSpPr>
            <p:cNvPr id="4275" name=""/>
            <p:cNvSpPr/>
            <p:nvPr/>
          </p:nvSpPr>
          <p:spPr>
            <a:xfrm>
              <a:off x="539280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596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5513400" y="2797200"/>
              <a:ext cx="165240" cy="101520"/>
              <a:chOff x="5513400" y="2797200"/>
              <a:chExt cx="165240" cy="101520"/>
            </a:xfrm>
          </p:grpSpPr>
          <p:sp>
            <p:nvSpPr>
              <p:cNvPr id="4278" name=""/>
              <p:cNvSpPr/>
              <p:nvPr/>
            </p:nvSpPr>
            <p:spPr>
              <a:xfrm>
                <a:off x="5513400" y="2892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V="1">
                <a:off x="551340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2320" y="2809800"/>
                <a:ext cx="763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1" name=""/>
            <p:cNvSpPr/>
            <p:nvPr/>
          </p:nvSpPr>
          <p:spPr>
            <a:xfrm flipV="1">
              <a:off x="5596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560232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>
              <a:off x="553860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555156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 flipV="1">
              <a:off x="553860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555156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 flipV="1">
              <a:off x="553860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555156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596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5799240" y="2625840"/>
            <a:ext cx="368280" cy="806040"/>
            <a:chOff x="5799240" y="2625840"/>
            <a:chExt cx="368280" cy="806040"/>
          </a:xfrm>
        </p:grpSpPr>
        <p:sp>
          <p:nvSpPr>
            <p:cNvPr id="4291" name=""/>
            <p:cNvSpPr/>
            <p:nvPr/>
          </p:nvSpPr>
          <p:spPr>
            <a:xfrm>
              <a:off x="579924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00264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5919840" y="2797200"/>
              <a:ext cx="152640" cy="101520"/>
              <a:chOff x="5919840" y="2797200"/>
              <a:chExt cx="152640" cy="101520"/>
            </a:xfrm>
          </p:grpSpPr>
          <p:sp>
            <p:nvSpPr>
              <p:cNvPr id="4294" name=""/>
              <p:cNvSpPr/>
              <p:nvPr/>
            </p:nvSpPr>
            <p:spPr>
              <a:xfrm>
                <a:off x="5919840" y="28922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591984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008760" y="2809800"/>
                <a:ext cx="637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7" name=""/>
            <p:cNvSpPr/>
            <p:nvPr/>
          </p:nvSpPr>
          <p:spPr>
            <a:xfrm flipV="1">
              <a:off x="600264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600876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 flipV="1">
              <a:off x="594504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595800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 flipV="1">
              <a:off x="594504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595800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 flipV="1">
              <a:off x="594504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595800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600264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6192720" y="2625840"/>
            <a:ext cx="368280" cy="806040"/>
            <a:chOff x="6192720" y="2625840"/>
            <a:chExt cx="368280" cy="806040"/>
          </a:xfrm>
        </p:grpSpPr>
        <p:sp>
          <p:nvSpPr>
            <p:cNvPr id="4307" name=""/>
            <p:cNvSpPr/>
            <p:nvPr/>
          </p:nvSpPr>
          <p:spPr>
            <a:xfrm>
              <a:off x="619272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39576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9" name=""/>
            <p:cNvGrpSpPr/>
            <p:nvPr/>
          </p:nvGrpSpPr>
          <p:grpSpPr>
            <a:xfrm>
              <a:off x="6313320" y="2797200"/>
              <a:ext cx="164880" cy="101520"/>
              <a:chOff x="6313320" y="2797200"/>
              <a:chExt cx="164880" cy="101520"/>
            </a:xfrm>
          </p:grpSpPr>
          <p:sp>
            <p:nvSpPr>
              <p:cNvPr id="4310" name=""/>
              <p:cNvSpPr/>
              <p:nvPr/>
            </p:nvSpPr>
            <p:spPr>
              <a:xfrm>
                <a:off x="631332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631332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40224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3" name=""/>
            <p:cNvSpPr/>
            <p:nvPr/>
          </p:nvSpPr>
          <p:spPr>
            <a:xfrm flipV="1">
              <a:off x="639576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40224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 flipV="1">
              <a:off x="633852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635148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 flipV="1">
              <a:off x="633852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635148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 flipV="1">
              <a:off x="633852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635148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639576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6599160" y="2625840"/>
            <a:ext cx="368280" cy="806040"/>
            <a:chOff x="6599160" y="2625840"/>
            <a:chExt cx="368280" cy="806040"/>
          </a:xfrm>
        </p:grpSpPr>
        <p:sp>
          <p:nvSpPr>
            <p:cNvPr id="4323" name=""/>
            <p:cNvSpPr/>
            <p:nvPr/>
          </p:nvSpPr>
          <p:spPr>
            <a:xfrm>
              <a:off x="659916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802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5" name=""/>
            <p:cNvGrpSpPr/>
            <p:nvPr/>
          </p:nvGrpSpPr>
          <p:grpSpPr>
            <a:xfrm>
              <a:off x="6719760" y="2797200"/>
              <a:ext cx="164880" cy="101520"/>
              <a:chOff x="6719760" y="2797200"/>
              <a:chExt cx="164880" cy="101520"/>
            </a:xfrm>
          </p:grpSpPr>
          <p:sp>
            <p:nvSpPr>
              <p:cNvPr id="4326" name=""/>
              <p:cNvSpPr/>
              <p:nvPr/>
            </p:nvSpPr>
            <p:spPr>
              <a:xfrm>
                <a:off x="671976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1976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80868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9" name=""/>
            <p:cNvSpPr/>
            <p:nvPr/>
          </p:nvSpPr>
          <p:spPr>
            <a:xfrm flipV="1">
              <a:off x="6802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808680" y="331740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 flipV="1">
              <a:off x="674496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757920" y="321624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 flipV="1">
              <a:off x="674496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757920" y="311472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 flipV="1">
              <a:off x="674496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75792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802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8" name=""/>
          <p:cNvSpPr/>
          <p:nvPr/>
        </p:nvSpPr>
        <p:spPr>
          <a:xfrm>
            <a:off x="7500960" y="3794040"/>
            <a:ext cx="1625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i] = 0011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j] =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786280" y="5775480"/>
            <a:ext cx="3416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 lines (normally pulled to 1 throug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stor – selectively connected to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word line controlled swit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897440" y="42130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4910040" y="3794040"/>
            <a:ext cx="19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1957320" y="4749840"/>
            <a:ext cx="232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al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614920" y="5184720"/>
            <a:ext cx="1625760" cy="55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59520" y="5197320"/>
            <a:ext cx="119376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440400" y="5197320"/>
            <a:ext cx="82548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846840" y="5210280"/>
            <a:ext cx="40644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7202520" y="2327400"/>
            <a:ext cx="54612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7202520" y="2327400"/>
            <a:ext cx="546120" cy="1612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V="1">
            <a:off x="7215120" y="2352600"/>
            <a:ext cx="520920" cy="198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7215120" y="2327400"/>
            <a:ext cx="533520" cy="25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107120" y="166068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 lines (only 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ctive – decoder 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right for th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ad-only memor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imensional array of 1s and 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(row) is called a "wor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row = word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s called an "addres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word i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8D7-88B5-497E-9414-1B1E1C3FFF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"/>
          <p:cNvSpPr/>
          <p:nvPr/>
        </p:nvSpPr>
        <p:spPr>
          <a:xfrm>
            <a:off x="2781360" y="2462040"/>
            <a:ext cx="370836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' B' C  +  A B' C'  +  A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' B' C  +  A' B C'  +  A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A' B' C'  +  A' B' C  +  A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A' B C  +  A B' C'  + A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1504800" y="4278240"/>
            <a:ext cx="2279880" cy="2361960"/>
            <a:chOff x="1504800" y="4278240"/>
            <a:chExt cx="2279880" cy="2361960"/>
          </a:xfrm>
        </p:grpSpPr>
        <p:sp>
          <p:nvSpPr>
            <p:cNvPr id="4356" name=""/>
            <p:cNvSpPr/>
            <p:nvPr/>
          </p:nvSpPr>
          <p:spPr>
            <a:xfrm>
              <a:off x="1828800" y="6246720"/>
              <a:ext cx="1397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562040" y="4278240"/>
              <a:ext cx="222264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504800" y="450684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222640" y="42973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5460840" y="4348080"/>
            <a:ext cx="2121120" cy="2292120"/>
            <a:chOff x="5460840" y="4348080"/>
            <a:chExt cx="2121120" cy="2292120"/>
          </a:xfrm>
        </p:grpSpPr>
        <p:sp>
          <p:nvSpPr>
            <p:cNvPr id="4361" name=""/>
            <p:cNvSpPr/>
            <p:nvPr/>
          </p:nvSpPr>
          <p:spPr>
            <a:xfrm>
              <a:off x="5689440" y="6246720"/>
              <a:ext cx="1765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492880" y="4348080"/>
              <a:ext cx="2057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V="1">
              <a:off x="57150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59436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61722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6294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8580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0866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3152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575320" y="4481280"/>
              <a:ext cx="1866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 words x 4 bits/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460840" y="5929200"/>
              <a:ext cx="1079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477120" y="5929200"/>
              <a:ext cx="1015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575320" y="5687640"/>
              <a:ext cx="2006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 implementation (two-level canonical form) using a 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59A-868D-4985-9FF2-15E1621ED4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PLA structure but with a fully decoded AN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flexible OR array (unlike 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982880" y="337032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9" name=""/>
          <p:cNvGrpSpPr/>
          <p:nvPr/>
        </p:nvGrpSpPr>
        <p:grpSpPr>
          <a:xfrm>
            <a:off x="2236680" y="2700360"/>
            <a:ext cx="2019240" cy="2587680"/>
            <a:chOff x="2236680" y="2700360"/>
            <a:chExt cx="2019240" cy="2587680"/>
          </a:xfrm>
        </p:grpSpPr>
        <p:sp>
          <p:nvSpPr>
            <p:cNvPr id="4380" name=""/>
            <p:cNvSpPr/>
            <p:nvPr/>
          </p:nvSpPr>
          <p:spPr>
            <a:xfrm>
              <a:off x="2236680" y="2700360"/>
              <a:ext cx="2019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address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1" name=""/>
            <p:cNvGrpSpPr/>
            <p:nvPr/>
          </p:nvGrpSpPr>
          <p:grpSpPr>
            <a:xfrm>
              <a:off x="2395440" y="3033720"/>
              <a:ext cx="1600200" cy="2254320"/>
              <a:chOff x="2395440" y="3033720"/>
              <a:chExt cx="1600200" cy="2254320"/>
            </a:xfrm>
          </p:grpSpPr>
          <p:sp>
            <p:nvSpPr>
              <p:cNvPr id="4382" name=""/>
              <p:cNvSpPr/>
              <p:nvPr/>
            </p:nvSpPr>
            <p:spPr>
              <a:xfrm>
                <a:off x="239544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890800" y="3033720"/>
                <a:ext cx="876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2840040" y="3363840"/>
                <a:ext cx="9270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in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2674800" y="4351320"/>
                <a:ext cx="10922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eco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84336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5264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54808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9" name=""/>
          <p:cNvGrpSpPr/>
          <p:nvPr/>
        </p:nvGrpSpPr>
        <p:grpSpPr>
          <a:xfrm>
            <a:off x="3995640" y="4068720"/>
            <a:ext cx="1676160" cy="1263600"/>
            <a:chOff x="3995640" y="4068720"/>
            <a:chExt cx="1676160" cy="1263600"/>
          </a:xfrm>
        </p:grpSpPr>
        <p:sp>
          <p:nvSpPr>
            <p:cNvPr id="4390" name=""/>
            <p:cNvSpPr/>
            <p:nvPr/>
          </p:nvSpPr>
          <p:spPr>
            <a:xfrm>
              <a:off x="4008240" y="439272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wor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995640" y="4068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95640" y="4297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995640" y="5135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4" name=""/>
          <p:cNvGrpSpPr/>
          <p:nvPr/>
        </p:nvGrpSpPr>
        <p:grpSpPr>
          <a:xfrm>
            <a:off x="5472000" y="3840120"/>
            <a:ext cx="2019240" cy="2884680"/>
            <a:chOff x="5472000" y="3840120"/>
            <a:chExt cx="2019240" cy="2884680"/>
          </a:xfrm>
        </p:grpSpPr>
        <p:grpSp>
          <p:nvGrpSpPr>
            <p:cNvPr id="4395" name=""/>
            <p:cNvGrpSpPr/>
            <p:nvPr/>
          </p:nvGrpSpPr>
          <p:grpSpPr>
            <a:xfrm>
              <a:off x="5532480" y="3840120"/>
              <a:ext cx="1854000" cy="2286000"/>
              <a:chOff x="5532480" y="3840120"/>
              <a:chExt cx="1854000" cy="2286000"/>
            </a:xfrm>
          </p:grpSpPr>
          <p:sp>
            <p:nvSpPr>
              <p:cNvPr id="4396" name=""/>
              <p:cNvSpPr/>
              <p:nvPr/>
            </p:nvSpPr>
            <p:spPr>
              <a:xfrm>
                <a:off x="567216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116760" y="5662440"/>
                <a:ext cx="109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964120" y="5307120"/>
                <a:ext cx="11811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out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532480" y="4005360"/>
                <a:ext cx="1854000" cy="9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word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y m bit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12008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12936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2444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5472000" y="6064200"/>
              <a:ext cx="201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 data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AE8-AEDD-4564-8086-72546D29949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vs. PL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ime is short (no need to minimize output fun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put combinations are needed (e.g., code conver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sharing of product terms among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doubles for each additiona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exploi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ools are available for multi-output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latively few unique minterm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interms are shared among the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fan-ins on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BE3-E380-40FB-89B2-413428046E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– full AND plane, general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(high-volume compon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of n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– programmable AND plane, fixed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functions limited by number of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eed (only one programmable plane that is much smaller than ROM's deco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 – programmable AND and OR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xpensive (most complex in design, need more sophisticated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up to a product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(two programmable pla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BB7-F1DB-4A75-B7B0-1D925CC2701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design f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engineering changes easier to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r for designers to understand and map to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think in terms of specif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think in terms of a large multi-purpos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C3C-B271-4A2F-A8AA-87EAB820A2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devise a regular structure for arbitrary connections between a large set of different type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/speed concerns for such 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467 you'll learn about field programmable gate arrays (FPGAs) that are just such programmable multi-leve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multiplexers for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les for logic functions (programming fill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urpose cells (utilization is the big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levels of PALs/PLAs/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ntermedi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an input to be used in furth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C8D-10FC-4B95-8337-966006A8A5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y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gates or i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to NAND-NAND and NOR-NO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simple gates to more complex gate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gate count, fan-ins, potentially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evels, harder 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sponse in combinatio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s and timing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ards/glitches (what they are and why they hap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s/deco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/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/disadvantages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3BA-B212-44DC-B94D-39AC71C1D8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09480" y="4152960"/>
            <a:ext cx="1828800" cy="1257120"/>
            <a:chOff x="609480" y="4152960"/>
            <a:chExt cx="1828800" cy="1257120"/>
          </a:xfrm>
        </p:grpSpPr>
        <p:sp>
          <p:nvSpPr>
            <p:cNvPr id="93" name=""/>
            <p:cNvSpPr/>
            <p:nvPr/>
          </p:nvSpPr>
          <p:spPr>
            <a:xfrm>
              <a:off x="1079280" y="41529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9480" y="4267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9480" y="4610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9480" y="52959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09480" y="49402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280" y="47880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1880" y="4280040"/>
              <a:ext cx="6098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1880" y="4622760"/>
              <a:ext cx="584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91880" y="4826160"/>
              <a:ext cx="584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091880" y="49399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1880" y="4280040"/>
              <a:ext cx="90180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1880" y="4622760"/>
              <a:ext cx="901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091880" y="4775040"/>
              <a:ext cx="901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91880" y="4775040"/>
              <a:ext cx="901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57680" y="4140360"/>
            <a:ext cx="1828800" cy="1257120"/>
            <a:chOff x="2857680" y="4140360"/>
            <a:chExt cx="1828800" cy="1257120"/>
          </a:xfrm>
        </p:grpSpPr>
        <p:sp>
          <p:nvSpPr>
            <p:cNvPr id="108" name=""/>
            <p:cNvSpPr/>
            <p:nvPr/>
          </p:nvSpPr>
          <p:spPr>
            <a:xfrm>
              <a:off x="3327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4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4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4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57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01920" y="4267080"/>
              <a:ext cx="9522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01920" y="4610160"/>
              <a:ext cx="952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301920" y="4762440"/>
              <a:ext cx="952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301920" y="4762440"/>
              <a:ext cx="95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340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40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0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0280" y="5524560"/>
            <a:ext cx="156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3640" y="5524560"/>
            <a:ext cx="181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520" y="4140360"/>
            <a:ext cx="1829160" cy="1257120"/>
            <a:chOff x="5384520" y="4140360"/>
            <a:chExt cx="1829160" cy="1257120"/>
          </a:xfrm>
        </p:grpSpPr>
        <p:sp>
          <p:nvSpPr>
            <p:cNvPr id="125" name=""/>
            <p:cNvSpPr/>
            <p:nvPr/>
          </p:nvSpPr>
          <p:spPr>
            <a:xfrm>
              <a:off x="58546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84520" y="425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84520" y="45975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4520" y="52833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84520" y="4927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2040" y="47750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640" y="4267080"/>
              <a:ext cx="60948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640" y="4610160"/>
              <a:ext cx="583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67640" y="4812840"/>
              <a:ext cx="5839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640" y="49273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640" y="4267080"/>
              <a:ext cx="90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640" y="4610160"/>
              <a:ext cx="90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640" y="4762440"/>
              <a:ext cx="90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67640" y="4762440"/>
              <a:ext cx="901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81680" y="4140360"/>
            <a:ext cx="1828800" cy="1257120"/>
            <a:chOff x="6781680" y="4140360"/>
            <a:chExt cx="1828800" cy="1257120"/>
          </a:xfrm>
        </p:grpSpPr>
        <p:sp>
          <p:nvSpPr>
            <p:cNvPr id="140" name=""/>
            <p:cNvSpPr/>
            <p:nvPr/>
          </p:nvSpPr>
          <p:spPr>
            <a:xfrm>
              <a:off x="7251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78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78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8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78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781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5920" y="4267080"/>
              <a:ext cx="952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25920" y="4610160"/>
              <a:ext cx="952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225920" y="4762440"/>
              <a:ext cx="952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225920" y="4762440"/>
              <a:ext cx="952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64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4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64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5524560"/>
            <a:ext cx="153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x4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11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91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1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684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120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2800" y="350532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5000" y="351792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king conne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oint-to-point connections between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one of many inputs to a single output --- 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a single input to one of many outputs --- de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FD0-16A2-46DC-AAF9-415FC555A5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implementation of multiplexers and demultiplex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osed to make arbitrary size switch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mplement multiple-source/multiple-destination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4876920"/>
            <a:ext cx="3632040" cy="1371600"/>
            <a:chOff x="4648320" y="4876920"/>
            <a:chExt cx="3632040" cy="1371600"/>
          </a:xfrm>
        </p:grpSpPr>
        <p:sp>
          <p:nvSpPr>
            <p:cNvPr id="170" name=""/>
            <p:cNvSpPr/>
            <p:nvPr/>
          </p:nvSpPr>
          <p:spPr>
            <a:xfrm>
              <a:off x="6692760" y="5639040"/>
              <a:ext cx="106704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68880" y="5639040"/>
              <a:ext cx="106668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4876920"/>
              <a:ext cx="106668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2760" y="4876920"/>
              <a:ext cx="106704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579132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840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8400" y="57787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45200" y="5715360"/>
              <a:ext cx="914400" cy="457200"/>
              <a:chOff x="5245200" y="5715360"/>
              <a:chExt cx="9144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696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96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520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39748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45200" y="4953240"/>
              <a:ext cx="914400" cy="457200"/>
              <a:chOff x="5245200" y="4953240"/>
              <a:chExt cx="914400" cy="457200"/>
            </a:xfrm>
          </p:grpSpPr>
          <p:sp>
            <p:nvSpPr>
              <p:cNvPr id="184" name=""/>
              <p:cNvSpPr/>
              <p:nvPr/>
            </p:nvSpPr>
            <p:spPr>
              <a:xfrm>
                <a:off x="600696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696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748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769080" y="5715360"/>
              <a:ext cx="914400" cy="457200"/>
              <a:chOff x="6769080" y="5715360"/>
              <a:chExt cx="914400" cy="45720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676908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6908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53084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2172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69080" y="4953240"/>
              <a:ext cx="914400" cy="457200"/>
              <a:chOff x="6769080" y="4953240"/>
              <a:chExt cx="914400" cy="4572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676908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76908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3084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92172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8" name=""/>
            <p:cNvCxnSpPr>
              <a:stCxn id="184" idx="6"/>
              <a:endCxn id="194" idx="6"/>
            </p:cNvCxnSpPr>
            <p:nvPr/>
          </p:nvCxnSpPr>
          <p:spPr>
            <a:xfrm flipV="1">
              <a:off x="6159240" y="5027040"/>
              <a:ext cx="6102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85" idx="5"/>
              <a:endCxn id="189" idx="7"/>
            </p:cNvCxnSpPr>
            <p:nvPr/>
          </p:nvCxnSpPr>
          <p:spPr>
            <a:xfrm>
              <a:off x="6136920" y="5388120"/>
              <a:ext cx="6548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9" idx="7"/>
              <a:endCxn id="195" idx="5"/>
            </p:cNvCxnSpPr>
            <p:nvPr/>
          </p:nvCxnSpPr>
          <p:spPr>
            <a:xfrm flipV="1">
              <a:off x="6136920" y="5386320"/>
              <a:ext cx="65484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80" idx="6"/>
              <a:endCxn id="190" idx="6"/>
            </p:cNvCxnSpPr>
            <p:nvPr/>
          </p:nvCxnSpPr>
          <p:spPr>
            <a:xfrm flipV="1">
              <a:off x="6159240" y="609444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76834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834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2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402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3200400"/>
            <a:ext cx="3631680" cy="1371600"/>
            <a:chOff x="990720" y="3200400"/>
            <a:chExt cx="3631680" cy="1371600"/>
          </a:xfrm>
        </p:grpSpPr>
        <p:sp>
          <p:nvSpPr>
            <p:cNvPr id="207" name=""/>
            <p:cNvSpPr/>
            <p:nvPr/>
          </p:nvSpPr>
          <p:spPr>
            <a:xfrm>
              <a:off x="303516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128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1128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516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411480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044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0440" y="4101840"/>
              <a:ext cx="266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587240" y="4038480"/>
              <a:ext cx="913680" cy="457200"/>
              <a:chOff x="1587240" y="4038480"/>
              <a:chExt cx="913680" cy="457200"/>
            </a:xfrm>
          </p:grpSpPr>
          <p:sp>
            <p:nvSpPr>
              <p:cNvPr id="216" name=""/>
              <p:cNvSpPr/>
              <p:nvPr/>
            </p:nvSpPr>
            <p:spPr>
              <a:xfrm>
                <a:off x="234900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4900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8724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952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87240" y="3276360"/>
              <a:ext cx="913680" cy="457200"/>
              <a:chOff x="1587240" y="3276360"/>
              <a:chExt cx="9136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234900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4900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8724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73952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111480" y="4038480"/>
              <a:ext cx="913320" cy="457200"/>
              <a:chOff x="3111480" y="4038480"/>
              <a:chExt cx="913320" cy="457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311148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11148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7216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26340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111480" y="3276360"/>
              <a:ext cx="913320" cy="457200"/>
              <a:chOff x="3111480" y="3276360"/>
              <a:chExt cx="913320" cy="45720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11148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11148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87216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26340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1" idx="6"/>
              <a:endCxn id="231" idx="6"/>
            </p:cNvCxnSpPr>
            <p:nvPr/>
          </p:nvCxnSpPr>
          <p:spPr>
            <a:xfrm flipV="1">
              <a:off x="2501280" y="335088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2" idx="5"/>
              <a:endCxn id="226" idx="7"/>
            </p:cNvCxnSpPr>
            <p:nvPr/>
          </p:nvCxnSpPr>
          <p:spPr>
            <a:xfrm>
              <a:off x="2479320" y="3711600"/>
              <a:ext cx="65412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6" idx="7"/>
              <a:endCxn id="232" idx="5"/>
            </p:cNvCxnSpPr>
            <p:nvPr/>
          </p:nvCxnSpPr>
          <p:spPr>
            <a:xfrm flipV="1">
              <a:off x="2479320" y="3709440"/>
              <a:ext cx="65412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17" idx="6"/>
              <a:endCxn id="227" idx="6"/>
            </p:cNvCxnSpPr>
            <p:nvPr/>
          </p:nvCxnSpPr>
          <p:spPr>
            <a:xfrm flipV="1">
              <a:off x="2501280" y="441756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40258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258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26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26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2E9-9131-4BFE-A829-3900D65A53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95960" y="3009960"/>
            <a:ext cx="260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inpu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3360" y="5321160"/>
            <a:ext cx="322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output 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9718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2971800"/>
            <a:ext cx="10670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4264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124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4640" y="3035160"/>
            <a:ext cx="851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60640"/>
            <a:ext cx="266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86200"/>
            <a:ext cx="266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5720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29718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5334120"/>
            <a:ext cx="40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9718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5960" y="3035160"/>
            <a:ext cx="850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384880"/>
            <a:ext cx="850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2743200" cy="1067040"/>
          </a:xfrm>
          <a:custGeom>
            <a:avLst/>
            <a:gdLst/>
            <a:ahLst/>
            <a:rect l="l" t="t" r="r" b="b"/>
            <a:pathLst>
              <a:path w="1729" h="649">
                <a:moveTo>
                  <a:pt x="0" y="0"/>
                </a:moveTo>
                <a:lnTo>
                  <a:pt x="504" y="0"/>
                </a:lnTo>
                <a:lnTo>
                  <a:pt x="648" y="0"/>
                </a:lnTo>
                <a:lnTo>
                  <a:pt x="864" y="288"/>
                </a:lnTo>
                <a:lnTo>
                  <a:pt x="1080" y="0"/>
                </a:lnTo>
                <a:lnTo>
                  <a:pt x="1728" y="0"/>
                </a:lnTo>
                <a:lnTo>
                  <a:pt x="1368" y="648"/>
                </a:lnTo>
                <a:lnTo>
                  <a:pt x="360" y="6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of multiplexers/demultiplexers in multi-point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41308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6095880"/>
            <a:ext cx="304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6095880"/>
            <a:ext cx="304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BDC-3B69-458E-A209-84DE9632F0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5473800"/>
            <a:ext cx="294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alternative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a 2:1 Mux 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686480"/>
            <a:ext cx="187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43400" y="41907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343400" y="44197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349880" y="3282840"/>
            <a:ext cx="920520" cy="870120"/>
            <a:chOff x="4349880" y="3282840"/>
            <a:chExt cx="920520" cy="870120"/>
          </a:xfrm>
        </p:grpSpPr>
        <p:sp>
          <p:nvSpPr>
            <p:cNvPr id="283" name=""/>
            <p:cNvSpPr/>
            <p:nvPr/>
          </p:nvSpPr>
          <p:spPr>
            <a:xfrm>
              <a:off x="4406760" y="32893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9840" y="328284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9880" y="35560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76760" y="3125880"/>
            <a:ext cx="1822680" cy="2604600"/>
            <a:chOff x="6476760" y="3125880"/>
            <a:chExt cx="1822680" cy="2604600"/>
          </a:xfrm>
        </p:grpSpPr>
        <p:sp>
          <p:nvSpPr>
            <p:cNvPr id="287" name=""/>
            <p:cNvSpPr/>
            <p:nvPr/>
          </p:nvSpPr>
          <p:spPr>
            <a:xfrm>
              <a:off x="6546960" y="3125880"/>
              <a:ext cx="175248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144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04080" y="3220920"/>
              <a:ext cx="0" cy="24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519360"/>
              <a:ext cx="17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54080" y="3645000"/>
            <a:ext cx="1803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+ A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xers/selecto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inputs, n control inputs (called "selects"), 1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nec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singl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ignal pattern forms binary index of input connected to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1A5-9453-4E97-951E-13802156A7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56040" y="34210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3080" y="3352680"/>
            <a:ext cx="2362320" cy="2755800"/>
            <a:chOff x="6553080" y="3352680"/>
            <a:chExt cx="2362320" cy="2755800"/>
          </a:xfrm>
        </p:grpSpPr>
        <p:sp>
          <p:nvSpPr>
            <p:cNvPr id="295" name=""/>
            <p:cNvSpPr/>
            <p:nvPr/>
          </p:nvSpPr>
          <p:spPr>
            <a:xfrm>
              <a:off x="6553080" y="3352680"/>
              <a:ext cx="304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8160" y="3759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8160" y="3987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8160" y="46735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5130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8160" y="4216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4902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8160" y="4444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816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30880" y="3651120"/>
              <a:ext cx="914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3533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5819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105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89640" y="54990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40400" y="408924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56320" y="4178160"/>
              <a:ext cx="55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45280" y="455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48040" y="4508640"/>
            <a:ext cx="2361960" cy="1841400"/>
            <a:chOff x="3848040" y="4508640"/>
            <a:chExt cx="2361960" cy="1841400"/>
          </a:xfrm>
        </p:grpSpPr>
        <p:sp>
          <p:nvSpPr>
            <p:cNvPr id="313" name=""/>
            <p:cNvSpPr/>
            <p:nvPr/>
          </p:nvSpPr>
          <p:spPr>
            <a:xfrm>
              <a:off x="3848040" y="450864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82760" y="4915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2760" y="537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2760" y="514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2760" y="5600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5840" y="4807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7624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9910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8720" y="574056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9800" y="47750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48769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0240" y="5257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90720" y="4952880"/>
            <a:ext cx="2361960" cy="1384200"/>
            <a:chOff x="990720" y="4952880"/>
            <a:chExt cx="2361960" cy="1384200"/>
          </a:xfrm>
        </p:grpSpPr>
        <p:sp>
          <p:nvSpPr>
            <p:cNvPr id="326" name=""/>
            <p:cNvSpPr/>
            <p:nvPr/>
          </p:nvSpPr>
          <p:spPr>
            <a:xfrm>
              <a:off x="990720" y="4952880"/>
              <a:ext cx="304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2544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5440" y="558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8520" y="525132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019240" y="5695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880" y="57276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78040" y="496548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3960" y="509256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547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2040" y="36910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11840" y="3324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(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interm shorthand form for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004-C08A-415F-BFE4-59FD546673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5:57Z</dcterms:created>
  <dc:creator>Gaetano Borriello</dc:creator>
  <dc:description/>
  <dc:language>en-US</dc:language>
  <cp:lastModifiedBy>Gaetano Borriello</cp:lastModifiedBy>
  <cp:lastPrinted>1999-04-12T19:46:03Z</cp:lastPrinted>
  <dcterms:modified xsi:type="dcterms:W3CDTF">2005-01-24T06:59:49Z</dcterms:modified>
  <cp:revision>34</cp:revision>
  <dc:subject/>
  <dc:title>Combinational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