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269413" cy="6948488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39F3-DD4F-4F57-BC96-EDDBE7792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3B3D-615E-482A-8CDD-C2D9482CE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F279-3C3B-4CB8-9F27-6F19466E1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29EE-12D2-4663-B77B-EFCE81D01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29792-ABA6-40C3-BF6C-7DC46A4CD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7646E-85DF-4831-8688-AD8292605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8D264-083E-4E4B-895D-FF1FD341E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46DBC-327E-420F-BD95-4B9AB603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8B271-BCAF-4059-9CC7-6C4C48B3B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47F9C-0448-4829-8D55-7A024D73D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40255-F5E0-477B-863A-EB0D05D5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720A-0A89-40E8-A988-C8F7DBD59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F3139-341F-490D-A236-5DE63049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4E4F9-B575-484F-B7A4-3E14C557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92F52-5E44-4D50-B8CA-E9714FEEA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72AE6-64CF-4859-A86A-C081A4E4A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B8794-3DC7-4A9E-A452-989FDD513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A7CF-D2DD-4E78-9303-75DAD9F53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873E-45EC-4B32-9F09-BD31AC168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C3E5-621E-4B26-807F-EDBB60783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4B18-0A0E-430C-B41A-089E25BE7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6FC5-5151-46AF-BB06-17D35E00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1E82-4375-4D67-900C-E7DAB90E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1FA8-AAA5-4077-9411-8EE71FE6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57200" indent="-31896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4452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3680" y="647856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54280" y="6483240"/>
            <a:ext cx="396072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43800" y="647856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1E79F87-055B-4770-BB9A-AC185F7575A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5920" y="231840"/>
            <a:ext cx="8343720" cy="617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1542600"/>
            <a:ext cx="7729560" cy="1776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3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66920" y="6324480"/>
            <a:ext cx="29368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F882371-1F8F-4A3B-A8F8-727F805E8FF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400" y="1235160"/>
            <a:ext cx="8035920" cy="9255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08080" y="4013280"/>
            <a:ext cx="66024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orking with combination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3320" y="1493640"/>
            <a:ext cx="880740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plif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-level simpl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iting don’t c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orithm for simpl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ic re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-level logic and canonical forms realized with NANDs and N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-level logic, converting between ANDs and 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me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rdware description langu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4932-834A-4CFA-802B-7B857979FF6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9" name=""/>
          <p:cNvGrpSpPr/>
          <p:nvPr/>
        </p:nvGrpSpPr>
        <p:grpSpPr>
          <a:xfrm>
            <a:off x="747360" y="1839960"/>
            <a:ext cx="2335680" cy="1711440"/>
            <a:chOff x="747360" y="1839960"/>
            <a:chExt cx="2335680" cy="1711440"/>
          </a:xfrm>
        </p:grpSpPr>
        <p:grpSp>
          <p:nvGrpSpPr>
            <p:cNvPr id="810" name=""/>
            <p:cNvGrpSpPr/>
            <p:nvPr/>
          </p:nvGrpSpPr>
          <p:grpSpPr>
            <a:xfrm>
              <a:off x="747360" y="2705040"/>
              <a:ext cx="662040" cy="451080"/>
              <a:chOff x="747360" y="2705040"/>
              <a:chExt cx="662040" cy="451080"/>
            </a:xfrm>
          </p:grpSpPr>
          <p:sp>
            <p:nvSpPr>
              <p:cNvPr id="811" name=""/>
              <p:cNvSpPr/>
              <p:nvPr/>
            </p:nvSpPr>
            <p:spPr>
              <a:xfrm flipH="1">
                <a:off x="844200" y="2737080"/>
                <a:ext cx="565200" cy="37116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H="1">
                <a:off x="747360" y="2705040"/>
                <a:ext cx="209520" cy="45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3" name=""/>
            <p:cNvGrpSpPr/>
            <p:nvPr/>
          </p:nvGrpSpPr>
          <p:grpSpPr>
            <a:xfrm>
              <a:off x="2421000" y="2711520"/>
              <a:ext cx="662040" cy="450720"/>
              <a:chOff x="2421000" y="2711520"/>
              <a:chExt cx="662040" cy="450720"/>
            </a:xfrm>
          </p:grpSpPr>
          <p:sp>
            <p:nvSpPr>
              <p:cNvPr id="814" name=""/>
              <p:cNvSpPr/>
              <p:nvPr/>
            </p:nvSpPr>
            <p:spPr>
              <a:xfrm>
                <a:off x="2421000" y="2743200"/>
                <a:ext cx="565200" cy="37080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2873520" y="2711520"/>
                <a:ext cx="209520" cy="45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6" name=""/>
            <p:cNvGrpSpPr/>
            <p:nvPr/>
          </p:nvGrpSpPr>
          <p:grpSpPr>
            <a:xfrm>
              <a:off x="1065240" y="1839960"/>
              <a:ext cx="1711440" cy="1711440"/>
              <a:chOff x="1065240" y="1839960"/>
              <a:chExt cx="1711440" cy="1711440"/>
            </a:xfrm>
          </p:grpSpPr>
          <p:sp>
            <p:nvSpPr>
              <p:cNvPr id="817" name=""/>
              <p:cNvSpPr/>
              <p:nvPr/>
            </p:nvSpPr>
            <p:spPr>
              <a:xfrm>
                <a:off x="1986120" y="2744640"/>
                <a:ext cx="790560" cy="806760"/>
              </a:xfrm>
              <a:custGeom>
                <a:avLst/>
                <a:gdLst>
                  <a:gd name="textAreaLeft" fmla="*/ 38520 w 790560"/>
                  <a:gd name="textAreaRight" fmla="*/ 752040 w 790560"/>
                  <a:gd name="textAreaTop" fmla="*/ 38520 h 806760"/>
                  <a:gd name="textAreaBottom" fmla="*/ 768240 h 806760"/>
                </a:gdLst>
                <a:ahLst/>
                <a:rect l="textAreaLeft" t="textAreaTop" r="textAreaRight" b="textAreaBottom"/>
                <a:pathLst>
                  <a:path w="21600" h="22042">
                    <a:moveTo>
                      <a:pt x="3600" y="0"/>
                    </a:moveTo>
                    <a:arcTo wR="3600" hR="3600" stAng="16200000" swAng="-5400000"/>
                    <a:lnTo>
                      <a:pt x="0" y="18442"/>
                    </a:lnTo>
                    <a:arcTo wR="3600" hR="3600" stAng="10800000" swAng="-5400000"/>
                    <a:lnTo>
                      <a:pt x="18000" y="2204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986120" y="1839960"/>
                <a:ext cx="322200" cy="1695240"/>
              </a:xfrm>
              <a:custGeom>
                <a:avLst/>
                <a:gdLst>
                  <a:gd name="textAreaLeft" fmla="*/ 15480 w 322200"/>
                  <a:gd name="textAreaRight" fmla="*/ 306720 w 322200"/>
                  <a:gd name="textAreaTop" fmla="*/ 15480 h 1695240"/>
                  <a:gd name="textAreaBottom" fmla="*/ 1679760 h 1695240"/>
                </a:gdLst>
                <a:ahLst/>
                <a:rect l="textAreaLeft" t="textAreaTop" r="textAreaRight" b="textAreaBottom"/>
                <a:pathLst>
                  <a:path w="21600" h="113545">
                    <a:moveTo>
                      <a:pt x="3600" y="0"/>
                    </a:moveTo>
                    <a:arcTo wR="3600" hR="3600" stAng="16200000" swAng="-5400000"/>
                    <a:lnTo>
                      <a:pt x="0" y="109945"/>
                    </a:lnTo>
                    <a:arcTo wR="3600" hR="3600" stAng="10800000" swAng="-5400000"/>
                    <a:lnTo>
                      <a:pt x="18000" y="11354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1065240" y="2292480"/>
                <a:ext cx="774720" cy="32220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1517760" y="1859040"/>
                <a:ext cx="758880" cy="74124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1114560" y="2340000"/>
                <a:ext cx="257040" cy="758880"/>
              </a:xfrm>
              <a:custGeom>
                <a:avLst/>
                <a:gdLst>
                  <a:gd name="textAreaLeft" fmla="*/ 12240 w 257040"/>
                  <a:gd name="textAreaRight" fmla="*/ 244800 w 257040"/>
                  <a:gd name="textAreaTop" fmla="*/ 12240 h 758880"/>
                  <a:gd name="textAreaBottom" fmla="*/ 746640 h 758880"/>
                </a:gdLst>
                <a:ahLst/>
                <a:rect l="textAreaLeft" t="textAreaTop" r="textAreaRight" b="textAreaBottom"/>
                <a:pathLst>
                  <a:path w="21600" h="63712">
                    <a:moveTo>
                      <a:pt x="3600" y="0"/>
                    </a:moveTo>
                    <a:arcTo wR="3600" hR="3600" stAng="16200000" swAng="-5400000"/>
                    <a:lnTo>
                      <a:pt x="0" y="60112"/>
                    </a:lnTo>
                    <a:arcTo wR="3600" hR="3600" stAng="10800000" swAng="-5400000"/>
                    <a:lnTo>
                      <a:pt x="18000" y="6371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2" name=""/>
          <p:cNvGrpSpPr/>
          <p:nvPr/>
        </p:nvGrpSpPr>
        <p:grpSpPr>
          <a:xfrm>
            <a:off x="713160" y="1557360"/>
            <a:ext cx="2775960" cy="2365200"/>
            <a:chOff x="713160" y="1557360"/>
            <a:chExt cx="2775960" cy="2365200"/>
          </a:xfrm>
        </p:grpSpPr>
        <p:sp>
          <p:nvSpPr>
            <p:cNvPr id="823" name=""/>
            <p:cNvSpPr/>
            <p:nvPr/>
          </p:nvSpPr>
          <p:spPr>
            <a:xfrm>
              <a:off x="1182240" y="1878120"/>
              <a:ext cx="82584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091960" y="18763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922040" y="178596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369880" y="17892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1912680" y="22366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922040" y="178596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839680" y="222264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904840" y="25113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328480" y="15573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007640" y="178596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455480" y="17892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998280" y="22366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174320" y="28162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084040" y="28144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922040" y="27036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369880" y="27068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1912680" y="31543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455480" y="36180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007640" y="2692440"/>
              <a:ext cx="0" cy="92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861920" y="35924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007640" y="27036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455480" y="27068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998280" y="31543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13160" y="299556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1012680" y="4368960"/>
            <a:ext cx="4908600" cy="696600"/>
            <a:chOff x="1012680" y="4368960"/>
            <a:chExt cx="4908600" cy="696600"/>
          </a:xfrm>
        </p:grpSpPr>
        <p:sp>
          <p:nvSpPr>
            <p:cNvPr id="848" name=""/>
            <p:cNvSpPr/>
            <p:nvPr/>
          </p:nvSpPr>
          <p:spPr>
            <a:xfrm>
              <a:off x="1012680" y="4368960"/>
              <a:ext cx="4470480" cy="69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spcBef>
                  <a:spcPts val="11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 prime implicants: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D, ABC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, ACD, 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C, 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803840" y="4908600"/>
              <a:ext cx="111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s to illustrate ter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6003000" y="4130640"/>
            <a:ext cx="2775960" cy="2365200"/>
            <a:chOff x="6003000" y="4130640"/>
            <a:chExt cx="2775960" cy="2365200"/>
          </a:xfrm>
        </p:grpSpPr>
        <p:sp>
          <p:nvSpPr>
            <p:cNvPr id="852" name=""/>
            <p:cNvSpPr/>
            <p:nvPr/>
          </p:nvSpPr>
          <p:spPr>
            <a:xfrm>
              <a:off x="6472080" y="4451400"/>
              <a:ext cx="82584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381800" y="444960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211880" y="43592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659720" y="43624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7202520" y="48099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211880" y="43592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8129520" y="479592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194680" y="50846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618320" y="41306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297480" y="43592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745320" y="43624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6288120" y="48099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464160" y="538956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373880" y="538776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211880" y="527688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659720" y="52801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7202520" y="57276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45320" y="61912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297480" y="5265720"/>
              <a:ext cx="0" cy="92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151760" y="61657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297480" y="527688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745320" y="52801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6288120" y="57276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003000" y="556884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6" name=""/>
          <p:cNvGrpSpPr/>
          <p:nvPr/>
        </p:nvGrpSpPr>
        <p:grpSpPr>
          <a:xfrm>
            <a:off x="3223800" y="1717560"/>
            <a:ext cx="5447160" cy="841320"/>
            <a:chOff x="3223800" y="1717560"/>
            <a:chExt cx="5447160" cy="841320"/>
          </a:xfrm>
        </p:grpSpPr>
        <p:sp>
          <p:nvSpPr>
            <p:cNvPr id="877" name=""/>
            <p:cNvSpPr/>
            <p:nvPr/>
          </p:nvSpPr>
          <p:spPr>
            <a:xfrm>
              <a:off x="4200480" y="1717560"/>
              <a:ext cx="447048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spcBef>
                  <a:spcPts val="11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 prime implicants: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, BC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, AC, 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, AB, B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D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3223800" y="2257560"/>
              <a:ext cx="1312920" cy="30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9" name=""/>
          <p:cNvSpPr/>
          <p:nvPr/>
        </p:nvSpPr>
        <p:spPr>
          <a:xfrm>
            <a:off x="4202280" y="3222720"/>
            <a:ext cx="367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nimum cover: AC + BC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'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+ A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'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'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0" name=""/>
          <p:cNvGrpSpPr/>
          <p:nvPr/>
        </p:nvGrpSpPr>
        <p:grpSpPr>
          <a:xfrm>
            <a:off x="6073560" y="2371320"/>
            <a:ext cx="1532160" cy="605160"/>
            <a:chOff x="6073560" y="2371320"/>
            <a:chExt cx="1532160" cy="605160"/>
          </a:xfrm>
        </p:grpSpPr>
        <p:sp>
          <p:nvSpPr>
            <p:cNvPr id="881" name=""/>
            <p:cNvSpPr/>
            <p:nvPr/>
          </p:nvSpPr>
          <p:spPr>
            <a:xfrm flipH="1" flipV="1">
              <a:off x="6073560" y="2371320"/>
              <a:ext cx="430200" cy="41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475680" y="2608200"/>
              <a:ext cx="113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ssent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6343560" y="4406760"/>
            <a:ext cx="1727280" cy="1727280"/>
            <a:chOff x="6343560" y="4406760"/>
            <a:chExt cx="1727280" cy="1727280"/>
          </a:xfrm>
        </p:grpSpPr>
        <p:sp>
          <p:nvSpPr>
            <p:cNvPr id="884" name=""/>
            <p:cNvSpPr/>
            <p:nvPr/>
          </p:nvSpPr>
          <p:spPr>
            <a:xfrm>
              <a:off x="7280280" y="4406760"/>
              <a:ext cx="338040" cy="808200"/>
            </a:xfrm>
            <a:custGeom>
              <a:avLst/>
              <a:gdLst>
                <a:gd name="textAreaLeft" fmla="*/ 16200 w 338040"/>
                <a:gd name="textAreaRight" fmla="*/ 321840 w 338040"/>
                <a:gd name="textAreaTop" fmla="*/ 16200 h 808200"/>
                <a:gd name="textAreaBottom" fmla="*/ 792000 h 808200"/>
              </a:gdLst>
              <a:ahLst/>
              <a:rect l="textAreaLeft" t="textAreaTop" r="textAreaRight" b="textAreaBottom"/>
              <a:pathLst>
                <a:path w="21600" h="51610">
                  <a:moveTo>
                    <a:pt x="3600" y="0"/>
                  </a:moveTo>
                  <a:arcTo wR="3600" hR="3600" stAng="16200000" swAng="-5400000"/>
                  <a:lnTo>
                    <a:pt x="0" y="48010"/>
                  </a:lnTo>
                  <a:arcTo wR="3600" hR="3600" stAng="10800000" swAng="-5400000"/>
                  <a:lnTo>
                    <a:pt x="18000" y="516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343560" y="4859280"/>
              <a:ext cx="824040" cy="3715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796080" y="5327640"/>
              <a:ext cx="355680" cy="806400"/>
            </a:xfrm>
            <a:custGeom>
              <a:avLst/>
              <a:gdLst>
                <a:gd name="textAreaLeft" fmla="*/ 17280 w 355680"/>
                <a:gd name="textAreaRight" fmla="*/ 338400 w 355680"/>
                <a:gd name="textAreaTop" fmla="*/ 17280 h 806400"/>
                <a:gd name="textAreaBottom" fmla="*/ 789120 h 806400"/>
              </a:gdLst>
              <a:ahLst/>
              <a:rect l="textAreaLeft" t="textAreaTop" r="textAreaRight" b="textAreaBottom"/>
              <a:pathLst>
                <a:path w="21600" h="48944">
                  <a:moveTo>
                    <a:pt x="3600" y="0"/>
                  </a:moveTo>
                  <a:arcTo wR="3600" hR="3600" stAng="16200000" swAng="-5400000"/>
                  <a:lnTo>
                    <a:pt x="0" y="45344"/>
                  </a:lnTo>
                  <a:arcTo wR="3600" hR="3600" stAng="10800000" swAng="-5400000"/>
                  <a:lnTo>
                    <a:pt x="18000" y="4894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280280" y="5343480"/>
              <a:ext cx="790560" cy="33804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811920" y="4924440"/>
              <a:ext cx="758880" cy="7254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9" name=""/>
          <p:cNvSpPr/>
          <p:nvPr/>
        </p:nvSpPr>
        <p:spPr>
          <a:xfrm>
            <a:off x="781200" y="5900760"/>
            <a:ext cx="42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nimum cover: 4 essential implic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0" name=""/>
          <p:cNvGrpSpPr/>
          <p:nvPr/>
        </p:nvGrpSpPr>
        <p:grpSpPr>
          <a:xfrm>
            <a:off x="917640" y="5035680"/>
            <a:ext cx="3168360" cy="682560"/>
            <a:chOff x="917640" y="5035680"/>
            <a:chExt cx="3168360" cy="682560"/>
          </a:xfrm>
        </p:grpSpPr>
        <p:grpSp>
          <p:nvGrpSpPr>
            <p:cNvPr id="891" name=""/>
            <p:cNvGrpSpPr/>
            <p:nvPr/>
          </p:nvGrpSpPr>
          <p:grpSpPr>
            <a:xfrm>
              <a:off x="2085840" y="5035680"/>
              <a:ext cx="2000160" cy="419040"/>
              <a:chOff x="2085840" y="5035680"/>
              <a:chExt cx="2000160" cy="419040"/>
            </a:xfrm>
          </p:grpSpPr>
          <p:sp>
            <p:nvSpPr>
              <p:cNvPr id="892" name=""/>
              <p:cNvSpPr/>
              <p:nvPr/>
            </p:nvSpPr>
            <p:spPr>
              <a:xfrm flipV="1">
                <a:off x="2085840" y="5047920"/>
                <a:ext cx="0" cy="40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V="1">
                <a:off x="2091960" y="5047920"/>
                <a:ext cx="622440" cy="40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flipV="1">
                <a:off x="2091960" y="5047920"/>
                <a:ext cx="1282680" cy="40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flipV="1">
                <a:off x="2104920" y="5035680"/>
                <a:ext cx="1981080" cy="419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6" name=""/>
            <p:cNvSpPr/>
            <p:nvPr/>
          </p:nvSpPr>
          <p:spPr>
            <a:xfrm>
              <a:off x="917640" y="5349960"/>
              <a:ext cx="113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ssent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E2B1-42AB-4640-9F3E-A827611197D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lgorithm for two-level simplific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51832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5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orithm: minimum sum-of-products expression from a Karnaugh ma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1: choose an element of the ON-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2: find "maximal" groupings of 1s and Xs adjacent to that 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6920" indent="-231840">
              <a:lnSpc>
                <a:spcPct val="95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ider top/bottom row, left/right column, and corner adjacen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6920" indent="-231840">
              <a:lnSpc>
                <a:spcPct val="95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forms prime implicants  (number of elements always a power of 2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 Steps 1 and 2 to find all prime implica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3: revisit the 1s in the K-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6920" indent="-231840">
              <a:lnSpc>
                <a:spcPct val="95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covered by single prime implicant, it is essential, and participates in final co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6920" indent="-231840">
              <a:lnSpc>
                <a:spcPct val="95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s covered by essential prime implicant do not need to be revisi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4: if there remain 1s not covered by essential prime implic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6920" indent="-231840">
              <a:lnSpc>
                <a:spcPct val="95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 the smallest number of prime implicants that cover the remaining 1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5F5A-FBD3-442E-B5F2-500A4A4D664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9" name=""/>
          <p:cNvGrpSpPr/>
          <p:nvPr/>
        </p:nvGrpSpPr>
        <p:grpSpPr>
          <a:xfrm>
            <a:off x="474840" y="3968640"/>
            <a:ext cx="2795400" cy="2598840"/>
            <a:chOff x="474840" y="3968640"/>
            <a:chExt cx="2795400" cy="2598840"/>
          </a:xfrm>
        </p:grpSpPr>
        <p:sp>
          <p:nvSpPr>
            <p:cNvPr id="900" name=""/>
            <p:cNvSpPr/>
            <p:nvPr/>
          </p:nvSpPr>
          <p:spPr>
            <a:xfrm>
              <a:off x="2146320" y="4202280"/>
              <a:ext cx="474480" cy="450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273320" y="4272120"/>
              <a:ext cx="355320" cy="1726920"/>
            </a:xfrm>
            <a:custGeom>
              <a:avLst/>
              <a:gdLst>
                <a:gd name="textAreaLeft" fmla="*/ 17280 w 355320"/>
                <a:gd name="textAreaRight" fmla="*/ 338040 w 355320"/>
                <a:gd name="textAreaTop" fmla="*/ 17280 h 1726920"/>
                <a:gd name="textAreaBottom" fmla="*/ 1709640 h 1726920"/>
              </a:gdLst>
              <a:ahLst/>
              <a:rect l="textAreaLeft" t="textAreaTop" r="textAreaRight" b="textAreaBottom"/>
              <a:pathLst>
                <a:path w="21600" h="104896">
                  <a:moveTo>
                    <a:pt x="3600" y="0"/>
                  </a:moveTo>
                  <a:arcTo wR="3600" hR="3600" stAng="16200000" swAng="-5400000"/>
                  <a:lnTo>
                    <a:pt x="0" y="101296"/>
                  </a:lnTo>
                  <a:arcTo wR="3600" hR="3600" stAng="10800000" swAng="-5400000"/>
                  <a:lnTo>
                    <a:pt x="18000" y="1048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852480" y="4303800"/>
              <a:ext cx="711360" cy="30636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312920" y="4713120"/>
              <a:ext cx="774720" cy="808200"/>
            </a:xfrm>
            <a:custGeom>
              <a:avLst/>
              <a:gdLst>
                <a:gd name="textAreaLeft" fmla="*/ 37800 w 774720"/>
                <a:gd name="textAreaRight" fmla="*/ 736920 w 774720"/>
                <a:gd name="textAreaTop" fmla="*/ 37800 h 808200"/>
                <a:gd name="textAreaBottom" fmla="*/ 770400 h 808200"/>
              </a:gdLst>
              <a:ahLst/>
              <a:rect l="textAreaLeft" t="textAreaTop" r="textAreaRight" b="textAreaBottom"/>
              <a:pathLst>
                <a:path w="21600" h="22533">
                  <a:moveTo>
                    <a:pt x="3600" y="0"/>
                  </a:moveTo>
                  <a:arcTo wR="3600" hR="3600" stAng="16200000" swAng="-5400000"/>
                  <a:lnTo>
                    <a:pt x="0" y="18933"/>
                  </a:lnTo>
                  <a:arcTo wR="3600" hR="3600" stAng="10800000" swAng="-5400000"/>
                  <a:lnTo>
                    <a:pt x="18000" y="2253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781280" y="4745160"/>
              <a:ext cx="758880" cy="3394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5" name=""/>
            <p:cNvGrpSpPr/>
            <p:nvPr/>
          </p:nvGrpSpPr>
          <p:grpSpPr>
            <a:xfrm>
              <a:off x="494280" y="3968640"/>
              <a:ext cx="2775960" cy="2365200"/>
              <a:chOff x="494280" y="3968640"/>
              <a:chExt cx="2775960" cy="2365200"/>
            </a:xfrm>
          </p:grpSpPr>
          <p:sp>
            <p:nvSpPr>
              <p:cNvPr id="906" name=""/>
              <p:cNvSpPr/>
              <p:nvPr/>
            </p:nvSpPr>
            <p:spPr>
              <a:xfrm>
                <a:off x="963360" y="4289400"/>
                <a:ext cx="82584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873080" y="428760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703160" y="419724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2151000" y="42004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flipH="1">
                <a:off x="1693800" y="46479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703160" y="419724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620800" y="4633920"/>
                <a:ext cx="0" cy="90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2685960" y="492264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2109600" y="396864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88760" y="419724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236600" y="42004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flipH="1">
                <a:off x="779400" y="46479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955440" y="522756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1865160" y="522576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1703160" y="511488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2151000" y="511812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flipH="1">
                <a:off x="1693800" y="556560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1236600" y="602928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788760" y="5103720"/>
                <a:ext cx="0" cy="92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1643040" y="600372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788760" y="511488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1236600" y="511812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flipH="1">
                <a:off x="779400" y="556560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494280" y="5406840"/>
                <a:ext cx="30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0" name=""/>
            <p:cNvSpPr/>
            <p:nvPr/>
          </p:nvSpPr>
          <p:spPr>
            <a:xfrm>
              <a:off x="474840" y="6237360"/>
              <a:ext cx="23493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00"/>
                  </a:solidFill>
                  <a:latin typeface="Tahoma"/>
                </a:rPr>
                <a:t>   </a:t>
              </a:r>
              <a:r>
                <a:rPr b="1" lang="en-US" sz="1400" spc="-1" strike="noStrike">
                  <a:solidFill>
                    <a:srgbClr val="009900"/>
                  </a:solidFill>
                  <a:latin typeface="Tahoma"/>
                </a:rPr>
                <a:t>3 primes around AB'C'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826740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lgorithm for two-level simplification (example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513360" y="1440000"/>
            <a:ext cx="2775960" cy="2365200"/>
            <a:chOff x="513360" y="1440000"/>
            <a:chExt cx="2775960" cy="2365200"/>
          </a:xfrm>
        </p:grpSpPr>
        <p:sp>
          <p:nvSpPr>
            <p:cNvPr id="933" name=""/>
            <p:cNvSpPr/>
            <p:nvPr/>
          </p:nvSpPr>
          <p:spPr>
            <a:xfrm>
              <a:off x="982440" y="1760760"/>
              <a:ext cx="82584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892160" y="175896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722240" y="16686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170080" y="16718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>
              <a:off x="1712880" y="21193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722240" y="16686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639880" y="210528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705040" y="23940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128680" y="14400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807840" y="16686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255680" y="16718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flipH="1">
              <a:off x="798480" y="21193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974520" y="26989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884240" y="26971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722240" y="25862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170080" y="25894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1712880" y="30369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255680" y="35006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807840" y="2575080"/>
              <a:ext cx="0" cy="92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662120" y="34750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807840" y="25862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255680" y="25894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H="1">
              <a:off x="798480" y="30369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13360" y="287820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7" name=""/>
          <p:cNvGrpSpPr/>
          <p:nvPr/>
        </p:nvGrpSpPr>
        <p:grpSpPr>
          <a:xfrm>
            <a:off x="3209760" y="1438200"/>
            <a:ext cx="2955960" cy="2579760"/>
            <a:chOff x="3209760" y="1438200"/>
            <a:chExt cx="2955960" cy="2579760"/>
          </a:xfrm>
        </p:grpSpPr>
        <p:sp>
          <p:nvSpPr>
            <p:cNvPr id="958" name=""/>
            <p:cNvSpPr/>
            <p:nvPr/>
          </p:nvSpPr>
          <p:spPr>
            <a:xfrm>
              <a:off x="3209760" y="3687840"/>
              <a:ext cx="28958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ahoma"/>
                </a:rPr>
                <a:t>2 primes around A'BC'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127400" y="1673280"/>
              <a:ext cx="468360" cy="4366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0" name=""/>
            <p:cNvGrpSpPr/>
            <p:nvPr/>
          </p:nvGrpSpPr>
          <p:grpSpPr>
            <a:xfrm>
              <a:off x="3389760" y="1438200"/>
              <a:ext cx="2775960" cy="2365200"/>
              <a:chOff x="3389760" y="1438200"/>
              <a:chExt cx="2775960" cy="2365200"/>
            </a:xfrm>
          </p:grpSpPr>
          <p:sp>
            <p:nvSpPr>
              <p:cNvPr id="961" name=""/>
              <p:cNvSpPr/>
              <p:nvPr/>
            </p:nvSpPr>
            <p:spPr>
              <a:xfrm>
                <a:off x="3858840" y="1758960"/>
                <a:ext cx="82584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4768560" y="175716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4598640" y="166680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5046480" y="16700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flipH="1">
                <a:off x="4589280" y="211752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4598640" y="166680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5516280" y="2103480"/>
                <a:ext cx="0" cy="90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5581440" y="239220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5005080" y="143820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3684240" y="166680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4132080" y="16700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 flipH="1">
                <a:off x="3674880" y="211752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3850920" y="269712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4760640" y="269532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4598640" y="258444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5046480" y="25876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flipH="1">
                <a:off x="4589280" y="30351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4132080" y="349884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3684240" y="2573280"/>
                <a:ext cx="0" cy="92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4538520" y="347328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684240" y="258444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4132080" y="25876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flipH="1">
                <a:off x="3674880" y="30351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3389760" y="2876400"/>
                <a:ext cx="30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5" name=""/>
          <p:cNvGrpSpPr/>
          <p:nvPr/>
        </p:nvGrpSpPr>
        <p:grpSpPr>
          <a:xfrm>
            <a:off x="3755880" y="1724040"/>
            <a:ext cx="776520" cy="1727280"/>
            <a:chOff x="3755880" y="1724040"/>
            <a:chExt cx="776520" cy="1727280"/>
          </a:xfrm>
        </p:grpSpPr>
        <p:sp>
          <p:nvSpPr>
            <p:cNvPr id="986" name=""/>
            <p:cNvSpPr/>
            <p:nvPr/>
          </p:nvSpPr>
          <p:spPr>
            <a:xfrm>
              <a:off x="4176720" y="1724040"/>
              <a:ext cx="355680" cy="1727280"/>
            </a:xfrm>
            <a:custGeom>
              <a:avLst/>
              <a:gdLst>
                <a:gd name="textAreaLeft" fmla="*/ 17280 w 355680"/>
                <a:gd name="textAreaRight" fmla="*/ 338400 w 355680"/>
                <a:gd name="textAreaTop" fmla="*/ 17280 h 1727280"/>
                <a:gd name="textAreaBottom" fmla="*/ 1710000 h 1727280"/>
              </a:gdLst>
              <a:ahLst/>
              <a:rect l="textAreaLeft" t="textAreaTop" r="textAreaRight" b="textAreaBottom"/>
              <a:pathLst>
                <a:path w="21600" h="104811">
                  <a:moveTo>
                    <a:pt x="3600" y="0"/>
                  </a:moveTo>
                  <a:arcTo wR="3600" hR="3600" stAng="16200000" swAng="-5400000"/>
                  <a:lnTo>
                    <a:pt x="0" y="101211"/>
                  </a:lnTo>
                  <a:arcTo wR="3600" hR="3600" stAng="10800000" swAng="-5400000"/>
                  <a:lnTo>
                    <a:pt x="18000" y="10481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755880" y="1755720"/>
              <a:ext cx="711360" cy="30636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6266520" y="1438200"/>
            <a:ext cx="2775960" cy="2579760"/>
            <a:chOff x="6266520" y="1438200"/>
            <a:chExt cx="2775960" cy="2579760"/>
          </a:xfrm>
        </p:grpSpPr>
        <p:sp>
          <p:nvSpPr>
            <p:cNvPr id="989" name=""/>
            <p:cNvSpPr/>
            <p:nvPr/>
          </p:nvSpPr>
          <p:spPr>
            <a:xfrm>
              <a:off x="6380280" y="3687840"/>
              <a:ext cx="22604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ahoma"/>
                </a:rPr>
                <a:t>2 primes around ABC'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7480440" y="2116080"/>
              <a:ext cx="446040" cy="469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1" name=""/>
            <p:cNvGrpSpPr/>
            <p:nvPr/>
          </p:nvGrpSpPr>
          <p:grpSpPr>
            <a:xfrm>
              <a:off x="6266520" y="1438200"/>
              <a:ext cx="2775960" cy="2365200"/>
              <a:chOff x="6266520" y="1438200"/>
              <a:chExt cx="2775960" cy="2365200"/>
            </a:xfrm>
          </p:grpSpPr>
          <p:sp>
            <p:nvSpPr>
              <p:cNvPr id="992" name=""/>
              <p:cNvSpPr/>
              <p:nvPr/>
            </p:nvSpPr>
            <p:spPr>
              <a:xfrm>
                <a:off x="6735600" y="1758960"/>
                <a:ext cx="82584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7645320" y="175716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7475400" y="166680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7923240" y="16700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 flipH="1">
                <a:off x="7466040" y="211752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7475400" y="166680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8393040" y="2103480"/>
                <a:ext cx="0" cy="90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8458200" y="239220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7881840" y="143820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561000" y="166680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7008840" y="16700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flipH="1">
                <a:off x="6551640" y="211752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6727680" y="269712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7637400" y="269532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7475400" y="258444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7923240" y="25876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 flipH="1">
                <a:off x="7466040" y="30351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7008840" y="349884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6561000" y="2573280"/>
                <a:ext cx="0" cy="92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415280" y="347328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6561000" y="258444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008840" y="25876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 flipH="1">
                <a:off x="6551640" y="30351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6266520" y="2876400"/>
                <a:ext cx="30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6" name=""/>
            <p:cNvSpPr/>
            <p:nvPr/>
          </p:nvSpPr>
          <p:spPr>
            <a:xfrm>
              <a:off x="7045200" y="1741320"/>
              <a:ext cx="355680" cy="1727280"/>
            </a:xfrm>
            <a:custGeom>
              <a:avLst/>
              <a:gdLst>
                <a:gd name="textAreaLeft" fmla="*/ 17280 w 355680"/>
                <a:gd name="textAreaRight" fmla="*/ 338400 w 355680"/>
                <a:gd name="textAreaTop" fmla="*/ 17280 h 1727280"/>
                <a:gd name="textAreaBottom" fmla="*/ 1710000 h 1727280"/>
              </a:gdLst>
              <a:ahLst/>
              <a:rect l="textAreaLeft" t="textAreaTop" r="textAreaRight" b="textAreaBottom"/>
              <a:pathLst>
                <a:path w="21600" h="104811">
                  <a:moveTo>
                    <a:pt x="3600" y="0"/>
                  </a:moveTo>
                  <a:arcTo wR="3600" hR="3600" stAng="16200000" swAng="-5400000"/>
                  <a:lnTo>
                    <a:pt x="0" y="101211"/>
                  </a:lnTo>
                  <a:arcTo wR="3600" hR="3600" stAng="10800000" swAng="-5400000"/>
                  <a:lnTo>
                    <a:pt x="18000" y="10481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6624720" y="1773360"/>
              <a:ext cx="711000" cy="30636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8" name=""/>
          <p:cNvGrpSpPr/>
          <p:nvPr/>
        </p:nvGrpSpPr>
        <p:grpSpPr>
          <a:xfrm>
            <a:off x="7085160" y="2182680"/>
            <a:ext cx="1226880" cy="808200"/>
            <a:chOff x="7085160" y="2182680"/>
            <a:chExt cx="1226880" cy="808200"/>
          </a:xfrm>
        </p:grpSpPr>
        <p:sp>
          <p:nvSpPr>
            <p:cNvPr id="1019" name=""/>
            <p:cNvSpPr/>
            <p:nvPr/>
          </p:nvSpPr>
          <p:spPr>
            <a:xfrm>
              <a:off x="7085160" y="2182680"/>
              <a:ext cx="774720" cy="808200"/>
            </a:xfrm>
            <a:custGeom>
              <a:avLst/>
              <a:gdLst>
                <a:gd name="textAreaLeft" fmla="*/ 37800 w 774720"/>
                <a:gd name="textAreaRight" fmla="*/ 736920 w 774720"/>
                <a:gd name="textAreaTop" fmla="*/ 37800 h 808200"/>
                <a:gd name="textAreaBottom" fmla="*/ 770400 h 808200"/>
              </a:gdLst>
              <a:ahLst/>
              <a:rect l="textAreaLeft" t="textAreaTop" r="textAreaRight" b="textAreaBottom"/>
              <a:pathLst>
                <a:path w="21600" h="22533">
                  <a:moveTo>
                    <a:pt x="3600" y="0"/>
                  </a:moveTo>
                  <a:arcTo wR="3600" hR="3600" stAng="16200000" swAng="-5400000"/>
                  <a:lnTo>
                    <a:pt x="0" y="18933"/>
                  </a:lnTo>
                  <a:arcTo wR="3600" hR="3600" stAng="10800000" swAng="-5400000"/>
                  <a:lnTo>
                    <a:pt x="18000" y="2253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553160" y="2214720"/>
              <a:ext cx="758880" cy="3394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1" name=""/>
          <p:cNvGrpSpPr/>
          <p:nvPr/>
        </p:nvGrpSpPr>
        <p:grpSpPr>
          <a:xfrm>
            <a:off x="6231600" y="3957120"/>
            <a:ext cx="2775960" cy="2610360"/>
            <a:chOff x="6231600" y="3957120"/>
            <a:chExt cx="2775960" cy="2610360"/>
          </a:xfrm>
        </p:grpSpPr>
        <p:sp>
          <p:nvSpPr>
            <p:cNvPr id="1022" name=""/>
            <p:cNvSpPr/>
            <p:nvPr/>
          </p:nvSpPr>
          <p:spPr>
            <a:xfrm>
              <a:off x="6365880" y="6237360"/>
              <a:ext cx="22096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minimum cover (3 prim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020000" y="4275000"/>
              <a:ext cx="355680" cy="1727280"/>
            </a:xfrm>
            <a:custGeom>
              <a:avLst/>
              <a:gdLst>
                <a:gd name="textAreaLeft" fmla="*/ 17280 w 355680"/>
                <a:gd name="textAreaRight" fmla="*/ 338400 w 355680"/>
                <a:gd name="textAreaTop" fmla="*/ 17280 h 1727280"/>
                <a:gd name="textAreaBottom" fmla="*/ 1710000 h 1727280"/>
              </a:gdLst>
              <a:ahLst/>
              <a:rect l="textAreaLeft" t="textAreaTop" r="textAreaRight" b="textAreaBottom"/>
              <a:pathLst>
                <a:path w="21600" h="104811">
                  <a:moveTo>
                    <a:pt x="3600" y="0"/>
                  </a:moveTo>
                  <a:arcTo wR="3600" hR="3600" stAng="16200000" swAng="-5400000"/>
                  <a:lnTo>
                    <a:pt x="0" y="101211"/>
                  </a:lnTo>
                  <a:arcTo wR="3600" hR="3600" stAng="10800000" swAng="-5400000"/>
                  <a:lnTo>
                    <a:pt x="18000" y="10481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rot="16200000">
              <a:off x="7842240" y="4151160"/>
              <a:ext cx="565200" cy="3715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H="1" rot="16200000">
              <a:off x="7835760" y="5727600"/>
              <a:ext cx="565200" cy="3715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H="1" rot="16200000">
              <a:off x="8020440" y="5962320"/>
              <a:ext cx="209520" cy="45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 rot="16200000">
              <a:off x="8027640" y="3836520"/>
              <a:ext cx="209880" cy="45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8" name=""/>
            <p:cNvGrpSpPr/>
            <p:nvPr/>
          </p:nvGrpSpPr>
          <p:grpSpPr>
            <a:xfrm>
              <a:off x="6231600" y="3965400"/>
              <a:ext cx="2775960" cy="2365200"/>
              <a:chOff x="6231600" y="3965400"/>
              <a:chExt cx="2775960" cy="2365200"/>
            </a:xfrm>
          </p:grpSpPr>
          <p:sp>
            <p:nvSpPr>
              <p:cNvPr id="1029" name=""/>
              <p:cNvSpPr/>
              <p:nvPr/>
            </p:nvSpPr>
            <p:spPr>
              <a:xfrm>
                <a:off x="6700680" y="4286160"/>
                <a:ext cx="82584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7610400" y="428436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7440480" y="419400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888320" y="41972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flipH="1">
                <a:off x="7431120" y="464472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440480" y="419400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8358120" y="4630680"/>
                <a:ext cx="0" cy="90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8423280" y="491940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846920" y="396540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6526080" y="419400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6973920" y="41972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flipH="1">
                <a:off x="6516720" y="464472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6692760" y="522432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7602480" y="522252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7440480" y="511164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7888320" y="51148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 flipH="1">
                <a:off x="7431120" y="55623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6973920" y="602604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6526080" y="5100480"/>
                <a:ext cx="0" cy="92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7380360" y="600048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6526080" y="511164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6973920" y="51148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flipH="1">
                <a:off x="6516720" y="55623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6231600" y="5403600"/>
                <a:ext cx="30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3" name=""/>
          <p:cNvSpPr/>
          <p:nvPr/>
        </p:nvSpPr>
        <p:spPr>
          <a:xfrm>
            <a:off x="7499520" y="4735440"/>
            <a:ext cx="758520" cy="3398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4" name=""/>
          <p:cNvGrpSpPr/>
          <p:nvPr/>
        </p:nvGrpSpPr>
        <p:grpSpPr>
          <a:xfrm>
            <a:off x="3362760" y="3957120"/>
            <a:ext cx="2775960" cy="2610360"/>
            <a:chOff x="3362760" y="3957120"/>
            <a:chExt cx="2775960" cy="2610360"/>
          </a:xfrm>
        </p:grpSpPr>
        <p:grpSp>
          <p:nvGrpSpPr>
            <p:cNvPr id="1055" name=""/>
            <p:cNvGrpSpPr/>
            <p:nvPr/>
          </p:nvGrpSpPr>
          <p:grpSpPr>
            <a:xfrm>
              <a:off x="3362760" y="3957120"/>
              <a:ext cx="2775960" cy="2373840"/>
              <a:chOff x="3362760" y="3957120"/>
              <a:chExt cx="2775960" cy="2373840"/>
            </a:xfrm>
          </p:grpSpPr>
          <p:sp>
            <p:nvSpPr>
              <p:cNvPr id="1056" name=""/>
              <p:cNvSpPr/>
              <p:nvPr/>
            </p:nvSpPr>
            <p:spPr>
              <a:xfrm>
                <a:off x="4151160" y="4275000"/>
                <a:ext cx="355680" cy="1727280"/>
              </a:xfrm>
              <a:custGeom>
                <a:avLst/>
                <a:gdLst>
                  <a:gd name="textAreaLeft" fmla="*/ 17280 w 355680"/>
                  <a:gd name="textAreaRight" fmla="*/ 338400 w 355680"/>
                  <a:gd name="textAreaTop" fmla="*/ 17280 h 1727280"/>
                  <a:gd name="textAreaBottom" fmla="*/ 1710000 h 1727280"/>
                </a:gdLst>
                <a:ahLst/>
                <a:rect l="textAreaLeft" t="textAreaTop" r="textAreaRight" b="textAreaBottom"/>
                <a:pathLst>
                  <a:path w="21600" h="104811">
                    <a:moveTo>
                      <a:pt x="3600" y="0"/>
                    </a:moveTo>
                    <a:arcTo wR="3600" hR="3600" stAng="16200000" swAng="-5400000"/>
                    <a:lnTo>
                      <a:pt x="0" y="101211"/>
                    </a:lnTo>
                    <a:arcTo wR="3600" hR="3600" stAng="10800000" swAng="-5400000"/>
                    <a:lnTo>
                      <a:pt x="18000" y="10481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 rot="16200000">
                <a:off x="4973760" y="4151160"/>
                <a:ext cx="565200" cy="3715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flipH="1" rot="16200000">
                <a:off x="4967280" y="5727600"/>
                <a:ext cx="565200" cy="3715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 flipH="1" rot="16200000">
                <a:off x="5153040" y="5962680"/>
                <a:ext cx="209520" cy="45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rot="16200000">
                <a:off x="5159160" y="3836520"/>
                <a:ext cx="209880" cy="45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1" name=""/>
              <p:cNvGrpSpPr/>
              <p:nvPr/>
            </p:nvGrpSpPr>
            <p:grpSpPr>
              <a:xfrm>
                <a:off x="3362760" y="3965760"/>
                <a:ext cx="2775960" cy="2365200"/>
                <a:chOff x="3362760" y="3965760"/>
                <a:chExt cx="2775960" cy="2365200"/>
              </a:xfrm>
            </p:grpSpPr>
            <p:sp>
              <p:nvSpPr>
                <p:cNvPr id="1062" name=""/>
                <p:cNvSpPr/>
                <p:nvPr/>
              </p:nvSpPr>
              <p:spPr>
                <a:xfrm>
                  <a:off x="3831840" y="4286520"/>
                  <a:ext cx="825840" cy="81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8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X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ts val="1800"/>
                    </a:lnSpc>
                    <a:spcBef>
                      <a:spcPts val="18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4741560" y="4284720"/>
                  <a:ext cx="825480" cy="81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8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ts val="1800"/>
                    </a:lnSpc>
                    <a:spcBef>
                      <a:spcPts val="18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4571640" y="4194360"/>
                  <a:ext cx="914400" cy="9144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5019480" y="4197600"/>
                  <a:ext cx="0" cy="914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 flipH="1">
                  <a:off x="4562280" y="4645080"/>
                  <a:ext cx="914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4571640" y="4194360"/>
                  <a:ext cx="914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5489280" y="4631040"/>
                  <a:ext cx="0" cy="907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5554440" y="4919760"/>
                  <a:ext cx="584280" cy="33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599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4978080" y="3965760"/>
                  <a:ext cx="584280" cy="33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599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3657240" y="4194360"/>
                  <a:ext cx="914400" cy="9144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4105080" y="4197600"/>
                  <a:ext cx="0" cy="914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 flipH="1">
                  <a:off x="3647880" y="4645080"/>
                  <a:ext cx="914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3823920" y="5224680"/>
                  <a:ext cx="825480" cy="81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8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X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ts val="1800"/>
                    </a:lnSpc>
                    <a:spcBef>
                      <a:spcPts val="18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4733640" y="5222880"/>
                  <a:ext cx="825480" cy="81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8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X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ts val="1800"/>
                    </a:lnSpc>
                    <a:spcBef>
                      <a:spcPts val="18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4571640" y="5112000"/>
                  <a:ext cx="914400" cy="9144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>
                  <a:off x="5019480" y="5115240"/>
                  <a:ext cx="0" cy="914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 flipH="1">
                  <a:off x="4562280" y="5562720"/>
                  <a:ext cx="914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4105080" y="6026400"/>
                  <a:ext cx="914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3657240" y="5100840"/>
                  <a:ext cx="0" cy="925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4511520" y="6000840"/>
                  <a:ext cx="584280" cy="33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599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3657240" y="5112000"/>
                  <a:ext cx="914400" cy="9144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4105080" y="5115240"/>
                  <a:ext cx="0" cy="914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 flipH="1">
                  <a:off x="3647880" y="5562720"/>
                  <a:ext cx="914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3362760" y="5403960"/>
                  <a:ext cx="308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86" name=""/>
            <p:cNvSpPr/>
            <p:nvPr/>
          </p:nvSpPr>
          <p:spPr>
            <a:xfrm>
              <a:off x="3687840" y="6237360"/>
              <a:ext cx="1816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2 essential prim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7" name=""/>
          <p:cNvGrpSpPr/>
          <p:nvPr/>
        </p:nvGrpSpPr>
        <p:grpSpPr>
          <a:xfrm>
            <a:off x="494280" y="3954600"/>
            <a:ext cx="2775960" cy="2382480"/>
            <a:chOff x="494280" y="3954600"/>
            <a:chExt cx="2775960" cy="2382480"/>
          </a:xfrm>
        </p:grpSpPr>
        <p:grpSp>
          <p:nvGrpSpPr>
            <p:cNvPr id="1088" name=""/>
            <p:cNvGrpSpPr/>
            <p:nvPr/>
          </p:nvGrpSpPr>
          <p:grpSpPr>
            <a:xfrm>
              <a:off x="531720" y="3954600"/>
              <a:ext cx="2335320" cy="2334960"/>
              <a:chOff x="531720" y="3954600"/>
              <a:chExt cx="2335320" cy="2334960"/>
            </a:xfrm>
          </p:grpSpPr>
          <p:sp>
            <p:nvSpPr>
              <p:cNvPr id="1089" name=""/>
              <p:cNvSpPr/>
              <p:nvPr/>
            </p:nvSpPr>
            <p:spPr>
              <a:xfrm>
                <a:off x="2241720" y="4267080"/>
                <a:ext cx="247320" cy="781200"/>
              </a:xfrm>
              <a:custGeom>
                <a:avLst/>
                <a:gdLst>
                  <a:gd name="textAreaLeft" fmla="*/ 11880 w 247320"/>
                  <a:gd name="textAreaRight" fmla="*/ 235440 w 247320"/>
                  <a:gd name="textAreaTop" fmla="*/ 11880 h 781200"/>
                  <a:gd name="textAreaBottom" fmla="*/ 769320 h 781200"/>
                </a:gdLst>
                <a:ahLst/>
                <a:rect l="textAreaLeft" t="textAreaTop" r="textAreaRight" b="textAreaBottom"/>
                <a:pathLst>
                  <a:path w="21600" h="68159">
                    <a:moveTo>
                      <a:pt x="3600" y="0"/>
                    </a:moveTo>
                    <a:arcTo wR="3600" hR="3600" stAng="16200000" swAng="-5400000"/>
                    <a:lnTo>
                      <a:pt x="0" y="64559"/>
                    </a:lnTo>
                    <a:arcTo wR="3600" hR="3600" stAng="10800000" swAng="-5400000"/>
                    <a:lnTo>
                      <a:pt x="18000" y="6815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126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flipH="1">
                <a:off x="628560" y="4241880"/>
                <a:ext cx="565200" cy="3715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 flipH="1">
                <a:off x="531720" y="4210200"/>
                <a:ext cx="209520" cy="45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2205000" y="4248000"/>
                <a:ext cx="565200" cy="3715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2657520" y="4216320"/>
                <a:ext cx="209520" cy="45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rot="16200000">
                <a:off x="2095560" y="4147560"/>
                <a:ext cx="564840" cy="3715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 flipH="1" rot="16200000">
                <a:off x="2089080" y="5724360"/>
                <a:ext cx="565200" cy="3715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rot="16200000">
                <a:off x="2281320" y="3834000"/>
                <a:ext cx="209520" cy="45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 flipH="1" rot="16200000">
                <a:off x="2274840" y="5959440"/>
                <a:ext cx="209520" cy="45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8" name=""/>
            <p:cNvGrpSpPr/>
            <p:nvPr/>
          </p:nvGrpSpPr>
          <p:grpSpPr>
            <a:xfrm>
              <a:off x="494280" y="3971880"/>
              <a:ext cx="2775960" cy="2365200"/>
              <a:chOff x="494280" y="3971880"/>
              <a:chExt cx="2775960" cy="2365200"/>
            </a:xfrm>
          </p:grpSpPr>
          <p:sp>
            <p:nvSpPr>
              <p:cNvPr id="1099" name=""/>
              <p:cNvSpPr/>
              <p:nvPr/>
            </p:nvSpPr>
            <p:spPr>
              <a:xfrm>
                <a:off x="963360" y="4292640"/>
                <a:ext cx="82584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1873080" y="429084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1703160" y="420048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2151000" y="420372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 flipH="1">
                <a:off x="1693800" y="465120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1703160" y="420048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2620800" y="4637160"/>
                <a:ext cx="0" cy="90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2685960" y="492588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2109600" y="397188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788760" y="420048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1236600" y="420372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 flipH="1">
                <a:off x="779400" y="465120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955440" y="523080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1865160" y="522900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1703160" y="511812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2151000" y="512136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 flipH="1">
                <a:off x="1693800" y="55688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1236600" y="603252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788760" y="5106960"/>
                <a:ext cx="0" cy="92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1643040" y="600696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788760" y="511812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1236600" y="512136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 flipH="1">
                <a:off x="779400" y="55688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494280" y="5410080"/>
                <a:ext cx="30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D7AC-435C-47BA-A941-BC3EA1FCA21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124" name=""/>
          <p:cNvGrpSpPr/>
          <p:nvPr/>
        </p:nvGrpSpPr>
        <p:grpSpPr>
          <a:xfrm>
            <a:off x="1397520" y="2133720"/>
            <a:ext cx="2775960" cy="2365200"/>
            <a:chOff x="1397520" y="2133720"/>
            <a:chExt cx="2775960" cy="2365200"/>
          </a:xfrm>
        </p:grpSpPr>
        <p:sp>
          <p:nvSpPr>
            <p:cNvPr id="1125" name=""/>
            <p:cNvSpPr/>
            <p:nvPr/>
          </p:nvSpPr>
          <p:spPr>
            <a:xfrm>
              <a:off x="1866600" y="2454480"/>
              <a:ext cx="82584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776320" y="24526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606400" y="23623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054240" y="23655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2597040" y="28130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606400" y="23623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524040" y="279900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589200" y="30877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012840" y="21337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692000" y="23623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2139840" y="23655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>
              <a:off x="1682640" y="28130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858680" y="33926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768400" y="33908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606400" y="327996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054240" y="32832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>
              <a:off x="2597040" y="37306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139840" y="419436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692000" y="3268800"/>
              <a:ext cx="0" cy="92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2546280" y="41688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692000" y="327996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139840" y="32832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1682640" y="37306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1397520" y="357192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9" name=""/>
          <p:cNvGrpSpPr/>
          <p:nvPr/>
        </p:nvGrpSpPr>
        <p:grpSpPr>
          <a:xfrm>
            <a:off x="2165400" y="3100320"/>
            <a:ext cx="3400200" cy="1011240"/>
            <a:chOff x="2165400" y="3100320"/>
            <a:chExt cx="3400200" cy="1011240"/>
          </a:xfrm>
        </p:grpSpPr>
        <p:sp>
          <p:nvSpPr>
            <p:cNvPr id="1150" name=""/>
            <p:cNvSpPr/>
            <p:nvPr/>
          </p:nvSpPr>
          <p:spPr>
            <a:xfrm>
              <a:off x="2165400" y="3344760"/>
              <a:ext cx="797040" cy="7668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084640" y="3100320"/>
              <a:ext cx="48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ahoma"/>
                </a:rPr>
                <a:t>B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2" name=""/>
          <p:cNvGrpSpPr/>
          <p:nvPr/>
        </p:nvGrpSpPr>
        <p:grpSpPr>
          <a:xfrm>
            <a:off x="2189160" y="2911320"/>
            <a:ext cx="4258080" cy="766800"/>
            <a:chOff x="2189160" y="2911320"/>
            <a:chExt cx="4258080" cy="766800"/>
          </a:xfrm>
        </p:grpSpPr>
        <p:sp>
          <p:nvSpPr>
            <p:cNvPr id="1153" name=""/>
            <p:cNvSpPr/>
            <p:nvPr/>
          </p:nvSpPr>
          <p:spPr>
            <a:xfrm>
              <a:off x="2189160" y="2911320"/>
              <a:ext cx="797040" cy="7668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883840" y="3100320"/>
              <a:ext cx="56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Tahoma"/>
                </a:rPr>
                <a:t>B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5" name=""/>
          <p:cNvGrpSpPr/>
          <p:nvPr/>
        </p:nvGrpSpPr>
        <p:grpSpPr>
          <a:xfrm>
            <a:off x="2692440" y="2454120"/>
            <a:ext cx="4557600" cy="1652760"/>
            <a:chOff x="2692440" y="2454120"/>
            <a:chExt cx="4557600" cy="1652760"/>
          </a:xfrm>
        </p:grpSpPr>
        <p:sp>
          <p:nvSpPr>
            <p:cNvPr id="1156" name=""/>
            <p:cNvSpPr/>
            <p:nvPr/>
          </p:nvSpPr>
          <p:spPr>
            <a:xfrm>
              <a:off x="2692440" y="2454120"/>
              <a:ext cx="295200" cy="1652760"/>
            </a:xfrm>
            <a:custGeom>
              <a:avLst/>
              <a:gdLst>
                <a:gd name="textAreaLeft" fmla="*/ 14400 w 295200"/>
                <a:gd name="textAreaRight" fmla="*/ 280800 w 295200"/>
                <a:gd name="textAreaTop" fmla="*/ 14400 h 1652760"/>
                <a:gd name="textAreaBottom" fmla="*/ 1638360 h 1652760"/>
              </a:gdLst>
              <a:ahLst/>
              <a:rect l="textAreaLeft" t="textAreaTop" r="textAreaRight" b="textAreaBottom"/>
              <a:pathLst>
                <a:path w="21600" h="120813">
                  <a:moveTo>
                    <a:pt x="3600" y="0"/>
                  </a:moveTo>
                  <a:arcTo wR="3600" hR="3600" stAng="16200000" swAng="-5400000"/>
                  <a:lnTo>
                    <a:pt x="0" y="117213"/>
                  </a:lnTo>
                  <a:arcTo wR="3600" hR="3600" stAng="10800000" swAng="-5400000"/>
                  <a:lnTo>
                    <a:pt x="18000" y="1208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697440" y="3100320"/>
              <a:ext cx="55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ff"/>
                  </a:solidFill>
                  <a:latin typeface="Tahoma"/>
                </a:rPr>
                <a:t>AB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8" name=""/>
          <p:cNvGrpSpPr/>
          <p:nvPr/>
        </p:nvGrpSpPr>
        <p:grpSpPr>
          <a:xfrm>
            <a:off x="2651040" y="2871720"/>
            <a:ext cx="5559480" cy="596880"/>
            <a:chOff x="2651040" y="2871720"/>
            <a:chExt cx="5559480" cy="596880"/>
          </a:xfrm>
        </p:grpSpPr>
        <p:sp>
          <p:nvSpPr>
            <p:cNvPr id="1159" name=""/>
            <p:cNvSpPr/>
            <p:nvPr/>
          </p:nvSpPr>
          <p:spPr>
            <a:xfrm>
              <a:off x="7505640" y="310032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AC’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651040" y="2871720"/>
              <a:ext cx="797040" cy="33804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1" name=""/>
          <p:cNvGrpSpPr/>
          <p:nvPr/>
        </p:nvGrpSpPr>
        <p:grpSpPr>
          <a:xfrm>
            <a:off x="1746360" y="3100320"/>
            <a:ext cx="3017160" cy="1019160"/>
            <a:chOff x="1746360" y="3100320"/>
            <a:chExt cx="3017160" cy="1019160"/>
          </a:xfrm>
        </p:grpSpPr>
        <p:sp>
          <p:nvSpPr>
            <p:cNvPr id="1162" name=""/>
            <p:cNvSpPr/>
            <p:nvPr/>
          </p:nvSpPr>
          <p:spPr>
            <a:xfrm>
              <a:off x="4217040" y="3100320"/>
              <a:ext cx="54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6600"/>
                  </a:solidFill>
                  <a:latin typeface="Tahoma"/>
                </a:rPr>
                <a:t>CD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1746360" y="3781440"/>
              <a:ext cx="1711080" cy="33804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4" name=""/>
          <p:cNvSpPr/>
          <p:nvPr/>
        </p:nvSpPr>
        <p:spPr>
          <a:xfrm>
            <a:off x="6747480" y="503568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B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5815440" y="5035680"/>
            <a:ext cx="5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00"/>
                </a:solidFill>
                <a:latin typeface="Tahoma"/>
              </a:rPr>
              <a:t>CD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7592760" y="50356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AC’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6742800" y="567360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B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5810760" y="5673600"/>
            <a:ext cx="5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00"/>
                </a:solidFill>
                <a:latin typeface="Tahoma"/>
              </a:rPr>
              <a:t>CD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7588080" y="56736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AC’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1424160" y="2092320"/>
            <a:ext cx="7297560" cy="395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st all prime implicants for the following K-map: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are essential prime implicants?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 the minimum cove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2" name=""/>
          <p:cNvGrpSpPr/>
          <p:nvPr/>
        </p:nvGrpSpPr>
        <p:grpSpPr>
          <a:xfrm>
            <a:off x="1396080" y="2131920"/>
            <a:ext cx="2775960" cy="2365200"/>
            <a:chOff x="1396080" y="2131920"/>
            <a:chExt cx="2775960" cy="2365200"/>
          </a:xfrm>
        </p:grpSpPr>
        <p:sp>
          <p:nvSpPr>
            <p:cNvPr id="1173" name=""/>
            <p:cNvSpPr/>
            <p:nvPr/>
          </p:nvSpPr>
          <p:spPr>
            <a:xfrm>
              <a:off x="1865160" y="2452680"/>
              <a:ext cx="82584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774880" y="24508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604960" y="23605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052800" y="23637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H="1">
              <a:off x="2595600" y="28112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604960" y="23605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522600" y="279720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3587760" y="30859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011400" y="21319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690560" y="23605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138400" y="23637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 flipH="1">
              <a:off x="1681200" y="28112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1857240" y="33908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2766960" y="33890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2604960" y="327816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052800" y="32814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H="1">
              <a:off x="2595600" y="37288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2138400" y="419256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690560" y="3267000"/>
              <a:ext cx="0" cy="92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544840" y="41670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690560" y="327816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138400" y="32814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H="1">
              <a:off x="1681200" y="37288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1396080" y="357012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E78F-C204-4B89-8D30-7604CAC2600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7" name=""/>
          <p:cNvGrpSpPr/>
          <p:nvPr/>
        </p:nvGrpSpPr>
        <p:grpSpPr>
          <a:xfrm>
            <a:off x="6519960" y="1600200"/>
            <a:ext cx="2469600" cy="2273040"/>
            <a:chOff x="6519960" y="1600200"/>
            <a:chExt cx="2469600" cy="2273040"/>
          </a:xfrm>
        </p:grpSpPr>
        <p:sp>
          <p:nvSpPr>
            <p:cNvPr id="1198" name=""/>
            <p:cNvSpPr/>
            <p:nvPr/>
          </p:nvSpPr>
          <p:spPr>
            <a:xfrm>
              <a:off x="7186320" y="183492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7186320" y="226692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7180200" y="184140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409880" y="1849320"/>
              <a:ext cx="3916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403040" y="1842840"/>
              <a:ext cx="4176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409520" y="1834920"/>
              <a:ext cx="39204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402680" y="1815840"/>
              <a:ext cx="4179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7084800" y="2197080"/>
              <a:ext cx="759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7084800" y="2019240"/>
              <a:ext cx="759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186320" y="329544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7186320" y="372744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7180200" y="330192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409880" y="3309840"/>
              <a:ext cx="3916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7403040" y="3303360"/>
              <a:ext cx="4176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7409520" y="3295440"/>
              <a:ext cx="39204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402680" y="3276360"/>
              <a:ext cx="4179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447320" y="2598480"/>
              <a:ext cx="134496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440840" y="2592360"/>
              <a:ext cx="13579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7523280" y="2584080"/>
              <a:ext cx="12690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503840" y="2565360"/>
              <a:ext cx="12949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8031240" y="2584080"/>
              <a:ext cx="17676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8024760" y="2565360"/>
              <a:ext cx="1897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8177040" y="2774880"/>
              <a:ext cx="1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8031600" y="2598480"/>
              <a:ext cx="17640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8025120" y="2592360"/>
              <a:ext cx="18936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186320" y="300348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186320" y="255888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 flipV="1">
              <a:off x="7180200" y="25524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7409520" y="2558880"/>
              <a:ext cx="39204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7402680" y="2552400"/>
              <a:ext cx="4179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7409880" y="2585880"/>
              <a:ext cx="3916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7403040" y="2566800"/>
              <a:ext cx="4176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7084800" y="2654280"/>
              <a:ext cx="759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7821360" y="27748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7999200" y="27748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995880" y="205092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995880" y="2876400"/>
              <a:ext cx="17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995880" y="3422520"/>
              <a:ext cx="17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723000" y="34290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723000" y="288288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723000" y="2057400"/>
              <a:ext cx="0" cy="81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723000" y="16002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729120" y="205092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697440" y="2025360"/>
              <a:ext cx="5040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729120" y="287640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697440" y="2851200"/>
              <a:ext cx="504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729120" y="342252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697440" y="3396960"/>
              <a:ext cx="5040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995880" y="222876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995880" y="3600360"/>
              <a:ext cx="17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900840" y="360684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900840" y="223524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6900840" y="1600200"/>
              <a:ext cx="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906960" y="222876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887880" y="2216160"/>
              <a:ext cx="504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906960" y="360036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887880" y="3587760"/>
              <a:ext cx="504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7821360" y="205092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7999200" y="259704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7993080" y="20574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7821360" y="351144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7999200" y="296532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7993080" y="29718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8824680" y="27748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995880" y="1873080"/>
              <a:ext cx="17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995880" y="268596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532560" y="2692440"/>
              <a:ext cx="0" cy="11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532560" y="1879560"/>
              <a:ext cx="0" cy="79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532560" y="160020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538680" y="187308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519960" y="1847880"/>
              <a:ext cx="504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538680" y="268596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6519960" y="2673360"/>
              <a:ext cx="504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1" name=""/>
          <p:cNvGrpSpPr/>
          <p:nvPr/>
        </p:nvGrpSpPr>
        <p:grpSpPr>
          <a:xfrm>
            <a:off x="6450120" y="4343400"/>
            <a:ext cx="2539800" cy="2273040"/>
            <a:chOff x="6450120" y="4343400"/>
            <a:chExt cx="2539800" cy="2273040"/>
          </a:xfrm>
        </p:grpSpPr>
        <p:sp>
          <p:nvSpPr>
            <p:cNvPr id="1272" name=""/>
            <p:cNvSpPr/>
            <p:nvPr/>
          </p:nvSpPr>
          <p:spPr>
            <a:xfrm>
              <a:off x="7021440" y="4520880"/>
              <a:ext cx="20268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475320" y="4482720"/>
              <a:ext cx="13330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513840" y="4510080"/>
              <a:ext cx="12945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7021800" y="4510080"/>
              <a:ext cx="20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173720" y="479412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7173720" y="461628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021800" y="5233680"/>
              <a:ext cx="20232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475680" y="5233680"/>
              <a:ext cx="133272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6513480" y="5219640"/>
              <a:ext cx="12949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021440" y="5219640"/>
              <a:ext cx="20268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7173720" y="534024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7135560" y="5486400"/>
              <a:ext cx="7632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H="1">
              <a:off x="7071840" y="551808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6468840" y="5962320"/>
              <a:ext cx="130788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450120" y="5943600"/>
              <a:ext cx="134568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6507360" y="5976720"/>
              <a:ext cx="126936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513480" y="5970600"/>
              <a:ext cx="128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015320" y="5976720"/>
              <a:ext cx="17712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7009200" y="5970600"/>
              <a:ext cx="20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7014960" y="6000480"/>
              <a:ext cx="17748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7008840" y="5981760"/>
              <a:ext cx="20268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7135560" y="6134040"/>
              <a:ext cx="7632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H="1">
              <a:off x="7071840" y="61657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 flipH="1">
              <a:off x="7084440" y="63435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8177040" y="564516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8177040" y="52131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V="1">
              <a:off x="8170560" y="520704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8411760" y="5213160"/>
              <a:ext cx="3934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8392680" y="5207040"/>
              <a:ext cx="43164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8412120" y="5227560"/>
              <a:ext cx="3931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8393040" y="5221080"/>
              <a:ext cx="4312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7999200" y="52513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7808760" y="47052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7993080" y="471168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7999200" y="54291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7808760" y="54291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983280" y="55180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983280" y="634356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887880" y="635004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887880" y="5524200"/>
              <a:ext cx="0" cy="81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6887880" y="4343400"/>
              <a:ext cx="0" cy="116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894360" y="551808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875280" y="550548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894360" y="634356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875280" y="6330960"/>
              <a:ext cx="50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983280" y="47941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983280" y="53402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983280" y="616572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710040" y="61722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710040" y="5346720"/>
              <a:ext cx="0" cy="81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710040" y="48006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710040" y="43434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716520" y="479412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684840" y="4768560"/>
              <a:ext cx="5076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716520" y="534024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684840" y="532764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716520" y="616572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684840" y="6140160"/>
              <a:ext cx="5076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6983280" y="46162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983280" y="59752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519600" y="5981400"/>
              <a:ext cx="0" cy="63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519600" y="4622760"/>
              <a:ext cx="0" cy="13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519600" y="434340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526080" y="461628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507000" y="459108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526080" y="597528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507000" y="596268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7808760" y="61657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7999200" y="56196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7993080" y="562608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8824680" y="54291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7072200" y="5956200"/>
              <a:ext cx="763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s of two-leve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m-of-produ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gates to form product terms (minter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gate to form sum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t-of-su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gates to form sum terms (maxter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gates to form pro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6FAA-697B-4B57-9436-CA8768DF238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6" name=""/>
          <p:cNvGrpSpPr/>
          <p:nvPr/>
        </p:nvGrpSpPr>
        <p:grpSpPr>
          <a:xfrm>
            <a:off x="1536840" y="2717640"/>
            <a:ext cx="2965320" cy="2717640"/>
            <a:chOff x="1536840" y="2717640"/>
            <a:chExt cx="2965320" cy="2717640"/>
          </a:xfrm>
        </p:grpSpPr>
        <p:sp>
          <p:nvSpPr>
            <p:cNvPr id="1347" name=""/>
            <p:cNvSpPr/>
            <p:nvPr/>
          </p:nvSpPr>
          <p:spPr>
            <a:xfrm>
              <a:off x="2330280" y="2990520"/>
              <a:ext cx="50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330280" y="352404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324160" y="299700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604240" y="3017520"/>
              <a:ext cx="46872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597400" y="2998440"/>
              <a:ext cx="49464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603880" y="2990160"/>
              <a:ext cx="46908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597040" y="2984400"/>
              <a:ext cx="495000" cy="5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216160" y="344124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216160" y="322560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2330280" y="4743000"/>
              <a:ext cx="50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330280" y="527652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324160" y="474948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604240" y="4770000"/>
              <a:ext cx="46872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597400" y="4750920"/>
              <a:ext cx="49464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603880" y="4743360"/>
              <a:ext cx="4690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597040" y="4724280"/>
              <a:ext cx="495000" cy="55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654640" y="3919320"/>
              <a:ext cx="1612080" cy="46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635920" y="3900240"/>
              <a:ext cx="163728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743560" y="3891960"/>
              <a:ext cx="152316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724120" y="3872880"/>
              <a:ext cx="154908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353040" y="3891960"/>
              <a:ext cx="20268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333960" y="3872880"/>
              <a:ext cx="24084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537000" y="41335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353400" y="3919320"/>
              <a:ext cx="20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3334320" y="3900240"/>
              <a:ext cx="2404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330280" y="4400280"/>
              <a:ext cx="50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330280" y="38667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 flipV="1">
              <a:off x="2324160" y="386028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603880" y="3866400"/>
              <a:ext cx="46908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597040" y="3860640"/>
              <a:ext cx="49500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604240" y="3893760"/>
              <a:ext cx="46872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597400" y="3874680"/>
              <a:ext cx="49464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216160" y="398736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3092400" y="4133520"/>
              <a:ext cx="20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3308400" y="413352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114640" y="32572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114640" y="424800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114640" y="489564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1778040" y="490176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1778040" y="4254120"/>
              <a:ext cx="0" cy="63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1778040" y="3263760"/>
              <a:ext cx="0" cy="97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1778040" y="271764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1784160" y="325728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1752480" y="3231720"/>
              <a:ext cx="50760" cy="6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1784160" y="424800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1752480" y="42224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1784160" y="489564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1752480" y="48830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2114640" y="34732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2114640" y="511164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1994040" y="51177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1994040" y="3479400"/>
              <a:ext cx="0" cy="162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1994040" y="2717640"/>
              <a:ext cx="0" cy="74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000160" y="347328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1968480" y="3460320"/>
              <a:ext cx="6336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000160" y="511164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1968480" y="5098680"/>
              <a:ext cx="633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092400" y="3257280"/>
              <a:ext cx="20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3308400" y="391752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3301920" y="3263760"/>
              <a:ext cx="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3092400" y="5009760"/>
              <a:ext cx="20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3308400" y="434952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3301920" y="4355640"/>
              <a:ext cx="0" cy="64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114640" y="304128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114640" y="40194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549440" y="4025520"/>
              <a:ext cx="0" cy="140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1549440" y="3047760"/>
              <a:ext cx="0" cy="96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549440" y="27176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555560" y="3041280"/>
              <a:ext cx="54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536840" y="3016080"/>
              <a:ext cx="50760" cy="63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555560" y="4019400"/>
              <a:ext cx="54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536840" y="40064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298760" y="4133520"/>
              <a:ext cx="20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0" name=""/>
          <p:cNvGrpSpPr/>
          <p:nvPr/>
        </p:nvGrpSpPr>
        <p:grpSpPr>
          <a:xfrm>
            <a:off x="5483160" y="2717640"/>
            <a:ext cx="3079440" cy="2717640"/>
            <a:chOff x="5483160" y="2717640"/>
            <a:chExt cx="3079440" cy="2717640"/>
          </a:xfrm>
        </p:grpSpPr>
        <p:sp>
          <p:nvSpPr>
            <p:cNvPr id="1421" name=""/>
            <p:cNvSpPr/>
            <p:nvPr/>
          </p:nvSpPr>
          <p:spPr>
            <a:xfrm>
              <a:off x="6276600" y="299052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276600" y="352404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6270480" y="299700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6575400" y="3017520"/>
              <a:ext cx="4694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6556320" y="2998440"/>
              <a:ext cx="50760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6575040" y="2990160"/>
              <a:ext cx="46980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6555960" y="2984400"/>
              <a:ext cx="507960" cy="5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7083360" y="3231720"/>
              <a:ext cx="50760" cy="63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7064280" y="322560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6162480" y="344124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6162480" y="322560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6276600" y="44002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6276600" y="38667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V="1">
              <a:off x="6270480" y="386028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6575040" y="3866400"/>
              <a:ext cx="46980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6555960" y="3860640"/>
              <a:ext cx="50796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575400" y="3893760"/>
              <a:ext cx="4694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6556320" y="3874680"/>
              <a:ext cx="50760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7083360" y="4108320"/>
              <a:ext cx="5076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7064280" y="4101840"/>
              <a:ext cx="889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6162480" y="398736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6276600" y="527652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6276600" y="47430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 flipV="1">
              <a:off x="6270480" y="473652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575040" y="4743360"/>
              <a:ext cx="46980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6555960" y="4724280"/>
              <a:ext cx="507960" cy="55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575400" y="4770000"/>
              <a:ext cx="46944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6556320" y="4750920"/>
              <a:ext cx="50760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7083360" y="4984560"/>
              <a:ext cx="5076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7064280" y="496548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6702120" y="3891960"/>
              <a:ext cx="162540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6696000" y="3872880"/>
              <a:ext cx="163764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6791040" y="3919320"/>
              <a:ext cx="1536480" cy="46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6784920" y="3900240"/>
              <a:ext cx="154872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7413840" y="3919320"/>
              <a:ext cx="202320" cy="46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7394760" y="3900240"/>
              <a:ext cx="24048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7413480" y="3930120"/>
              <a:ext cx="2026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7394400" y="3924000"/>
              <a:ext cx="2408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7483320" y="3873240"/>
              <a:ext cx="88920" cy="8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7546680" y="4101840"/>
              <a:ext cx="889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 flipH="1">
              <a:off x="7470360" y="41335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H="1">
              <a:off x="7495560" y="43495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7368840" y="413352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7153200" y="413352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060960" y="489564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060960" y="424800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060960" y="32572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5724360" y="490176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5724360" y="4254120"/>
              <a:ext cx="0" cy="63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5724360" y="3263760"/>
              <a:ext cx="0" cy="97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724360" y="271764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5730480" y="325728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5698800" y="3231720"/>
              <a:ext cx="50760" cy="6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730480" y="424800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5698800" y="42224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5730480" y="489564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5698800" y="48830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060960" y="511164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060960" y="34732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5940360" y="51177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5940360" y="3479400"/>
              <a:ext cx="0" cy="162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5940360" y="2717640"/>
              <a:ext cx="0" cy="74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5946480" y="347328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5914800" y="3460320"/>
              <a:ext cx="6336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5946480" y="511164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5914800" y="5098680"/>
              <a:ext cx="633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7368840" y="391752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7153200" y="325728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7362720" y="3263760"/>
              <a:ext cx="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7368840" y="434952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7153200" y="500976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7362720" y="4355640"/>
              <a:ext cx="0" cy="64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060960" y="40194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060960" y="304128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5495760" y="4025520"/>
              <a:ext cx="0" cy="140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5495760" y="3047760"/>
              <a:ext cx="0" cy="96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5495760" y="27176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5501880" y="3041280"/>
              <a:ext cx="54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5483160" y="3016080"/>
              <a:ext cx="50760" cy="63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5501880" y="4019400"/>
              <a:ext cx="54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5483160" y="40064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8359560" y="413352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7483320" y="4304880"/>
              <a:ext cx="88920" cy="8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7368840" y="434952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5" name=""/>
          <p:cNvSpPr/>
          <p:nvPr/>
        </p:nvSpPr>
        <p:spPr>
          <a:xfrm flipV="1">
            <a:off x="6948360" y="1828800"/>
            <a:ext cx="1449360" cy="1138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 flipH="1">
            <a:off x="6708600" y="1828800"/>
            <a:ext cx="1665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7284960" y="22096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 flipV="1">
            <a:off x="8059680" y="2209320"/>
            <a:ext cx="368280" cy="1660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wo-level logic using NAND gat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lace minterm AND gates with NAND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ce compensating inversion at inputs of OR g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50B7-251A-49DA-8D24-38F98311B14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1" name=""/>
          <p:cNvGrpSpPr/>
          <p:nvPr/>
        </p:nvGrpSpPr>
        <p:grpSpPr>
          <a:xfrm>
            <a:off x="682560" y="3892680"/>
            <a:ext cx="2470320" cy="2273040"/>
            <a:chOff x="682560" y="3892680"/>
            <a:chExt cx="2470320" cy="2273040"/>
          </a:xfrm>
        </p:grpSpPr>
        <p:sp>
          <p:nvSpPr>
            <p:cNvPr id="1512" name=""/>
            <p:cNvSpPr/>
            <p:nvPr/>
          </p:nvSpPr>
          <p:spPr>
            <a:xfrm>
              <a:off x="1349280" y="4114800"/>
              <a:ext cx="4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1349280" y="45720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1343160" y="41212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1572480" y="4141800"/>
              <a:ext cx="39240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1565640" y="4122720"/>
              <a:ext cx="4183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1572120" y="4114440"/>
              <a:ext cx="392760" cy="44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1565280" y="4121280"/>
              <a:ext cx="4186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1247760" y="4502160"/>
              <a:ext cx="763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1247760" y="4324320"/>
              <a:ext cx="7632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1349280" y="5587920"/>
              <a:ext cx="4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349280" y="60325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1343160" y="559440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1572480" y="5614920"/>
              <a:ext cx="39240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1565640" y="5595840"/>
              <a:ext cx="4183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1572120" y="5588280"/>
              <a:ext cx="39276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1565280" y="5568840"/>
              <a:ext cx="41868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1609920" y="4903920"/>
              <a:ext cx="134568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1603440" y="4884840"/>
              <a:ext cx="135864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1685880" y="4876560"/>
              <a:ext cx="126972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1679400" y="4857480"/>
              <a:ext cx="12826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2193840" y="4876560"/>
              <a:ext cx="17748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2187360" y="4857480"/>
              <a:ext cx="19044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2352600" y="507996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2194200" y="4903920"/>
              <a:ext cx="177120" cy="34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2187720" y="4884840"/>
              <a:ext cx="19008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1349280" y="5295960"/>
              <a:ext cx="4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1349280" y="48513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 flipV="1">
              <a:off x="1343160" y="48448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572120" y="4851000"/>
              <a:ext cx="392760" cy="44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1565280" y="4844880"/>
              <a:ext cx="4186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1572480" y="4878360"/>
              <a:ext cx="39240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1565640" y="4859280"/>
              <a:ext cx="4183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1247760" y="4959360"/>
              <a:ext cx="763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1984320" y="50799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2162160" y="50799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1171440" y="434340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1171440" y="51688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1171440" y="57150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885960" y="57214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885960" y="517536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885960" y="4349880"/>
              <a:ext cx="0" cy="81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885960" y="38926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892080" y="43434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860400" y="4317840"/>
              <a:ext cx="50760" cy="6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892080" y="51688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860400" y="515628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892080" y="57150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860400" y="570240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1171440" y="452124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1171440" y="589284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1063800" y="589932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1063800" y="452772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1063800" y="3892680"/>
              <a:ext cx="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1069920" y="45212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1038240" y="4508640"/>
              <a:ext cx="633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1069920" y="58928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1038240" y="5892840"/>
              <a:ext cx="633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1984320" y="43434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162160" y="49021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2156040" y="434988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1984320" y="58165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2162160" y="52578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2156040" y="526428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1171440" y="41655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1171440" y="497844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695520" y="4984920"/>
              <a:ext cx="0" cy="11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695520" y="4172040"/>
              <a:ext cx="0" cy="79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95520" y="389268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701640" y="416556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682560" y="414036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701640" y="497844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682560" y="49658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2987640" y="50799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5" name=""/>
          <p:cNvGrpSpPr/>
          <p:nvPr/>
        </p:nvGrpSpPr>
        <p:grpSpPr>
          <a:xfrm>
            <a:off x="3425760" y="3892680"/>
            <a:ext cx="2571840" cy="2273040"/>
            <a:chOff x="3425760" y="3892680"/>
            <a:chExt cx="2571840" cy="2273040"/>
          </a:xfrm>
        </p:grpSpPr>
        <p:sp>
          <p:nvSpPr>
            <p:cNvPr id="1586" name=""/>
            <p:cNvSpPr/>
            <p:nvPr/>
          </p:nvSpPr>
          <p:spPr>
            <a:xfrm>
              <a:off x="4092480" y="41148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4092480" y="45720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4086360" y="41212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4340520" y="4141800"/>
              <a:ext cx="39312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4321440" y="4122720"/>
              <a:ext cx="4312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4340160" y="4114440"/>
              <a:ext cx="393480" cy="44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4321080" y="4121280"/>
              <a:ext cx="4316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4759200" y="4317840"/>
              <a:ext cx="51120" cy="63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4753080" y="4324320"/>
              <a:ext cx="759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3990960" y="4502160"/>
              <a:ext cx="763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3990960" y="4324320"/>
              <a:ext cx="7632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4092480" y="52959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4092480" y="48513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 flipV="1">
              <a:off x="4086360" y="48448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4340160" y="4851000"/>
              <a:ext cx="393480" cy="44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4321080" y="4844880"/>
              <a:ext cx="4316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4340520" y="4878360"/>
              <a:ext cx="3931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4321440" y="4859280"/>
              <a:ext cx="4312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4759200" y="5054760"/>
              <a:ext cx="5112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4753080" y="5048280"/>
              <a:ext cx="759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990960" y="4959360"/>
              <a:ext cx="763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4092480" y="60325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4092480" y="55879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 flipV="1">
              <a:off x="4086360" y="55818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4340160" y="5588280"/>
              <a:ext cx="39348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4321080" y="5568840"/>
              <a:ext cx="43164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340520" y="5614920"/>
              <a:ext cx="3931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4321440" y="5595840"/>
              <a:ext cx="4312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759200" y="5791320"/>
              <a:ext cx="5112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753080" y="5772240"/>
              <a:ext cx="759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442040" y="4876560"/>
              <a:ext cx="135828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4435560" y="4857480"/>
              <a:ext cx="137124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4518720" y="4903920"/>
              <a:ext cx="128160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4512240" y="4884840"/>
              <a:ext cx="12945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5039640" y="4903920"/>
              <a:ext cx="17640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5020200" y="4884840"/>
              <a:ext cx="20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039280" y="4902480"/>
              <a:ext cx="17676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019840" y="4908600"/>
              <a:ext cx="20268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5095800" y="4857840"/>
              <a:ext cx="7632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5146560" y="5048280"/>
              <a:ext cx="7632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 flipH="1">
              <a:off x="5082840" y="50799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 flipH="1">
              <a:off x="5108400" y="5257800"/>
              <a:ext cx="3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5006880" y="507996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4829040" y="50799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914640" y="57150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914640" y="51688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3914640" y="434340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3629160" y="57214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3629160" y="517536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3629160" y="4349880"/>
              <a:ext cx="0" cy="81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3629160" y="38926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3635280" y="43434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3603600" y="4317840"/>
              <a:ext cx="50760" cy="6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3635280" y="51688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3603600" y="515628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3635280" y="57150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3603600" y="570240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3914640" y="589284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914640" y="452124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807000" y="589932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3807000" y="452772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807000" y="3892680"/>
              <a:ext cx="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3813120" y="45212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781440" y="4508640"/>
              <a:ext cx="633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3813120" y="58928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3781440" y="5892840"/>
              <a:ext cx="633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5006880" y="49021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829040" y="43434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5000760" y="434988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5006880" y="525780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4829040" y="58165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5000760" y="526428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3914640" y="497844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3914640" y="41655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3438720" y="4984920"/>
              <a:ext cx="0" cy="11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3438720" y="4172040"/>
              <a:ext cx="0" cy="79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438720" y="389268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3444840" y="416556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3425760" y="414036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3444840" y="497844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3425760" y="49658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5832360" y="50799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5095800" y="5226120"/>
              <a:ext cx="7632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5006880" y="525780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0" name=""/>
          <p:cNvGrpSpPr/>
          <p:nvPr/>
        </p:nvGrpSpPr>
        <p:grpSpPr>
          <a:xfrm>
            <a:off x="6168960" y="3892680"/>
            <a:ext cx="2673360" cy="2273040"/>
            <a:chOff x="6168960" y="3892680"/>
            <a:chExt cx="2673360" cy="2273040"/>
          </a:xfrm>
        </p:grpSpPr>
        <p:sp>
          <p:nvSpPr>
            <p:cNvPr id="1671" name=""/>
            <p:cNvSpPr/>
            <p:nvPr/>
          </p:nvSpPr>
          <p:spPr>
            <a:xfrm>
              <a:off x="6835680" y="41274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6835680" y="45594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6829560" y="413388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7084080" y="4141800"/>
              <a:ext cx="40536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7077600" y="4135320"/>
              <a:ext cx="4183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7083720" y="4127400"/>
              <a:ext cx="4057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7077240" y="4108320"/>
              <a:ext cx="4186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7515360" y="4317840"/>
              <a:ext cx="38160" cy="51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7496280" y="4311720"/>
              <a:ext cx="759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6746760" y="4489560"/>
              <a:ext cx="7632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6746760" y="4311720"/>
              <a:ext cx="7632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6835680" y="52959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6835680" y="48513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 flipV="1">
              <a:off x="6829560" y="48448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7083720" y="4851360"/>
              <a:ext cx="4057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7077240" y="4844880"/>
              <a:ext cx="4186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7084080" y="4878360"/>
              <a:ext cx="40536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7077600" y="4859280"/>
              <a:ext cx="4183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7515360" y="5054760"/>
              <a:ext cx="381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7496280" y="5048280"/>
              <a:ext cx="759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6746760" y="4946760"/>
              <a:ext cx="7632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6835680" y="60199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6835680" y="55879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 flipV="1">
              <a:off x="6829560" y="55818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7083720" y="5587920"/>
              <a:ext cx="4057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7077240" y="5568840"/>
              <a:ext cx="4186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7084080" y="5602320"/>
              <a:ext cx="40536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7077600" y="5595840"/>
              <a:ext cx="4183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7515360" y="5778360"/>
              <a:ext cx="38160" cy="51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7496280" y="5772240"/>
              <a:ext cx="759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7940880" y="485136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7940880" y="529596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7934400" y="485784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8188560" y="4878360"/>
              <a:ext cx="3931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8169840" y="4859280"/>
              <a:ext cx="4183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8188200" y="4851360"/>
              <a:ext cx="3934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8169480" y="4844880"/>
              <a:ext cx="4186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8607600" y="505476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8588520" y="5048280"/>
              <a:ext cx="759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7750080" y="50673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7572240" y="50673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6657840" y="57150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6657840" y="51688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6657840" y="434340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6372360" y="57214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6372360" y="517536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6372360" y="4349880"/>
              <a:ext cx="0" cy="81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6372360" y="38926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6378480" y="43434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6359400" y="4317840"/>
              <a:ext cx="5112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6378480" y="51688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6359400" y="5143680"/>
              <a:ext cx="5112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6378480" y="57150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6359400" y="5689440"/>
              <a:ext cx="5112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6657840" y="589284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6657840" y="452124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6562800" y="589932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562800" y="452772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6562800" y="3892680"/>
              <a:ext cx="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6569280" y="452124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6537240" y="45086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6569280" y="589284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6537240" y="5880240"/>
              <a:ext cx="50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7750080" y="48895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7572240" y="43434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7743960" y="434988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750080" y="52578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7572240" y="58039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7743960" y="526428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6657840" y="497844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6657840" y="41655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6194520" y="4984920"/>
              <a:ext cx="0" cy="11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6194520" y="4172040"/>
              <a:ext cx="0" cy="79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6194520" y="389268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6200640" y="41655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6168960" y="414036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6200640" y="497844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6168960" y="49658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8664480" y="50673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0" name=""/>
          <p:cNvSpPr/>
          <p:nvPr/>
        </p:nvSpPr>
        <p:spPr>
          <a:xfrm>
            <a:off x="6499080" y="1828800"/>
            <a:ext cx="221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 flipH="1">
            <a:off x="8272440" y="1824120"/>
            <a:ext cx="450720" cy="29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wo-level logic using NAND gate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 gate with inverted inputs is a NAND g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Morgan’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 + B’ = (A • B)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-level NAND-NAND net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rted inputs are not cou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typical circuit, inversion is done once and signal distrib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E566-398D-4AE9-8FEB-5BD617DA75B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4" name=""/>
          <p:cNvGrpSpPr/>
          <p:nvPr/>
        </p:nvGrpSpPr>
        <p:grpSpPr>
          <a:xfrm>
            <a:off x="4946760" y="2692440"/>
            <a:ext cx="3187440" cy="2717640"/>
            <a:chOff x="4946760" y="2692440"/>
            <a:chExt cx="3187440" cy="2717640"/>
          </a:xfrm>
        </p:grpSpPr>
        <p:sp>
          <p:nvSpPr>
            <p:cNvPr id="1755" name=""/>
            <p:cNvSpPr/>
            <p:nvPr/>
          </p:nvSpPr>
          <p:spPr>
            <a:xfrm>
              <a:off x="5079960" y="2990520"/>
              <a:ext cx="148572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5060880" y="2971440"/>
              <a:ext cx="152388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5080320" y="3017880"/>
              <a:ext cx="1485720" cy="46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5061240" y="2998800"/>
              <a:ext cx="152352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5766120" y="3017880"/>
              <a:ext cx="11376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5747040" y="299880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5803920" y="3016080"/>
              <a:ext cx="7596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5784840" y="2997000"/>
              <a:ext cx="1141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5810400" y="311760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5810400" y="334620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6591240" y="3206520"/>
              <a:ext cx="63720" cy="63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6585120" y="3200400"/>
              <a:ext cx="7596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5632920" y="3875040"/>
              <a:ext cx="2404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4946760" y="3875040"/>
              <a:ext cx="163800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5022720" y="3847680"/>
              <a:ext cx="156204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5632560" y="3847680"/>
              <a:ext cx="24084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5810400" y="399420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5772240" y="4178160"/>
              <a:ext cx="75960" cy="8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 flipH="1">
              <a:off x="5683320" y="422280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6597720" y="4076640"/>
              <a:ext cx="889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5105160" y="4743720"/>
              <a:ext cx="1485720" cy="46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5086440" y="4724640"/>
              <a:ext cx="151092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5105520" y="4770360"/>
              <a:ext cx="148572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5086800" y="4751280"/>
              <a:ext cx="151092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5779080" y="4770360"/>
              <a:ext cx="12600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5772240" y="475128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5829120" y="4768920"/>
              <a:ext cx="759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5810040" y="4749840"/>
              <a:ext cx="1141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5835600" y="498456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6616800" y="4959360"/>
              <a:ext cx="5076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6597720" y="494028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5810400" y="47689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5810400" y="52005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7130880" y="38415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7130880" y="43750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7124760" y="384804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7429680" y="3868560"/>
              <a:ext cx="4694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7410600" y="3849480"/>
              <a:ext cx="50760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7429320" y="3841200"/>
              <a:ext cx="46980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7410240" y="3835440"/>
              <a:ext cx="50796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7937640" y="4083120"/>
              <a:ext cx="5076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7016760" y="429264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7016760" y="4076640"/>
              <a:ext cx="889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7016760" y="384804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6902280" y="410832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6686640" y="410832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6902280" y="389232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6686640" y="323208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6896160" y="3238560"/>
              <a:ext cx="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6902280" y="432432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6686640" y="498456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6896160" y="4330440"/>
              <a:ext cx="0" cy="64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5594400" y="520056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594400" y="42228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5473800" y="5207040"/>
              <a:ext cx="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5473800" y="4228920"/>
              <a:ext cx="0" cy="96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5473800" y="2692440"/>
              <a:ext cx="0" cy="152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5479920" y="422280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5448240" y="4197240"/>
              <a:ext cx="6372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5479920" y="520056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5448240" y="5175000"/>
              <a:ext cx="63720" cy="6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5594400" y="498456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5594400" y="399420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5594400" y="334620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5257800" y="499104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5257800" y="4000320"/>
              <a:ext cx="0" cy="97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5257800" y="3352680"/>
              <a:ext cx="0" cy="63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5257800" y="2692440"/>
              <a:ext cx="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5264280" y="334620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5232240" y="3321000"/>
              <a:ext cx="5112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5264280" y="399420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5232240" y="3981240"/>
              <a:ext cx="5112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5264280" y="498456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5232240" y="4959360"/>
              <a:ext cx="51120" cy="63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5594400" y="476892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5594400" y="311760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5029200" y="4775040"/>
              <a:ext cx="0" cy="63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5029200" y="3124080"/>
              <a:ext cx="0" cy="163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5029200" y="269244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5035680" y="3117600"/>
              <a:ext cx="54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5016600" y="310500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5035680" y="4768920"/>
              <a:ext cx="54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5016600" y="474336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7931160" y="410832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5797440" y="4736880"/>
              <a:ext cx="76320" cy="8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5848200" y="4940280"/>
              <a:ext cx="76320" cy="8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1" name=""/>
          <p:cNvGrpSpPr/>
          <p:nvPr/>
        </p:nvGrpSpPr>
        <p:grpSpPr>
          <a:xfrm>
            <a:off x="1314720" y="2692440"/>
            <a:ext cx="3022200" cy="2717640"/>
            <a:chOff x="1314720" y="2692440"/>
            <a:chExt cx="3022200" cy="2717640"/>
          </a:xfrm>
        </p:grpSpPr>
        <p:sp>
          <p:nvSpPr>
            <p:cNvPr id="1842" name=""/>
            <p:cNvSpPr/>
            <p:nvPr/>
          </p:nvSpPr>
          <p:spPr>
            <a:xfrm>
              <a:off x="1987560" y="2908080"/>
              <a:ext cx="24084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1339920" y="2856960"/>
              <a:ext cx="158724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1378440" y="2896920"/>
              <a:ext cx="154872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1987920" y="2896920"/>
              <a:ext cx="24048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2165400" y="32320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2165400" y="30160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1987920" y="3760560"/>
              <a:ext cx="24048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1340280" y="3760560"/>
              <a:ext cx="158688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1378080" y="3733560"/>
              <a:ext cx="154908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1987560" y="3733560"/>
              <a:ext cx="24084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2165400" y="38797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2127240" y="4051080"/>
              <a:ext cx="88920" cy="101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 flipH="1">
              <a:off x="2050560" y="40957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1333440" y="4628880"/>
              <a:ext cx="154908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1314720" y="4597560"/>
              <a:ext cx="159948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1371960" y="4643280"/>
              <a:ext cx="151092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1378440" y="4637160"/>
              <a:ext cx="1535760" cy="493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1981800" y="4643280"/>
              <a:ext cx="20232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1975320" y="4637160"/>
              <a:ext cx="240480" cy="493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1981440" y="4667040"/>
              <a:ext cx="2026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1974960" y="4647960"/>
              <a:ext cx="2408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2127240" y="4825800"/>
              <a:ext cx="88920" cy="8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 flipH="1">
              <a:off x="2050560" y="487044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 flipH="1">
              <a:off x="2063880" y="508644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3359160" y="4248000"/>
              <a:ext cx="52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3359160" y="372744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 flipV="1">
              <a:off x="3352680" y="372096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3644640" y="3727440"/>
              <a:ext cx="46980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3625560" y="3720960"/>
              <a:ext cx="507960" cy="53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3645000" y="3754440"/>
              <a:ext cx="46944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3625920" y="3735360"/>
              <a:ext cx="507600" cy="5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3156120" y="377820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2927520" y="313056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3149640" y="3136680"/>
              <a:ext cx="0" cy="63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3156120" y="399420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2927520" y="399420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936800" y="40957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1936800" y="50864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1828800" y="50925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1828800" y="4101840"/>
              <a:ext cx="0" cy="97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828800" y="2692440"/>
              <a:ext cx="0" cy="139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835280" y="409572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816200" y="408312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1835280" y="50864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1816200" y="506088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1936800" y="323208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1936800" y="387972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1936800" y="48704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1612800" y="487656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1612800" y="3886200"/>
              <a:ext cx="0" cy="97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1612800" y="3238560"/>
              <a:ext cx="0" cy="63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1612800" y="269244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1619280" y="32320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1587600" y="3206520"/>
              <a:ext cx="5076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1619280" y="38797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1587600" y="386712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1619280" y="48704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1587600" y="4832280"/>
              <a:ext cx="50760" cy="63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1936800" y="301608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1936800" y="46418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1384200" y="464796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1384200" y="3022560"/>
              <a:ext cx="0" cy="161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1384200" y="26924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1390680" y="30160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1371600" y="2990880"/>
              <a:ext cx="633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1390680" y="464184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1371600" y="4629240"/>
              <a:ext cx="633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927520" y="487044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3156120" y="422280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3149640" y="4228920"/>
              <a:ext cx="0" cy="63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4133880" y="399420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2050920" y="4622760"/>
              <a:ext cx="88920" cy="8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4" name=""/>
          <p:cNvSpPr/>
          <p:nvPr/>
        </p:nvSpPr>
        <p:spPr>
          <a:xfrm flipV="1">
            <a:off x="6502320" y="1828800"/>
            <a:ext cx="1770120" cy="1160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 flipH="1">
            <a:off x="6456240" y="1828800"/>
            <a:ext cx="182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7437600" y="22096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 flipH="1">
            <a:off x="7742160" y="2209680"/>
            <a:ext cx="533520" cy="157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wo-level logic using NOR gat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lace maxterm OR gates with NOR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ce compensating inversion at inputs of AND g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E5E6-FBB4-4B8F-A53D-59187C07ED8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0" name=""/>
          <p:cNvGrpSpPr/>
          <p:nvPr/>
        </p:nvGrpSpPr>
        <p:grpSpPr>
          <a:xfrm>
            <a:off x="647640" y="3746520"/>
            <a:ext cx="2489400" cy="2260440"/>
            <a:chOff x="647640" y="3746520"/>
            <a:chExt cx="2489400" cy="2260440"/>
          </a:xfrm>
        </p:grpSpPr>
        <p:sp>
          <p:nvSpPr>
            <p:cNvPr id="1921" name=""/>
            <p:cNvSpPr/>
            <p:nvPr/>
          </p:nvSpPr>
          <p:spPr>
            <a:xfrm>
              <a:off x="1193760" y="3924000"/>
              <a:ext cx="20268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673200" y="3885840"/>
              <a:ext cx="12949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685800" y="3913200"/>
              <a:ext cx="128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1194120" y="3913200"/>
              <a:ext cx="20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1333440" y="41972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1333440" y="40194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1194120" y="4636800"/>
              <a:ext cx="20232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673560" y="4636800"/>
              <a:ext cx="129456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685440" y="4609800"/>
              <a:ext cx="12826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1193760" y="4609800"/>
              <a:ext cx="2026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1333440" y="47307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1308240" y="4876560"/>
              <a:ext cx="75960" cy="8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 flipH="1">
              <a:off x="1244520" y="49086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666720" y="5352840"/>
              <a:ext cx="126972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647640" y="5333400"/>
              <a:ext cx="130788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680040" y="5367240"/>
              <a:ext cx="12564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686160" y="5360760"/>
              <a:ext cx="12693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1188000" y="5367240"/>
              <a:ext cx="16416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1181520" y="5360760"/>
              <a:ext cx="20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1187640" y="5391000"/>
              <a:ext cx="16452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1181160" y="5371560"/>
              <a:ext cx="20268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1308240" y="5524560"/>
              <a:ext cx="7596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 flipH="1">
              <a:off x="1244520" y="55562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 flipH="1">
              <a:off x="1257120" y="5734080"/>
              <a:ext cx="5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2336760" y="503532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2336760" y="460368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 flipV="1">
              <a:off x="2330280" y="45968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2571480" y="4603320"/>
              <a:ext cx="393480" cy="44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2552760" y="4597560"/>
              <a:ext cx="41868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2571840" y="4630680"/>
              <a:ext cx="3931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2553120" y="4611600"/>
              <a:ext cx="4183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2158920" y="465444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1968480" y="41083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2152800" y="41148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2158920" y="48322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1968480" y="48322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1155600" y="49086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1155600" y="57340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1060560" y="5740200"/>
              <a:ext cx="0" cy="26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1060560" y="4914720"/>
              <a:ext cx="0" cy="81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1060560" y="3746520"/>
              <a:ext cx="0" cy="115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1066680" y="490860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1047600" y="4908600"/>
              <a:ext cx="50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1066680" y="573408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1047600" y="572112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1155600" y="419724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1155600" y="47307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1155600" y="55562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882720" y="556236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882720" y="4736880"/>
              <a:ext cx="0" cy="81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882720" y="420372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882720" y="374652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888840" y="419724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857160" y="4171680"/>
              <a:ext cx="5076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888840" y="473076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857160" y="471780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888840" y="555624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857160" y="553068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1155600" y="40194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1155600" y="53658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692280" y="5371920"/>
              <a:ext cx="0" cy="63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692280" y="4025880"/>
              <a:ext cx="0" cy="13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692280" y="374652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698400" y="40194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679320" y="3994200"/>
              <a:ext cx="50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698400" y="53658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679320" y="53528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1968480" y="55562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2158920" y="50227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2152800" y="502920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2971800" y="48322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1244520" y="5359320"/>
              <a:ext cx="7632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3" name=""/>
          <p:cNvSpPr/>
          <p:nvPr/>
        </p:nvSpPr>
        <p:spPr>
          <a:xfrm flipV="1">
            <a:off x="8377200" y="1817280"/>
            <a:ext cx="366840" cy="2868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 flipH="1">
            <a:off x="6508800" y="1835280"/>
            <a:ext cx="223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5" name=""/>
          <p:cNvGrpSpPr/>
          <p:nvPr/>
        </p:nvGrpSpPr>
        <p:grpSpPr>
          <a:xfrm>
            <a:off x="6121440" y="3746520"/>
            <a:ext cx="2717640" cy="2273040"/>
            <a:chOff x="6121440" y="3746520"/>
            <a:chExt cx="2717640" cy="2273040"/>
          </a:xfrm>
        </p:grpSpPr>
        <p:sp>
          <p:nvSpPr>
            <p:cNvPr id="1996" name=""/>
            <p:cNvSpPr/>
            <p:nvPr/>
          </p:nvSpPr>
          <p:spPr>
            <a:xfrm>
              <a:off x="6229800" y="3993840"/>
              <a:ext cx="12312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6210360" y="3987720"/>
              <a:ext cx="12697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6229800" y="4021200"/>
              <a:ext cx="123120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6210720" y="4002120"/>
              <a:ext cx="12693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6788880" y="4021200"/>
              <a:ext cx="113040" cy="35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6782400" y="4002120"/>
              <a:ext cx="12600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6826680" y="4019400"/>
              <a:ext cx="7524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6820200" y="3999960"/>
              <a:ext cx="8820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6832440" y="410832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6832440" y="428616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7486560" y="4171680"/>
              <a:ext cx="50760" cy="51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7480440" y="4165560"/>
              <a:ext cx="633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6693480" y="4738680"/>
              <a:ext cx="20232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6121440" y="4738680"/>
              <a:ext cx="135864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6172200" y="4711680"/>
              <a:ext cx="130788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6693120" y="4711680"/>
              <a:ext cx="20268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6832440" y="483228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6794640" y="4991040"/>
              <a:ext cx="7596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 flipH="1">
              <a:off x="6730560" y="50227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7493040" y="4902120"/>
              <a:ext cx="7596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6242400" y="5454360"/>
              <a:ext cx="12438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6236280" y="5448240"/>
              <a:ext cx="125640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6242760" y="5468760"/>
              <a:ext cx="124344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6236280" y="5462640"/>
              <a:ext cx="125640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6814080" y="5468760"/>
              <a:ext cx="100800" cy="3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6795000" y="5462640"/>
              <a:ext cx="12600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6851160" y="5466960"/>
              <a:ext cx="63720" cy="3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6832800" y="5460840"/>
              <a:ext cx="8820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6858000" y="56577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7512120" y="5632200"/>
              <a:ext cx="38160" cy="51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7493040" y="5626080"/>
              <a:ext cx="759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6832440" y="54673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6832440" y="583560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7347240" y="4730400"/>
              <a:ext cx="12312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7327440" y="4711680"/>
              <a:ext cx="125748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7347240" y="4744800"/>
              <a:ext cx="12312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7327800" y="4738680"/>
              <a:ext cx="12571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7905600" y="4744800"/>
              <a:ext cx="10152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7899840" y="4738680"/>
              <a:ext cx="12600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7943400" y="4743360"/>
              <a:ext cx="6372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7937640" y="4736520"/>
              <a:ext cx="8820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7950240" y="492120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8604360" y="490860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8585280" y="4902120"/>
              <a:ext cx="759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7937640" y="4743360"/>
              <a:ext cx="3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7937640" y="5111640"/>
              <a:ext cx="3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7746840" y="49212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7569000" y="49212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7746840" y="47433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7569000" y="419724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7740720" y="4203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7746840" y="51116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7569000" y="56577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7740720" y="51181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6654600" y="58356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6654600" y="50227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6559560" y="58417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6559560" y="5029200"/>
              <a:ext cx="0" cy="79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6559560" y="3746520"/>
              <a:ext cx="0" cy="126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6566040" y="502272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6534000" y="499752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6566040" y="583560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6534000" y="582300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6654600" y="56577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6654600" y="48322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6654600" y="42861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6369120" y="5664240"/>
              <a:ext cx="0" cy="35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6369120" y="4838760"/>
              <a:ext cx="0" cy="81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6369120" y="429264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6369120" y="37465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6375240" y="42861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6356160" y="4273560"/>
              <a:ext cx="5112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6375240" y="48322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6356160" y="4819680"/>
              <a:ext cx="5112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6375240" y="56577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6356160" y="5632200"/>
              <a:ext cx="5112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6654600" y="54673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6654600" y="41083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6191280" y="547344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6191280" y="4114800"/>
              <a:ext cx="0" cy="13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6191280" y="3746520"/>
              <a:ext cx="0" cy="35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6197400" y="41083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6165720" y="408312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6197400" y="54673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6165720" y="545472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8661240" y="49212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6807240" y="5448240"/>
              <a:ext cx="6336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6858000" y="5626080"/>
              <a:ext cx="6336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4" name=""/>
          <p:cNvGrpSpPr/>
          <p:nvPr/>
        </p:nvGrpSpPr>
        <p:grpSpPr>
          <a:xfrm>
            <a:off x="3378960" y="3759120"/>
            <a:ext cx="2615400" cy="2247840"/>
            <a:chOff x="3378960" y="3759120"/>
            <a:chExt cx="2615400" cy="2247840"/>
          </a:xfrm>
        </p:grpSpPr>
        <p:sp>
          <p:nvSpPr>
            <p:cNvPr id="2085" name=""/>
            <p:cNvSpPr/>
            <p:nvPr/>
          </p:nvSpPr>
          <p:spPr>
            <a:xfrm>
              <a:off x="3473640" y="4007160"/>
              <a:ext cx="123120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3454200" y="3987720"/>
              <a:ext cx="12697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3473640" y="4021200"/>
              <a:ext cx="123120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3454560" y="4014720"/>
              <a:ext cx="12693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4044960" y="4021200"/>
              <a:ext cx="8856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4025880" y="4014720"/>
              <a:ext cx="12672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4070880" y="4019760"/>
              <a:ext cx="6264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4063680" y="4013280"/>
              <a:ext cx="8892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4076640" y="41083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4076640" y="42987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4718160" y="4184640"/>
              <a:ext cx="633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4724280" y="4178160"/>
              <a:ext cx="637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3937680" y="4738680"/>
              <a:ext cx="18936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3378960" y="4738680"/>
              <a:ext cx="13449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3429000" y="4711680"/>
              <a:ext cx="12949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3937320" y="4711680"/>
              <a:ext cx="1897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4076640" y="483228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4051440" y="4991040"/>
              <a:ext cx="6336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 flipH="1">
              <a:off x="3974760" y="50227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4724280" y="4902120"/>
              <a:ext cx="7632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3499200" y="5454360"/>
              <a:ext cx="12312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3480120" y="5448240"/>
              <a:ext cx="124380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3499200" y="5481360"/>
              <a:ext cx="12312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3480480" y="5462640"/>
              <a:ext cx="124344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4057920" y="5481360"/>
              <a:ext cx="100800" cy="34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4051800" y="5462640"/>
              <a:ext cx="12600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4096080" y="5479560"/>
              <a:ext cx="62640" cy="34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4076640" y="5460840"/>
              <a:ext cx="10116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4102200" y="56577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4743360" y="5632200"/>
              <a:ext cx="50760" cy="63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4724280" y="5626080"/>
              <a:ext cx="7632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4076640" y="54799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4076640" y="58356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5168880" y="47052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5168880" y="51498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5162400" y="471168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5416920" y="4732200"/>
              <a:ext cx="3931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5397840" y="4713120"/>
              <a:ext cx="4183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5416560" y="4705200"/>
              <a:ext cx="3934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5397480" y="4698720"/>
              <a:ext cx="4186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5835600" y="4908600"/>
              <a:ext cx="381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5079960" y="5079960"/>
              <a:ext cx="633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5079960" y="4902120"/>
              <a:ext cx="633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5079960" y="4711680"/>
              <a:ext cx="633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4978440" y="49338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4800600" y="49338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4978440" y="475596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4800600" y="419724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4971960" y="420372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4978440" y="51116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4800600" y="56577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4971960" y="51181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3898800" y="58356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3898800" y="50227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3803760" y="5841720"/>
              <a:ext cx="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3803760" y="5029200"/>
              <a:ext cx="0" cy="79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3803760" y="3759120"/>
              <a:ext cx="0" cy="125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3809880" y="50227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3778200" y="501012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3809880" y="583560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3778200" y="5810040"/>
              <a:ext cx="50760" cy="6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3898800" y="56577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3898800" y="48322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3898800" y="42987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3625920" y="5664240"/>
              <a:ext cx="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3625920" y="4838760"/>
              <a:ext cx="0" cy="81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3625920" y="430524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3625920" y="375912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3632040" y="429876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3600360" y="427356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3632040" y="483228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3600360" y="481968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3632040" y="565776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3600360" y="5632200"/>
              <a:ext cx="50760" cy="6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3898800" y="54799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3898800" y="41083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3435480" y="548640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3435480" y="411480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3435480" y="3759120"/>
              <a:ext cx="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3441600" y="41083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3422520" y="409572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3441600" y="54799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3422520" y="545472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5829120" y="49338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4057920" y="5481360"/>
              <a:ext cx="100800" cy="34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4051800" y="5462640"/>
              <a:ext cx="12600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4102200" y="56577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4076640" y="54799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4064040" y="5448240"/>
              <a:ext cx="6336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4114800" y="5626080"/>
              <a:ext cx="6336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wo-level logic using NOR gate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 gate with inverted inputs is a NOR g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Morgan’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 • B’ = (A + B)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-level NOR-NOR net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rted inputs are not cou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typical circuit, inversion is done once and signal distrib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A8E7-2E83-416C-9FC7-71E8A9DDD26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wo-level logic using NAND and NOR gat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ND-NAND and NOR-NOR networ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Morgan’s law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 + B)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  A’ • B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 • B)’  =   A’ + 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ten differently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+ 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 (A’ • B’)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 • B)   =  (A’ + B’)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other words –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is the same as NAND with complemented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is the same as NOR with complemented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ND is the same as OR with complemented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 is the same as AND with complemented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9" name=""/>
          <p:cNvGrpSpPr/>
          <p:nvPr/>
        </p:nvGrpSpPr>
        <p:grpSpPr>
          <a:xfrm>
            <a:off x="3170160" y="5139000"/>
            <a:ext cx="955800" cy="441000"/>
            <a:chOff x="3170160" y="5139000"/>
            <a:chExt cx="955800" cy="441000"/>
          </a:xfrm>
        </p:grpSpPr>
        <p:sp>
          <p:nvSpPr>
            <p:cNvPr id="2180" name=""/>
            <p:cNvSpPr/>
            <p:nvPr/>
          </p:nvSpPr>
          <p:spPr>
            <a:xfrm>
              <a:off x="3343320" y="5156280"/>
              <a:ext cx="4172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3343320" y="5563080"/>
              <a:ext cx="43488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3343320" y="5156280"/>
              <a:ext cx="1080" cy="40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3760560" y="5172840"/>
              <a:ext cx="190800" cy="2034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1" y="12"/>
                  </a:moveTo>
                  <a:cubicBezTo>
                    <a:pt x="11" y="5"/>
                    <a:pt x="6" y="0"/>
                    <a:pt x="0" y="0"/>
                  </a:cubicBezTo>
                  <a:lnTo>
                    <a:pt x="0" y="12"/>
                  </a:lnTo>
                  <a:lnTo>
                    <a:pt x="11" y="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3560760" y="5156280"/>
              <a:ext cx="399240" cy="42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979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97994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3760560" y="5359680"/>
              <a:ext cx="190800" cy="2034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11"/>
                  </a:moveTo>
                  <a:cubicBezTo>
                    <a:pt x="6" y="12"/>
                    <a:pt x="11" y="6"/>
                    <a:pt x="11" y="0"/>
                  </a:cubicBez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3560760" y="5139000"/>
              <a:ext cx="399240" cy="42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3170160" y="5274720"/>
              <a:ext cx="17316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3170160" y="5444640"/>
              <a:ext cx="173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3951720" y="5359680"/>
              <a:ext cx="1742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0" name=""/>
          <p:cNvGrpSpPr/>
          <p:nvPr/>
        </p:nvGrpSpPr>
        <p:grpSpPr>
          <a:xfrm>
            <a:off x="659520" y="5141520"/>
            <a:ext cx="1585080" cy="435240"/>
            <a:chOff x="659520" y="5141520"/>
            <a:chExt cx="1585080" cy="435240"/>
          </a:xfrm>
        </p:grpSpPr>
        <p:sp>
          <p:nvSpPr>
            <p:cNvPr id="2191" name=""/>
            <p:cNvSpPr/>
            <p:nvPr/>
          </p:nvSpPr>
          <p:spPr>
            <a:xfrm>
              <a:off x="1260000" y="5159520"/>
              <a:ext cx="20664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1" y="0"/>
                  </a:moveTo>
                  <a:arcTo wR="10800" hR="10800" stAng="-5402742" swAng="54027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1" y="0"/>
                  </a:moveTo>
                  <a:arcTo wR="10800" hR="10800" stAng="-5402742" swAng="5402742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659520" y="5159520"/>
              <a:ext cx="1406160" cy="41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693720" y="5141520"/>
              <a:ext cx="1371960" cy="41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1260000" y="5141520"/>
              <a:ext cx="206640" cy="41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3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3031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1400400" y="5258880"/>
              <a:ext cx="3744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1400400" y="5441040"/>
              <a:ext cx="37440" cy="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212840" y="5258880"/>
              <a:ext cx="18756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1212840" y="5441040"/>
              <a:ext cx="187560" cy="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2057040" y="5350320"/>
              <a:ext cx="18756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0" name=""/>
          <p:cNvSpPr/>
          <p:nvPr/>
        </p:nvSpPr>
        <p:spPr>
          <a:xfrm>
            <a:off x="3960720" y="5315040"/>
            <a:ext cx="87480" cy="85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3252960" y="5229360"/>
            <a:ext cx="87120" cy="85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3249720" y="5402160"/>
            <a:ext cx="87120" cy="85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3" name=""/>
          <p:cNvGrpSpPr/>
          <p:nvPr/>
        </p:nvGrpSpPr>
        <p:grpSpPr>
          <a:xfrm>
            <a:off x="1236600" y="5813640"/>
            <a:ext cx="955800" cy="441000"/>
            <a:chOff x="1236600" y="5813640"/>
            <a:chExt cx="955800" cy="441000"/>
          </a:xfrm>
        </p:grpSpPr>
        <p:sp>
          <p:nvSpPr>
            <p:cNvPr id="2204" name=""/>
            <p:cNvSpPr/>
            <p:nvPr/>
          </p:nvSpPr>
          <p:spPr>
            <a:xfrm>
              <a:off x="1409760" y="5830920"/>
              <a:ext cx="4172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1409760" y="6237720"/>
              <a:ext cx="43488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1409760" y="5830920"/>
              <a:ext cx="1080" cy="40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1827000" y="5847480"/>
              <a:ext cx="190800" cy="2034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1" y="12"/>
                  </a:moveTo>
                  <a:cubicBezTo>
                    <a:pt x="11" y="5"/>
                    <a:pt x="6" y="0"/>
                    <a:pt x="0" y="0"/>
                  </a:cubicBezTo>
                  <a:lnTo>
                    <a:pt x="0" y="12"/>
                  </a:lnTo>
                  <a:lnTo>
                    <a:pt x="11" y="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1627200" y="5830920"/>
              <a:ext cx="399240" cy="42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979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97994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1827000" y="6034320"/>
              <a:ext cx="190800" cy="2034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11"/>
                  </a:moveTo>
                  <a:cubicBezTo>
                    <a:pt x="6" y="12"/>
                    <a:pt x="11" y="6"/>
                    <a:pt x="11" y="0"/>
                  </a:cubicBez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1627200" y="5813640"/>
              <a:ext cx="399240" cy="42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1236600" y="5949360"/>
              <a:ext cx="17316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1236600" y="6119280"/>
              <a:ext cx="173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2018160" y="6034320"/>
              <a:ext cx="1742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4" name=""/>
          <p:cNvSpPr/>
          <p:nvPr/>
        </p:nvSpPr>
        <p:spPr>
          <a:xfrm>
            <a:off x="2027160" y="5989680"/>
            <a:ext cx="87480" cy="85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5" name=""/>
          <p:cNvGrpSpPr/>
          <p:nvPr/>
        </p:nvGrpSpPr>
        <p:grpSpPr>
          <a:xfrm>
            <a:off x="2577240" y="5839920"/>
            <a:ext cx="1585080" cy="437400"/>
            <a:chOff x="2577240" y="5839920"/>
            <a:chExt cx="1585080" cy="437400"/>
          </a:xfrm>
        </p:grpSpPr>
        <p:sp>
          <p:nvSpPr>
            <p:cNvPr id="2216" name=""/>
            <p:cNvSpPr/>
            <p:nvPr/>
          </p:nvSpPr>
          <p:spPr>
            <a:xfrm>
              <a:off x="3177720" y="5857920"/>
              <a:ext cx="206640" cy="38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1" y="0"/>
                  </a:moveTo>
                  <a:arcTo wR="10800" hR="10800" stAng="-5402742" swAng="54027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1" y="0"/>
                  </a:moveTo>
                  <a:arcTo wR="10800" hR="10800" stAng="-5402742" swAng="5402742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2577240" y="5857920"/>
              <a:ext cx="140616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2611440" y="5839920"/>
              <a:ext cx="137196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3177720" y="5839920"/>
              <a:ext cx="20664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3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3031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3318120" y="5957640"/>
              <a:ext cx="3744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3318120" y="6140880"/>
              <a:ext cx="37440" cy="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3130560" y="5957640"/>
              <a:ext cx="18756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3130560" y="6140880"/>
              <a:ext cx="187560" cy="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3974760" y="6049800"/>
              <a:ext cx="18756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5" name=""/>
          <p:cNvSpPr/>
          <p:nvPr/>
        </p:nvSpPr>
        <p:spPr>
          <a:xfrm>
            <a:off x="3265560" y="5913360"/>
            <a:ext cx="87120" cy="85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3271680" y="6094440"/>
            <a:ext cx="87480" cy="871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2419200" y="5337000"/>
            <a:ext cx="595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2428920" y="6032520"/>
            <a:ext cx="595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9" name=""/>
          <p:cNvGrpSpPr/>
          <p:nvPr/>
        </p:nvGrpSpPr>
        <p:grpSpPr>
          <a:xfrm>
            <a:off x="7454880" y="5767560"/>
            <a:ext cx="955800" cy="441000"/>
            <a:chOff x="7454880" y="5767560"/>
            <a:chExt cx="955800" cy="441000"/>
          </a:xfrm>
        </p:grpSpPr>
        <p:sp>
          <p:nvSpPr>
            <p:cNvPr id="2230" name=""/>
            <p:cNvSpPr/>
            <p:nvPr/>
          </p:nvSpPr>
          <p:spPr>
            <a:xfrm>
              <a:off x="7628040" y="5784840"/>
              <a:ext cx="4172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7628040" y="6191640"/>
              <a:ext cx="43488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7628040" y="5784840"/>
              <a:ext cx="1080" cy="40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8045280" y="5801400"/>
              <a:ext cx="190800" cy="2034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1" y="12"/>
                  </a:moveTo>
                  <a:cubicBezTo>
                    <a:pt x="11" y="5"/>
                    <a:pt x="6" y="0"/>
                    <a:pt x="0" y="0"/>
                  </a:cubicBezTo>
                  <a:lnTo>
                    <a:pt x="0" y="12"/>
                  </a:lnTo>
                  <a:lnTo>
                    <a:pt x="11" y="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7845480" y="5784840"/>
              <a:ext cx="399240" cy="42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979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97994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8045280" y="5988240"/>
              <a:ext cx="190800" cy="2034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11"/>
                  </a:moveTo>
                  <a:cubicBezTo>
                    <a:pt x="6" y="12"/>
                    <a:pt x="11" y="6"/>
                    <a:pt x="11" y="0"/>
                  </a:cubicBez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7845480" y="5767560"/>
              <a:ext cx="399240" cy="42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7454880" y="5903280"/>
              <a:ext cx="17316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7454880" y="6073200"/>
              <a:ext cx="173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8236440" y="5988240"/>
              <a:ext cx="1742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0" name=""/>
          <p:cNvGrpSpPr/>
          <p:nvPr/>
        </p:nvGrpSpPr>
        <p:grpSpPr>
          <a:xfrm>
            <a:off x="4944240" y="5770080"/>
            <a:ext cx="1585080" cy="435240"/>
            <a:chOff x="4944240" y="5770080"/>
            <a:chExt cx="1585080" cy="435240"/>
          </a:xfrm>
        </p:grpSpPr>
        <p:sp>
          <p:nvSpPr>
            <p:cNvPr id="2241" name=""/>
            <p:cNvSpPr/>
            <p:nvPr/>
          </p:nvSpPr>
          <p:spPr>
            <a:xfrm>
              <a:off x="5544720" y="5788080"/>
              <a:ext cx="20664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1" y="0"/>
                  </a:moveTo>
                  <a:arcTo wR="10800" hR="10800" stAng="-5402742" swAng="54027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1" y="0"/>
                  </a:moveTo>
                  <a:arcTo wR="10800" hR="10800" stAng="-5402742" swAng="5402742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4944240" y="5788080"/>
              <a:ext cx="1406160" cy="41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4978440" y="5770080"/>
              <a:ext cx="1371960" cy="41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5544720" y="5770080"/>
              <a:ext cx="206640" cy="41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3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3031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5685120" y="5887440"/>
              <a:ext cx="3744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5685120" y="6069600"/>
              <a:ext cx="37440" cy="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5497560" y="5887440"/>
              <a:ext cx="18756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5497560" y="6069600"/>
              <a:ext cx="187560" cy="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6341760" y="5978880"/>
              <a:ext cx="18756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0" name=""/>
          <p:cNvSpPr/>
          <p:nvPr/>
        </p:nvSpPr>
        <p:spPr>
          <a:xfrm>
            <a:off x="6345360" y="5943600"/>
            <a:ext cx="87120" cy="85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7537320" y="5857920"/>
            <a:ext cx="87480" cy="85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7534440" y="6031080"/>
            <a:ext cx="87120" cy="85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3" name=""/>
          <p:cNvGrpSpPr/>
          <p:nvPr/>
        </p:nvGrpSpPr>
        <p:grpSpPr>
          <a:xfrm>
            <a:off x="5521320" y="5055840"/>
            <a:ext cx="955800" cy="442080"/>
            <a:chOff x="5521320" y="5055840"/>
            <a:chExt cx="955800" cy="442080"/>
          </a:xfrm>
        </p:grpSpPr>
        <p:sp>
          <p:nvSpPr>
            <p:cNvPr id="2254" name=""/>
            <p:cNvSpPr/>
            <p:nvPr/>
          </p:nvSpPr>
          <p:spPr>
            <a:xfrm>
              <a:off x="5694480" y="5073480"/>
              <a:ext cx="4172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5694480" y="5480640"/>
              <a:ext cx="43488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5694480" y="5073480"/>
              <a:ext cx="1080" cy="40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6111720" y="5090040"/>
              <a:ext cx="190800" cy="2034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1" y="12"/>
                  </a:moveTo>
                  <a:cubicBezTo>
                    <a:pt x="11" y="5"/>
                    <a:pt x="6" y="0"/>
                    <a:pt x="0" y="0"/>
                  </a:cubicBezTo>
                  <a:lnTo>
                    <a:pt x="0" y="12"/>
                  </a:lnTo>
                  <a:lnTo>
                    <a:pt x="11" y="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5911920" y="5073480"/>
              <a:ext cx="399240" cy="42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979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97994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6111720" y="5276880"/>
              <a:ext cx="190800" cy="20376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11"/>
                  </a:moveTo>
                  <a:cubicBezTo>
                    <a:pt x="6" y="12"/>
                    <a:pt x="11" y="6"/>
                    <a:pt x="11" y="0"/>
                  </a:cubicBez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5911920" y="5055840"/>
              <a:ext cx="399240" cy="42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5521320" y="5191920"/>
              <a:ext cx="17316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5521320" y="5362200"/>
              <a:ext cx="173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6302880" y="5276880"/>
              <a:ext cx="1742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4" name=""/>
          <p:cNvGrpSpPr/>
          <p:nvPr/>
        </p:nvGrpSpPr>
        <p:grpSpPr>
          <a:xfrm>
            <a:off x="6861960" y="5082480"/>
            <a:ext cx="1585080" cy="437400"/>
            <a:chOff x="6861960" y="5082480"/>
            <a:chExt cx="1585080" cy="437400"/>
          </a:xfrm>
        </p:grpSpPr>
        <p:sp>
          <p:nvSpPr>
            <p:cNvPr id="2265" name=""/>
            <p:cNvSpPr/>
            <p:nvPr/>
          </p:nvSpPr>
          <p:spPr>
            <a:xfrm>
              <a:off x="7462440" y="5100480"/>
              <a:ext cx="206640" cy="38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1" y="0"/>
                  </a:moveTo>
                  <a:arcTo wR="10800" hR="10800" stAng="-5402742" swAng="54027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1" y="0"/>
                  </a:moveTo>
                  <a:arcTo wR="10800" hR="10800" stAng="-5402742" swAng="5402742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6861960" y="5100480"/>
              <a:ext cx="140616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6896160" y="5082480"/>
              <a:ext cx="137196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7462440" y="5082480"/>
              <a:ext cx="20664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3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3031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7602840" y="5200200"/>
              <a:ext cx="3744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7602840" y="5383440"/>
              <a:ext cx="37440" cy="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7415280" y="5200200"/>
              <a:ext cx="18756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7415280" y="5383440"/>
              <a:ext cx="187560" cy="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8259480" y="5292360"/>
              <a:ext cx="18756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4" name=""/>
          <p:cNvSpPr/>
          <p:nvPr/>
        </p:nvSpPr>
        <p:spPr>
          <a:xfrm>
            <a:off x="7550280" y="5156280"/>
            <a:ext cx="87120" cy="85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7556400" y="5337000"/>
            <a:ext cx="87480" cy="874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6703920" y="5965920"/>
            <a:ext cx="595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6713640" y="5275440"/>
            <a:ext cx="595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8269200" y="5246640"/>
            <a:ext cx="87480" cy="85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95A1-4296-43A7-894A-F1E473F5EC0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495680" y="5638680"/>
            <a:ext cx="41911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e'll need a 4-variable Karnaugh map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 each of the 3 output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sign example: two-bit comparato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816200" y="3485880"/>
            <a:ext cx="1765080" cy="1187640"/>
            <a:chOff x="1816200" y="3485880"/>
            <a:chExt cx="1765080" cy="1187640"/>
          </a:xfrm>
        </p:grpSpPr>
        <p:sp>
          <p:nvSpPr>
            <p:cNvPr id="89" name=""/>
            <p:cNvSpPr/>
            <p:nvPr/>
          </p:nvSpPr>
          <p:spPr>
            <a:xfrm>
              <a:off x="1816200" y="4305240"/>
              <a:ext cx="17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lock dia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2368080" y="3485880"/>
              <a:ext cx="298440" cy="78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599400" y="2286000"/>
            <a:ext cx="3832920" cy="1099440"/>
            <a:chOff x="599400" y="2286000"/>
            <a:chExt cx="3832920" cy="1099440"/>
          </a:xfrm>
        </p:grpSpPr>
        <p:sp>
          <p:nvSpPr>
            <p:cNvPr id="92" name=""/>
            <p:cNvSpPr/>
            <p:nvPr/>
          </p:nvSpPr>
          <p:spPr>
            <a:xfrm>
              <a:off x="2057400" y="2362320"/>
              <a:ext cx="35568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Q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G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971800" y="2362320"/>
              <a:ext cx="146052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 B &lt; C 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 B = C 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 B &gt; C 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990720" y="2298600"/>
              <a:ext cx="1904760" cy="1066680"/>
              <a:chOff x="990720" y="2298600"/>
              <a:chExt cx="1904760" cy="1066680"/>
            </a:xfrm>
          </p:grpSpPr>
          <p:sp>
            <p:nvSpPr>
              <p:cNvPr id="95" name=""/>
              <p:cNvSpPr/>
              <p:nvPr/>
            </p:nvSpPr>
            <p:spPr>
              <a:xfrm>
                <a:off x="1523880" y="2298600"/>
                <a:ext cx="838440" cy="1066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990720" y="245088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990720" y="267948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90720" y="298440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990720" y="321300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362320" y="252720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362320" y="283176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362320" y="313668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1522080" y="228600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519920" y="2514600"/>
              <a:ext cx="31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22800" y="281952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521000" y="3048120"/>
              <a:ext cx="32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99400" y="23623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99400" y="29401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5124600" y="1625760"/>
            <a:ext cx="3105000" cy="3784320"/>
            <a:chOff x="5124600" y="1625760"/>
            <a:chExt cx="3105000" cy="3784320"/>
          </a:xfrm>
        </p:grpSpPr>
        <p:sp>
          <p:nvSpPr>
            <p:cNvPr id="110" name=""/>
            <p:cNvSpPr/>
            <p:nvPr/>
          </p:nvSpPr>
          <p:spPr>
            <a:xfrm>
              <a:off x="5124600" y="1841400"/>
              <a:ext cx="279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515280" y="16315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124600" y="2666880"/>
              <a:ext cx="279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149800" y="3479400"/>
              <a:ext cx="2718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137200" y="4292280"/>
              <a:ext cx="273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130720" y="1625760"/>
              <a:ext cx="3098880" cy="37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Q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G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1803240" y="3777840"/>
            <a:ext cx="2990880" cy="1327680"/>
            <a:chOff x="1803240" y="3777840"/>
            <a:chExt cx="2990880" cy="1327680"/>
          </a:xfrm>
        </p:grpSpPr>
        <p:sp>
          <p:nvSpPr>
            <p:cNvPr id="117" name=""/>
            <p:cNvSpPr/>
            <p:nvPr/>
          </p:nvSpPr>
          <p:spPr>
            <a:xfrm flipV="1">
              <a:off x="3200400" y="3777840"/>
              <a:ext cx="1593720" cy="11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803240" y="4521240"/>
              <a:ext cx="17654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ruth 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0EC0-050E-4CE3-8EB3-7170163F434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9" name=""/>
          <p:cNvGrpSpPr/>
          <p:nvPr/>
        </p:nvGrpSpPr>
        <p:grpSpPr>
          <a:xfrm>
            <a:off x="838080" y="4881600"/>
            <a:ext cx="3340080" cy="1625400"/>
            <a:chOff x="838080" y="4881600"/>
            <a:chExt cx="3340080" cy="1625400"/>
          </a:xfrm>
        </p:grpSpPr>
        <p:sp>
          <p:nvSpPr>
            <p:cNvPr id="2280" name=""/>
            <p:cNvSpPr/>
            <p:nvPr/>
          </p:nvSpPr>
          <p:spPr>
            <a:xfrm>
              <a:off x="1562040" y="50212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1562040" y="552924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 flipV="1">
              <a:off x="1549440" y="50083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1803960" y="5022720"/>
              <a:ext cx="44352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1803600" y="5022720"/>
              <a:ext cx="4564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1803600" y="5008320"/>
              <a:ext cx="44388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1803240" y="4995360"/>
              <a:ext cx="45684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1562040" y="587196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1562040" y="638028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 flipV="1">
              <a:off x="1549440" y="585936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1803960" y="5873760"/>
              <a:ext cx="44352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1803600" y="5873760"/>
              <a:ext cx="4564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1803600" y="5859720"/>
              <a:ext cx="44388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1803240" y="5846760"/>
              <a:ext cx="456840" cy="53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2807280" y="5467320"/>
              <a:ext cx="22752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2159280" y="5467320"/>
              <a:ext cx="152352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2247840" y="5439960"/>
              <a:ext cx="143496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2806920" y="5439960"/>
              <a:ext cx="22788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2984400" y="5592600"/>
              <a:ext cx="1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2984400" y="5808600"/>
              <a:ext cx="1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2781360" y="55926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2273400" y="52750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2476440" y="52750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2768760" y="528804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2781360" y="58086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2273400" y="61261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2476440" y="612612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2768760" y="582120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1359000" y="51609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1054080" y="516096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1359000" y="53769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1054080" y="537696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1359000" y="60120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1054080" y="601200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1359000" y="62276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1054080" y="622764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3695760" y="56944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3898800" y="56944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838080" y="4881600"/>
              <a:ext cx="279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863640" y="531324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863640" y="575784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863640" y="6151680"/>
              <a:ext cx="2667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2" name=""/>
          <p:cNvGrpSpPr/>
          <p:nvPr/>
        </p:nvGrpSpPr>
        <p:grpSpPr>
          <a:xfrm>
            <a:off x="4317840" y="4881600"/>
            <a:ext cx="4292640" cy="1625400"/>
            <a:chOff x="4317840" y="4881600"/>
            <a:chExt cx="4292640" cy="1625400"/>
          </a:xfrm>
        </p:grpSpPr>
        <p:sp>
          <p:nvSpPr>
            <p:cNvPr id="2323" name=""/>
            <p:cNvSpPr/>
            <p:nvPr/>
          </p:nvSpPr>
          <p:spPr>
            <a:xfrm>
              <a:off x="5626080" y="502128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5626080" y="552924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5613480" y="5033880"/>
              <a:ext cx="0" cy="48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5880600" y="5022720"/>
              <a:ext cx="44352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5880600" y="5022720"/>
              <a:ext cx="4564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5880240" y="5008320"/>
              <a:ext cx="44388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5880240" y="4995360"/>
              <a:ext cx="45684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6350040" y="5237280"/>
              <a:ext cx="6336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6337440" y="5224320"/>
              <a:ext cx="7596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5626080" y="587196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5626080" y="638028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5613480" y="5884920"/>
              <a:ext cx="0" cy="48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5880600" y="5873760"/>
              <a:ext cx="44352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5880600" y="5873760"/>
              <a:ext cx="4564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5880240" y="5859720"/>
              <a:ext cx="44388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5880240" y="5846760"/>
              <a:ext cx="456840" cy="53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6350040" y="6087960"/>
              <a:ext cx="63360" cy="63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6337440" y="6075360"/>
              <a:ext cx="7596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6375240" y="5452920"/>
              <a:ext cx="137124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6362280" y="5439960"/>
              <a:ext cx="139716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6375600" y="5467320"/>
              <a:ext cx="137088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6362640" y="5467320"/>
              <a:ext cx="139680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6997680" y="5467320"/>
              <a:ext cx="1267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6997680" y="5467320"/>
              <a:ext cx="12672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7035480" y="5465520"/>
              <a:ext cx="889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7035480" y="5465880"/>
              <a:ext cx="8892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7035840" y="5554800"/>
              <a:ext cx="6336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7035840" y="5541840"/>
              <a:ext cx="763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7035840" y="5770440"/>
              <a:ext cx="63360" cy="63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7035840" y="5757840"/>
              <a:ext cx="763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5423040" y="51609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5118120" y="516096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5423040" y="53769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5118120" y="537696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5423040" y="60120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5118120" y="601200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5423040" y="62276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5118120" y="622764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6438960" y="52750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6845400" y="55926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6642000" y="52750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6832440" y="528804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6438960" y="61261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6845400" y="58086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6642000" y="61261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6832440" y="582120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7759800" y="56944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7962840" y="56944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4317840" y="5529240"/>
              <a:ext cx="2541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4876920" y="4881600"/>
              <a:ext cx="279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4902120" y="531324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4902120" y="575784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4902120" y="6151680"/>
              <a:ext cx="2667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8356680" y="5529240"/>
              <a:ext cx="2538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5651640" y="5122800"/>
              <a:ext cx="812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5651640" y="5986440"/>
              <a:ext cx="812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7112160" y="5554800"/>
              <a:ext cx="812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nversion between for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8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vert from networks of ANDs and ORs to networks of NANDs and N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appropriate inversions ("bubbles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ch introduced "bubble" must be matched by a corresponding "bubble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ervation of inver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not alter logic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AND/OR to NAND/N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2" name=""/>
          <p:cNvGrpSpPr/>
          <p:nvPr/>
        </p:nvGrpSpPr>
        <p:grpSpPr>
          <a:xfrm>
            <a:off x="6324480" y="3903840"/>
            <a:ext cx="2210040" cy="1612080"/>
            <a:chOff x="6324480" y="3903840"/>
            <a:chExt cx="2210040" cy="1612080"/>
          </a:xfrm>
        </p:grpSpPr>
        <p:sp>
          <p:nvSpPr>
            <p:cNvPr id="2383" name=""/>
            <p:cNvSpPr/>
            <p:nvPr/>
          </p:nvSpPr>
          <p:spPr>
            <a:xfrm>
              <a:off x="7080120" y="4011480"/>
              <a:ext cx="279360" cy="19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 flipV="1">
              <a:off x="7080120" y="4201920"/>
              <a:ext cx="27936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7067520" y="4011480"/>
              <a:ext cx="0" cy="40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7372440" y="4176720"/>
              <a:ext cx="759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7994520" y="4011480"/>
              <a:ext cx="279360" cy="19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 flipV="1">
              <a:off x="7994520" y="4201920"/>
              <a:ext cx="27936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7981920" y="4011480"/>
              <a:ext cx="0" cy="40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7880400" y="4176720"/>
              <a:ext cx="6336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7880400" y="4176720"/>
              <a:ext cx="7632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6877080" y="42148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7486560" y="42148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7689960" y="42148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8299440" y="42148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6743880" y="3903840"/>
              <a:ext cx="1790640" cy="622080"/>
            </a:xfrm>
            <a:prstGeom prst="roundRect">
              <a:avLst>
                <a:gd name="adj" fmla="val 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 flipV="1">
              <a:off x="6324480" y="4525920"/>
              <a:ext cx="457200" cy="68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 flipV="1">
              <a:off x="7086600" y="4525560"/>
              <a:ext cx="144792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3962-BD3E-483B-B187-A6A32CB4039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"/>
          <p:cNvSpPr/>
          <p:nvPr/>
        </p:nvSpPr>
        <p:spPr>
          <a:xfrm>
            <a:off x="3086280" y="4470480"/>
            <a:ext cx="332712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 = [ (A  •  B)’  • (C   • D)’  ]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[ (A’ + B’)  •  (C’ + D’)  ]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[ (A’ + B’)’ + (C’ + D’)’  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(A  •  B)   + (C  • D)  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nversion between form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verify equivalence of two 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2" name=""/>
          <p:cNvGrpSpPr/>
          <p:nvPr/>
        </p:nvGrpSpPr>
        <p:grpSpPr>
          <a:xfrm>
            <a:off x="762120" y="2394000"/>
            <a:ext cx="3733560" cy="1625400"/>
            <a:chOff x="762120" y="2394000"/>
            <a:chExt cx="3733560" cy="1625400"/>
          </a:xfrm>
        </p:grpSpPr>
        <p:sp>
          <p:nvSpPr>
            <p:cNvPr id="2403" name=""/>
            <p:cNvSpPr/>
            <p:nvPr/>
          </p:nvSpPr>
          <p:spPr>
            <a:xfrm>
              <a:off x="1486080" y="25336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1486080" y="304164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 flipV="1">
              <a:off x="1473120" y="2520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1727280" y="2535120"/>
              <a:ext cx="44424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1727640" y="2535120"/>
              <a:ext cx="45648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1726920" y="2520720"/>
              <a:ext cx="44460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1727280" y="2508480"/>
              <a:ext cx="4568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1486080" y="338472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1486080" y="389268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 flipV="1">
              <a:off x="1473120" y="337176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1727280" y="3386160"/>
              <a:ext cx="4442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1727640" y="3386160"/>
              <a:ext cx="4564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1726920" y="3372120"/>
              <a:ext cx="44460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1727280" y="3359160"/>
              <a:ext cx="456840" cy="53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2730600" y="2979720"/>
              <a:ext cx="22824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2082960" y="2979720"/>
              <a:ext cx="152352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2171880" y="2952360"/>
              <a:ext cx="143460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2730240" y="2952360"/>
              <a:ext cx="22860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2908440" y="310500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2908440" y="332100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2705040" y="31050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2197080" y="27874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2400480" y="27874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2692440" y="280044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2705040" y="33210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2197080" y="36385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2400480" y="363852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2692440" y="333360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1282680" y="26733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977760" y="267336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1282680" y="28893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977760" y="288936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1282680" y="35244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977760" y="352440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1282680" y="37400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977760" y="374004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3619440" y="32068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3822840" y="32068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762120" y="2394000"/>
              <a:ext cx="279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787320" y="282564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787320" y="327024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787320" y="3664080"/>
              <a:ext cx="2667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4241880" y="3041640"/>
              <a:ext cx="2538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6" name=""/>
          <p:cNvGrpSpPr/>
          <p:nvPr/>
        </p:nvGrpSpPr>
        <p:grpSpPr>
          <a:xfrm>
            <a:off x="4800600" y="2394000"/>
            <a:ext cx="3733920" cy="1625400"/>
            <a:chOff x="4800600" y="2394000"/>
            <a:chExt cx="3733920" cy="1625400"/>
          </a:xfrm>
        </p:grpSpPr>
        <p:sp>
          <p:nvSpPr>
            <p:cNvPr id="2447" name=""/>
            <p:cNvSpPr/>
            <p:nvPr/>
          </p:nvSpPr>
          <p:spPr>
            <a:xfrm>
              <a:off x="5549760" y="253368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5549760" y="304164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5537160" y="2546280"/>
              <a:ext cx="0" cy="48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5803920" y="2535120"/>
              <a:ext cx="44424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5804280" y="2535120"/>
              <a:ext cx="45648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5803560" y="2520720"/>
              <a:ext cx="44460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5803920" y="2508480"/>
              <a:ext cx="4568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6273720" y="2749680"/>
              <a:ext cx="6372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6261120" y="2736720"/>
              <a:ext cx="763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5549760" y="338472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5549760" y="389268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5537160" y="3397320"/>
              <a:ext cx="0" cy="48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5803920" y="3386160"/>
              <a:ext cx="4442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5804280" y="3386160"/>
              <a:ext cx="4564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5803560" y="3372120"/>
              <a:ext cx="44460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5803920" y="3359160"/>
              <a:ext cx="456840" cy="53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6273720" y="3600360"/>
              <a:ext cx="63720" cy="63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6261120" y="3587760"/>
              <a:ext cx="763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6299280" y="2965320"/>
              <a:ext cx="137124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6286680" y="2952360"/>
              <a:ext cx="139644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6299640" y="2979720"/>
              <a:ext cx="137088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6287040" y="2979720"/>
              <a:ext cx="139608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6922080" y="2979720"/>
              <a:ext cx="12600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6922080" y="2979720"/>
              <a:ext cx="12600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6959880" y="2977920"/>
              <a:ext cx="8820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6959880" y="2978280"/>
              <a:ext cx="8820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6959520" y="3067200"/>
              <a:ext cx="6372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6959520" y="3054240"/>
              <a:ext cx="763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6959520" y="3282840"/>
              <a:ext cx="63720" cy="63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6959520" y="3270240"/>
              <a:ext cx="763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5346720" y="26733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5041800" y="267336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5346720" y="28893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5041800" y="288936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5346720" y="35244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5041800" y="352440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5346720" y="37400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5041800" y="374004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6362640" y="27874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6769080" y="31050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6566040" y="27874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6756480" y="280044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6362640" y="36385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6769080" y="33210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6566040" y="36385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6756480" y="333360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7683480" y="32068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7886880" y="32068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4800600" y="2394000"/>
              <a:ext cx="279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4826160" y="2825640"/>
              <a:ext cx="2664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4826160" y="3270240"/>
              <a:ext cx="2664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4826160" y="3664080"/>
              <a:ext cx="26640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8280360" y="3041640"/>
              <a:ext cx="2541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5575320" y="2635200"/>
              <a:ext cx="8128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5575320" y="3498840"/>
              <a:ext cx="8128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7035840" y="3067200"/>
              <a:ext cx="8128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4EB7-BD50-4D93-8BCF-029E5DA2D96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3" name=""/>
          <p:cNvSpPr/>
          <p:nvPr/>
        </p:nvSpPr>
        <p:spPr>
          <a:xfrm>
            <a:off x="5664240" y="5778360"/>
            <a:ext cx="851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Step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7581960" y="6045120"/>
            <a:ext cx="13334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ser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"bubbles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7435800" y="4832280"/>
            <a:ext cx="520920" cy="1155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>
            <a:off x="1917720" y="5778360"/>
            <a:ext cx="851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Step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 flipH="1">
            <a:off x="1352520" y="5556240"/>
            <a:ext cx="533520" cy="469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355680" y="6045120"/>
            <a:ext cx="13334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ser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"bubbles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9" name=""/>
          <p:cNvGrpSpPr/>
          <p:nvPr/>
        </p:nvGrpSpPr>
        <p:grpSpPr>
          <a:xfrm>
            <a:off x="4952880" y="3683160"/>
            <a:ext cx="3606840" cy="2082600"/>
            <a:chOff x="4952880" y="3683160"/>
            <a:chExt cx="3606840" cy="2082600"/>
          </a:xfrm>
        </p:grpSpPr>
        <p:sp>
          <p:nvSpPr>
            <p:cNvPr id="2510" name=""/>
            <p:cNvSpPr/>
            <p:nvPr/>
          </p:nvSpPr>
          <p:spPr>
            <a:xfrm>
              <a:off x="5657760" y="379728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5657760" y="422928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5651640" y="380376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5867640" y="3811680"/>
              <a:ext cx="35496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5848560" y="3805200"/>
              <a:ext cx="3931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5867280" y="3797280"/>
              <a:ext cx="3553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5848200" y="3778200"/>
              <a:ext cx="3934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5575320" y="3898800"/>
              <a:ext cx="50760" cy="63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5568840" y="3892680"/>
              <a:ext cx="7632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5575320" y="4076640"/>
              <a:ext cx="50760" cy="63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5568840" y="4070520"/>
              <a:ext cx="7632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5734080" y="51436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5734080" y="557532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5727600" y="514980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5944320" y="5170320"/>
              <a:ext cx="36720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5937840" y="5151600"/>
              <a:ext cx="3801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5943960" y="5143320"/>
              <a:ext cx="36756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5937480" y="5137200"/>
              <a:ext cx="3805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5664240" y="525780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5657760" y="5238720"/>
              <a:ext cx="637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5664240" y="543564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5657760" y="5416560"/>
              <a:ext cx="637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6095880" y="4533840"/>
              <a:ext cx="113004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6089400" y="4527720"/>
              <a:ext cx="114300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6096240" y="4548240"/>
              <a:ext cx="112968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6089760" y="4541760"/>
              <a:ext cx="114264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6604560" y="4548240"/>
              <a:ext cx="10080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6598440" y="4541760"/>
              <a:ext cx="11304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6641640" y="4546440"/>
              <a:ext cx="63720" cy="3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6635520" y="4540320"/>
              <a:ext cx="7596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6648480" y="46353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6648480" y="48261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7238880" y="471168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7232760" y="4705200"/>
              <a:ext cx="6336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7728120" y="4552920"/>
              <a:ext cx="2286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 flipV="1">
              <a:off x="7728120" y="4730400"/>
              <a:ext cx="22860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7721640" y="455292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7645320" y="471168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7639200" y="4705200"/>
              <a:ext cx="7596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5238720" y="392436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5238720" y="410220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5492880" y="52704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5238720" y="527040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5492880" y="54482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5238720" y="544824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6229440" y="40132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6483240" y="463536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6394320" y="401328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6477120" y="40194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6318360" y="53593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6483240" y="482616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6477120" y="4832280"/>
              <a:ext cx="0" cy="52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7308720" y="47372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7473960" y="47372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7969320" y="47372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8134200" y="47372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5676840" y="3898800"/>
              <a:ext cx="6606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5753160" y="5219640"/>
              <a:ext cx="6602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6680160" y="4597560"/>
              <a:ext cx="6606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4965840" y="3683160"/>
              <a:ext cx="368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4952880" y="4089240"/>
              <a:ext cx="39384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4978440" y="5041800"/>
              <a:ext cx="3556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4952880" y="5435640"/>
              <a:ext cx="3938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8305920" y="4610160"/>
              <a:ext cx="2538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4" name=""/>
          <p:cNvGrpSpPr/>
          <p:nvPr/>
        </p:nvGrpSpPr>
        <p:grpSpPr>
          <a:xfrm>
            <a:off x="762120" y="3727440"/>
            <a:ext cx="3733560" cy="1911240"/>
            <a:chOff x="762120" y="3727440"/>
            <a:chExt cx="3733560" cy="1911240"/>
          </a:xfrm>
        </p:grpSpPr>
        <p:sp>
          <p:nvSpPr>
            <p:cNvPr id="2575" name=""/>
            <p:cNvSpPr/>
            <p:nvPr/>
          </p:nvSpPr>
          <p:spPr>
            <a:xfrm>
              <a:off x="2266920" y="37720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2266920" y="420372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2260440" y="377820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2476800" y="3786120"/>
              <a:ext cx="35496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2457720" y="3780000"/>
              <a:ext cx="3931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2476440" y="3771720"/>
              <a:ext cx="3553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2457360" y="3753000"/>
              <a:ext cx="3934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2184480" y="3873600"/>
              <a:ext cx="5076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2178000" y="3867120"/>
              <a:ext cx="763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2184480" y="4051440"/>
              <a:ext cx="5076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2178000" y="4044960"/>
              <a:ext cx="763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2343240" y="511812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2343240" y="554976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2336760" y="512460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2552760" y="5145120"/>
              <a:ext cx="3679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2546280" y="5126040"/>
              <a:ext cx="3808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2552400" y="5118480"/>
              <a:ext cx="36828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2545920" y="5111640"/>
              <a:ext cx="3812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2273400" y="5232240"/>
              <a:ext cx="50760" cy="51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2266920" y="5213520"/>
              <a:ext cx="633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2273400" y="541008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2266920" y="5391000"/>
              <a:ext cx="6336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1352520" y="3727440"/>
              <a:ext cx="22860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 flipV="1">
              <a:off x="1352520" y="3892320"/>
              <a:ext cx="22860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1346040" y="3727440"/>
              <a:ext cx="0" cy="34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1593720" y="3867120"/>
              <a:ext cx="763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1352520" y="4260960"/>
              <a:ext cx="22860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 flipV="1">
              <a:off x="1352520" y="4425480"/>
              <a:ext cx="22860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1346040" y="4260960"/>
              <a:ext cx="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1593720" y="4400640"/>
              <a:ext cx="763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1352520" y="4807080"/>
              <a:ext cx="22860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 flipV="1">
              <a:off x="1352520" y="4971600"/>
              <a:ext cx="22860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1346040" y="4807080"/>
              <a:ext cx="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1593720" y="4946760"/>
              <a:ext cx="7632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1352520" y="5251320"/>
              <a:ext cx="22860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 flipV="1">
              <a:off x="1352520" y="5416200"/>
              <a:ext cx="22860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1346040" y="5251320"/>
              <a:ext cx="0" cy="34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1593720" y="5391000"/>
              <a:ext cx="763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3117960" y="4516560"/>
              <a:ext cx="19008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2597400" y="4516560"/>
              <a:ext cx="12441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2660400" y="4502160"/>
              <a:ext cx="11811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3117600" y="4502160"/>
              <a:ext cx="19044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3257640" y="461016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3257640" y="480060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1682640" y="443232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2013120" y="40766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1847880" y="40766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1841400" y="4083120"/>
              <a:ext cx="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3092400" y="46101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2838600" y="39877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3003480" y="39877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3086280" y="399420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1682640" y="49784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2101680" y="524520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1841400" y="4984920"/>
              <a:ext cx="0" cy="25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1847880" y="524520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3092400" y="48006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2927520" y="53341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3086280" y="480708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2013120" y="38988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1682640" y="389880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1847880" y="38988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2101680" y="54230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1682640" y="54230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1847880" y="542304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1187280" y="389880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1022400" y="38988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1187280" y="443232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1022400" y="44323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1187280" y="49784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1022400" y="49784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1187280" y="54230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1022400" y="54230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3841920" y="47116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4006800" y="47116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2374920" y="5194440"/>
              <a:ext cx="7365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2311560" y="3848040"/>
              <a:ext cx="6602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762120" y="3784680"/>
              <a:ext cx="2793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774720" y="4330800"/>
              <a:ext cx="2667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787320" y="4876920"/>
              <a:ext cx="2667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774720" y="5308560"/>
              <a:ext cx="2667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4241880" y="4572000"/>
              <a:ext cx="2538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nversion between form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map AND/OR network to NOR/NOR net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9" name=""/>
          <p:cNvGrpSpPr/>
          <p:nvPr/>
        </p:nvGrpSpPr>
        <p:grpSpPr>
          <a:xfrm>
            <a:off x="3124080" y="2057400"/>
            <a:ext cx="3733560" cy="1625400"/>
            <a:chOff x="3124080" y="2057400"/>
            <a:chExt cx="3733560" cy="1625400"/>
          </a:xfrm>
        </p:grpSpPr>
        <p:sp>
          <p:nvSpPr>
            <p:cNvPr id="2660" name=""/>
            <p:cNvSpPr/>
            <p:nvPr/>
          </p:nvSpPr>
          <p:spPr>
            <a:xfrm>
              <a:off x="3848040" y="21970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3848040" y="270504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 flipV="1">
              <a:off x="3835080" y="21841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4089240" y="2198520"/>
              <a:ext cx="44424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4089600" y="2198520"/>
              <a:ext cx="45648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4088880" y="2184120"/>
              <a:ext cx="44460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4089240" y="2171880"/>
              <a:ext cx="4568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3848040" y="304812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3848040" y="355608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 flipV="1">
              <a:off x="3835080" y="303516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4089240" y="3049560"/>
              <a:ext cx="4442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4089600" y="3049560"/>
              <a:ext cx="4564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4088880" y="3035520"/>
              <a:ext cx="44460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4089240" y="3022560"/>
              <a:ext cx="456840" cy="53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5092560" y="2643120"/>
              <a:ext cx="22824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4444920" y="2643120"/>
              <a:ext cx="152352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4533840" y="2615760"/>
              <a:ext cx="143460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5092200" y="2615760"/>
              <a:ext cx="22860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5270400" y="276840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5270400" y="298440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5067000" y="27684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4559040" y="24508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4762440" y="24508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5054400" y="246384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5067000" y="29844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4559040" y="33019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4762440" y="330192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5054400" y="299700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3644640" y="23367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3339720" y="233676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3644640" y="25527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3339720" y="255276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3644640" y="31878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3339720" y="318780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3644640" y="34034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3339720" y="340344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5981400" y="28702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6184800" y="28702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3124080" y="2057400"/>
              <a:ext cx="279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3149280" y="248904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3149280" y="293364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3149280" y="3327480"/>
              <a:ext cx="2667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6603840" y="2705040"/>
              <a:ext cx="2538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4C44-4469-4E6B-B382-4CF27086C55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"/>
          <p:cNvSpPr/>
          <p:nvPr/>
        </p:nvSpPr>
        <p:spPr>
          <a:xfrm>
            <a:off x="2870280" y="4356000"/>
            <a:ext cx="373356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 = {  [ (A’ + B’)’ + (C’ + D’)’  ]’  }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{     (A’ + B’)  •  (C’ + D’)      }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    (A’ + B’)’ + (C’ + D’)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    (A  •  B)  +  (C  •  D)   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nversion between form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0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verify equivalence of two 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6" name=""/>
          <p:cNvGrpSpPr/>
          <p:nvPr/>
        </p:nvGrpSpPr>
        <p:grpSpPr>
          <a:xfrm>
            <a:off x="609480" y="2336760"/>
            <a:ext cx="3733560" cy="1625400"/>
            <a:chOff x="609480" y="2336760"/>
            <a:chExt cx="3733560" cy="1625400"/>
          </a:xfrm>
        </p:grpSpPr>
        <p:sp>
          <p:nvSpPr>
            <p:cNvPr id="2707" name=""/>
            <p:cNvSpPr/>
            <p:nvPr/>
          </p:nvSpPr>
          <p:spPr>
            <a:xfrm>
              <a:off x="1333440" y="247644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1333440" y="298440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 flipV="1">
              <a:off x="1320480" y="246348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1574640" y="2477880"/>
              <a:ext cx="44424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1575000" y="2477880"/>
              <a:ext cx="45648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1574280" y="2463480"/>
              <a:ext cx="44460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1574640" y="2451240"/>
              <a:ext cx="4568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1333440" y="33274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1333440" y="383544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 flipV="1">
              <a:off x="1320480" y="331452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1574640" y="3328920"/>
              <a:ext cx="4442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1575000" y="3328920"/>
              <a:ext cx="4564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1574280" y="3314880"/>
              <a:ext cx="44460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1574640" y="3301920"/>
              <a:ext cx="456840" cy="53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2577960" y="2922480"/>
              <a:ext cx="22824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1930320" y="2922480"/>
              <a:ext cx="152352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2019240" y="2895120"/>
              <a:ext cx="143460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2577600" y="2895120"/>
              <a:ext cx="22860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2755800" y="304776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2755800" y="326376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2552400" y="30477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2044440" y="27302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2247840" y="273024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2539800" y="274320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2552400" y="32637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2044440" y="35812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2247840" y="35812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2539800" y="327636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1130040" y="26161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825120" y="261612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1130040" y="28321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825120" y="283212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1130040" y="34671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825120" y="346716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1130040" y="36828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825120" y="368280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3466800" y="31496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3670200" y="314964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609480" y="2336760"/>
              <a:ext cx="279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634680" y="276840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634680" y="321300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634680" y="3606840"/>
              <a:ext cx="2667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4089240" y="2984400"/>
              <a:ext cx="2538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0" name=""/>
          <p:cNvGrpSpPr/>
          <p:nvPr/>
        </p:nvGrpSpPr>
        <p:grpSpPr>
          <a:xfrm>
            <a:off x="5105520" y="2209680"/>
            <a:ext cx="3606840" cy="2082600"/>
            <a:chOff x="5105520" y="2209680"/>
            <a:chExt cx="3606840" cy="2082600"/>
          </a:xfrm>
        </p:grpSpPr>
        <p:sp>
          <p:nvSpPr>
            <p:cNvPr id="2751" name=""/>
            <p:cNvSpPr/>
            <p:nvPr/>
          </p:nvSpPr>
          <p:spPr>
            <a:xfrm>
              <a:off x="5810400" y="232380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5810400" y="275580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5804280" y="233028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6020280" y="2338200"/>
              <a:ext cx="35496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6001200" y="2331720"/>
              <a:ext cx="3931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6019920" y="2323800"/>
              <a:ext cx="3553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6000840" y="2304720"/>
              <a:ext cx="3934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5727960" y="2425320"/>
              <a:ext cx="50760" cy="63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5721480" y="2419200"/>
              <a:ext cx="7632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5727960" y="2603160"/>
              <a:ext cx="50760" cy="63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5721480" y="2597040"/>
              <a:ext cx="7632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5886720" y="36702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5886720" y="410184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5880240" y="367632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6096960" y="3696840"/>
              <a:ext cx="36720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6090480" y="3678120"/>
              <a:ext cx="3801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6096600" y="3669840"/>
              <a:ext cx="36756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6090120" y="3663720"/>
              <a:ext cx="3805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5816880" y="378432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5810400" y="3765240"/>
              <a:ext cx="637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5816880" y="396216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5810400" y="3943080"/>
              <a:ext cx="637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6248520" y="3060360"/>
              <a:ext cx="113004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6242040" y="3054240"/>
              <a:ext cx="114300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6248880" y="3074760"/>
              <a:ext cx="112968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6242400" y="3068280"/>
              <a:ext cx="114264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6757200" y="3074760"/>
              <a:ext cx="10080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6751080" y="3068280"/>
              <a:ext cx="11304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6794280" y="3072960"/>
              <a:ext cx="63720" cy="3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6788160" y="3066840"/>
              <a:ext cx="7596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6801120" y="316188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6801120" y="335268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7391520" y="323820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7385400" y="3231720"/>
              <a:ext cx="6336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7880760" y="3079440"/>
              <a:ext cx="2286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 flipV="1">
              <a:off x="7880760" y="3256920"/>
              <a:ext cx="22860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7874280" y="307944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7797960" y="323820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7791840" y="3231720"/>
              <a:ext cx="7596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5391360" y="245088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5391360" y="262872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5645520" y="37969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5391360" y="379692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5645520" y="39747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5391360" y="397476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6382080" y="25398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6635880" y="316188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6546960" y="253980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6629760" y="254592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6471000" y="38858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6635880" y="335268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6629760" y="3358800"/>
              <a:ext cx="0" cy="52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7461360" y="326376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7626600" y="32637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8121960" y="32637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8286840" y="326376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5829480" y="2425320"/>
              <a:ext cx="6606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5905800" y="3746160"/>
              <a:ext cx="6602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6832800" y="3124080"/>
              <a:ext cx="6606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5118480" y="2209680"/>
              <a:ext cx="368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5105520" y="2615760"/>
              <a:ext cx="39384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5131080" y="3568320"/>
              <a:ext cx="3556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5105520" y="3962160"/>
              <a:ext cx="3938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8458560" y="3136680"/>
              <a:ext cx="2538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1BB5-5E97-47B6-88EE-11CE6D1826B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"/>
          <p:cNvSpPr/>
          <p:nvPr/>
        </p:nvSpPr>
        <p:spPr>
          <a:xfrm>
            <a:off x="1803600" y="5145120"/>
            <a:ext cx="137088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"/>
          <p:cNvSpPr/>
          <p:nvPr/>
        </p:nvSpPr>
        <p:spPr>
          <a:xfrm>
            <a:off x="1790640" y="5145120"/>
            <a:ext cx="139680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"/>
          <p:cNvSpPr/>
          <p:nvPr/>
        </p:nvSpPr>
        <p:spPr>
          <a:xfrm>
            <a:off x="1879560" y="5130720"/>
            <a:ext cx="129492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8" name=""/>
          <p:cNvSpPr/>
          <p:nvPr/>
        </p:nvSpPr>
        <p:spPr>
          <a:xfrm>
            <a:off x="1866960" y="5117760"/>
            <a:ext cx="1320480" cy="44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"/>
          <p:cNvSpPr/>
          <p:nvPr/>
        </p:nvSpPr>
        <p:spPr>
          <a:xfrm>
            <a:off x="2400120" y="5130720"/>
            <a:ext cx="17748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>
            <a:off x="2387160" y="5117760"/>
            <a:ext cx="203400" cy="44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"/>
          <p:cNvSpPr/>
          <p:nvPr/>
        </p:nvSpPr>
        <p:spPr>
          <a:xfrm>
            <a:off x="2565360" y="535932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"/>
          <p:cNvSpPr/>
          <p:nvPr/>
        </p:nvSpPr>
        <p:spPr>
          <a:xfrm>
            <a:off x="2400480" y="5145120"/>
            <a:ext cx="177120" cy="39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"/>
          <p:cNvSpPr/>
          <p:nvPr/>
        </p:nvSpPr>
        <p:spPr>
          <a:xfrm>
            <a:off x="2387520" y="5145120"/>
            <a:ext cx="20304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"/>
          <p:cNvSpPr/>
          <p:nvPr/>
        </p:nvSpPr>
        <p:spPr>
          <a:xfrm>
            <a:off x="2413080" y="5729400"/>
            <a:ext cx="19008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"/>
          <p:cNvSpPr/>
          <p:nvPr/>
        </p:nvSpPr>
        <p:spPr>
          <a:xfrm>
            <a:off x="1816200" y="5729400"/>
            <a:ext cx="138384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"/>
          <p:cNvSpPr/>
          <p:nvPr/>
        </p:nvSpPr>
        <p:spPr>
          <a:xfrm>
            <a:off x="1892160" y="5702400"/>
            <a:ext cx="130788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"/>
          <p:cNvSpPr/>
          <p:nvPr/>
        </p:nvSpPr>
        <p:spPr>
          <a:xfrm>
            <a:off x="2412720" y="5702400"/>
            <a:ext cx="19044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"/>
          <p:cNvSpPr/>
          <p:nvPr/>
        </p:nvSpPr>
        <p:spPr>
          <a:xfrm>
            <a:off x="2565360" y="584208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"/>
          <p:cNvSpPr/>
          <p:nvPr/>
        </p:nvSpPr>
        <p:spPr>
          <a:xfrm>
            <a:off x="2565360" y="604512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"/>
          <p:cNvSpPr/>
          <p:nvPr/>
        </p:nvSpPr>
        <p:spPr>
          <a:xfrm>
            <a:off x="4343400" y="5321160"/>
            <a:ext cx="41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>
            <a:off x="4343400" y="579132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"/>
          <p:cNvSpPr/>
          <p:nvPr/>
        </p:nvSpPr>
        <p:spPr>
          <a:xfrm>
            <a:off x="4330800" y="5334120"/>
            <a:ext cx="0" cy="44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"/>
          <p:cNvSpPr/>
          <p:nvPr/>
        </p:nvSpPr>
        <p:spPr>
          <a:xfrm>
            <a:off x="4559400" y="5322960"/>
            <a:ext cx="406080" cy="46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>
            <a:off x="4546800" y="5322960"/>
            <a:ext cx="43128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"/>
          <p:cNvSpPr/>
          <p:nvPr/>
        </p:nvSpPr>
        <p:spPr>
          <a:xfrm>
            <a:off x="4559040" y="5308920"/>
            <a:ext cx="406440" cy="46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"/>
          <p:cNvSpPr/>
          <p:nvPr/>
        </p:nvSpPr>
        <p:spPr>
          <a:xfrm>
            <a:off x="4546440" y="5295960"/>
            <a:ext cx="43164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"/>
          <p:cNvSpPr/>
          <p:nvPr/>
        </p:nvSpPr>
        <p:spPr>
          <a:xfrm>
            <a:off x="5664600" y="5437080"/>
            <a:ext cx="20232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5067720" y="5437080"/>
            <a:ext cx="1396080" cy="44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"/>
          <p:cNvSpPr/>
          <p:nvPr/>
        </p:nvSpPr>
        <p:spPr>
          <a:xfrm>
            <a:off x="5143680" y="5410440"/>
            <a:ext cx="132012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"/>
          <p:cNvSpPr/>
          <p:nvPr/>
        </p:nvSpPr>
        <p:spPr>
          <a:xfrm>
            <a:off x="5664240" y="5410440"/>
            <a:ext cx="20268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"/>
          <p:cNvSpPr/>
          <p:nvPr/>
        </p:nvSpPr>
        <p:spPr>
          <a:xfrm>
            <a:off x="5829480" y="554976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2" name=""/>
          <p:cNvSpPr/>
          <p:nvPr/>
        </p:nvSpPr>
        <p:spPr>
          <a:xfrm>
            <a:off x="5829480" y="575316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3" name=""/>
          <p:cNvSpPr/>
          <p:nvPr/>
        </p:nvSpPr>
        <p:spPr>
          <a:xfrm>
            <a:off x="4152960" y="5359320"/>
            <a:ext cx="16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"/>
          <p:cNvSpPr/>
          <p:nvPr/>
        </p:nvSpPr>
        <p:spPr>
          <a:xfrm>
            <a:off x="3225960" y="53593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"/>
          <p:cNvSpPr/>
          <p:nvPr/>
        </p:nvSpPr>
        <p:spPr>
          <a:xfrm>
            <a:off x="3403440" y="535932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>
            <a:off x="3225960" y="59436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>
            <a:off x="4152960" y="5549760"/>
            <a:ext cx="16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8" name=""/>
          <p:cNvSpPr/>
          <p:nvPr/>
        </p:nvSpPr>
        <p:spPr>
          <a:xfrm>
            <a:off x="3403440" y="594360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9" name=""/>
          <p:cNvSpPr/>
          <p:nvPr/>
        </p:nvSpPr>
        <p:spPr>
          <a:xfrm>
            <a:off x="3581280" y="556272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0" name=""/>
          <p:cNvSpPr/>
          <p:nvPr/>
        </p:nvSpPr>
        <p:spPr>
          <a:xfrm>
            <a:off x="3594240" y="55497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"/>
          <p:cNvSpPr/>
          <p:nvPr/>
        </p:nvSpPr>
        <p:spPr>
          <a:xfrm>
            <a:off x="5651640" y="554976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"/>
          <p:cNvSpPr/>
          <p:nvPr/>
        </p:nvSpPr>
        <p:spPr>
          <a:xfrm>
            <a:off x="4991040" y="554976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"/>
          <p:cNvSpPr/>
          <p:nvPr/>
        </p:nvSpPr>
        <p:spPr>
          <a:xfrm>
            <a:off x="5181480" y="554976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"/>
          <p:cNvSpPr/>
          <p:nvPr/>
        </p:nvSpPr>
        <p:spPr>
          <a:xfrm>
            <a:off x="6489720" y="565164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5" name=""/>
          <p:cNvSpPr/>
          <p:nvPr/>
        </p:nvSpPr>
        <p:spPr>
          <a:xfrm>
            <a:off x="6578640" y="565164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"/>
          <p:cNvSpPr/>
          <p:nvPr/>
        </p:nvSpPr>
        <p:spPr>
          <a:xfrm>
            <a:off x="2387520" y="51562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7" name=""/>
          <p:cNvSpPr/>
          <p:nvPr/>
        </p:nvSpPr>
        <p:spPr>
          <a:xfrm>
            <a:off x="2197080" y="515628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"/>
          <p:cNvSpPr/>
          <p:nvPr/>
        </p:nvSpPr>
        <p:spPr>
          <a:xfrm>
            <a:off x="2387520" y="5359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"/>
          <p:cNvSpPr/>
          <p:nvPr/>
        </p:nvSpPr>
        <p:spPr>
          <a:xfrm>
            <a:off x="2197080" y="535932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"/>
          <p:cNvSpPr/>
          <p:nvPr/>
        </p:nvSpPr>
        <p:spPr>
          <a:xfrm>
            <a:off x="2387520" y="554976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"/>
          <p:cNvSpPr/>
          <p:nvPr/>
        </p:nvSpPr>
        <p:spPr>
          <a:xfrm>
            <a:off x="2197080" y="554976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"/>
          <p:cNvSpPr/>
          <p:nvPr/>
        </p:nvSpPr>
        <p:spPr>
          <a:xfrm>
            <a:off x="2387520" y="5842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"/>
          <p:cNvSpPr/>
          <p:nvPr/>
        </p:nvSpPr>
        <p:spPr>
          <a:xfrm>
            <a:off x="2197080" y="584208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"/>
          <p:cNvSpPr/>
          <p:nvPr/>
        </p:nvSpPr>
        <p:spPr>
          <a:xfrm>
            <a:off x="2387520" y="60451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5" name=""/>
          <p:cNvSpPr/>
          <p:nvPr/>
        </p:nvSpPr>
        <p:spPr>
          <a:xfrm>
            <a:off x="2197080" y="604512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6" name=""/>
          <p:cNvSpPr/>
          <p:nvPr/>
        </p:nvSpPr>
        <p:spPr>
          <a:xfrm>
            <a:off x="4152960" y="5753160"/>
            <a:ext cx="16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7" name=""/>
          <p:cNvSpPr/>
          <p:nvPr/>
        </p:nvSpPr>
        <p:spPr>
          <a:xfrm>
            <a:off x="2197080" y="633744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"/>
          <p:cNvSpPr/>
          <p:nvPr/>
        </p:nvSpPr>
        <p:spPr>
          <a:xfrm>
            <a:off x="2387520" y="6337440"/>
            <a:ext cx="173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"/>
          <p:cNvSpPr/>
          <p:nvPr/>
        </p:nvSpPr>
        <p:spPr>
          <a:xfrm>
            <a:off x="4140360" y="576576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0" name=""/>
          <p:cNvSpPr/>
          <p:nvPr/>
        </p:nvSpPr>
        <p:spPr>
          <a:xfrm>
            <a:off x="5651640" y="575316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"/>
          <p:cNvSpPr/>
          <p:nvPr/>
        </p:nvSpPr>
        <p:spPr>
          <a:xfrm>
            <a:off x="2197080" y="652788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"/>
          <p:cNvSpPr/>
          <p:nvPr/>
        </p:nvSpPr>
        <p:spPr>
          <a:xfrm>
            <a:off x="2387520" y="6527880"/>
            <a:ext cx="323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"/>
          <p:cNvSpPr/>
          <p:nvPr/>
        </p:nvSpPr>
        <p:spPr>
          <a:xfrm>
            <a:off x="5638680" y="5765760"/>
            <a:ext cx="0" cy="74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"/>
          <p:cNvSpPr/>
          <p:nvPr/>
        </p:nvSpPr>
        <p:spPr>
          <a:xfrm>
            <a:off x="1930320" y="5041800"/>
            <a:ext cx="33012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"/>
          <p:cNvSpPr/>
          <p:nvPr/>
        </p:nvSpPr>
        <p:spPr>
          <a:xfrm>
            <a:off x="6807240" y="5511960"/>
            <a:ext cx="5842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ulti-leve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7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 = A D F  +  A E F  +  B D F  +  B E F  +  C D F  +  C E F  +  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d sum-of-products form – already simpl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x 3-input AND gates + 1 x 7-input OR gate (that may not even exist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 wires (19 literals plus 6 internal wi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 = (A + B + C) (D + E) F  +  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tored form – not written as two-level S-o-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x 3-input OR gate, 2 x 2-input OR gates, 1 x 3-input AND 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wires (7 literals plus 3 internal wi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344A-B50F-4468-9168-BA91CCE8676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8" name=""/>
          <p:cNvGrpSpPr/>
          <p:nvPr/>
        </p:nvGrpSpPr>
        <p:grpSpPr>
          <a:xfrm>
            <a:off x="4876920" y="1371600"/>
            <a:ext cx="3809880" cy="5270400"/>
            <a:chOff x="4876920" y="1371600"/>
            <a:chExt cx="3809880" cy="5270400"/>
          </a:xfrm>
        </p:grpSpPr>
        <p:sp>
          <p:nvSpPr>
            <p:cNvPr id="2879" name=""/>
            <p:cNvSpPr/>
            <p:nvPr/>
          </p:nvSpPr>
          <p:spPr>
            <a:xfrm>
              <a:off x="7772400" y="1434960"/>
              <a:ext cx="0" cy="5194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6781680" y="1434960"/>
              <a:ext cx="0" cy="5194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5791320" y="1434960"/>
              <a:ext cx="0" cy="5194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4876920" y="1447920"/>
              <a:ext cx="0" cy="5194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5054760" y="1371600"/>
              <a:ext cx="3632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65160"/>
                  <a:tab algn="l" pos="1917720"/>
                  <a:tab algn="l" pos="28576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vel 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vel 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vel 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vel 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4" name=""/>
          <p:cNvGrpSpPr/>
          <p:nvPr/>
        </p:nvGrpSpPr>
        <p:grpSpPr>
          <a:xfrm>
            <a:off x="2666880" y="1600200"/>
            <a:ext cx="6400440" cy="1447560"/>
            <a:chOff x="2666880" y="1600200"/>
            <a:chExt cx="6400440" cy="1447560"/>
          </a:xfrm>
        </p:grpSpPr>
        <p:sp>
          <p:nvSpPr>
            <p:cNvPr id="2885" name=""/>
            <p:cNvSpPr/>
            <p:nvPr/>
          </p:nvSpPr>
          <p:spPr>
            <a:xfrm>
              <a:off x="2666880" y="1905120"/>
              <a:ext cx="17020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rigi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ND-OR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6" name=""/>
            <p:cNvGrpSpPr/>
            <p:nvPr/>
          </p:nvGrpSpPr>
          <p:grpSpPr>
            <a:xfrm>
              <a:off x="4419720" y="1600200"/>
              <a:ext cx="4647600" cy="1447560"/>
              <a:chOff x="4419720" y="1600200"/>
              <a:chExt cx="4647600" cy="1447560"/>
            </a:xfrm>
          </p:grpSpPr>
          <p:sp>
            <p:nvSpPr>
              <p:cNvPr id="2887" name=""/>
              <p:cNvSpPr/>
              <p:nvPr/>
            </p:nvSpPr>
            <p:spPr>
              <a:xfrm>
                <a:off x="5088240" y="1627200"/>
                <a:ext cx="364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5088240" y="1996200"/>
                <a:ext cx="37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5081760" y="1634040"/>
                <a:ext cx="0" cy="354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5284800" y="1642680"/>
                <a:ext cx="336960" cy="36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5277600" y="1635480"/>
                <a:ext cx="364320" cy="395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5284440" y="1627560"/>
                <a:ext cx="337320" cy="36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5277600" y="1633680"/>
                <a:ext cx="364320" cy="36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5088240" y="2556000"/>
                <a:ext cx="364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5088240" y="2938680"/>
                <a:ext cx="37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5081760" y="2563200"/>
                <a:ext cx="0" cy="36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5284800" y="2585160"/>
                <a:ext cx="336960" cy="36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5277600" y="2564640"/>
                <a:ext cx="364320" cy="395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5284440" y="2556360"/>
                <a:ext cx="337320" cy="38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5277600" y="2549520"/>
                <a:ext cx="364320" cy="395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7128720" y="1777320"/>
                <a:ext cx="351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7128720" y="2160000"/>
                <a:ext cx="364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7121880" y="1784520"/>
                <a:ext cx="0" cy="36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7325280" y="1806480"/>
                <a:ext cx="336960" cy="36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7305120" y="1785960"/>
                <a:ext cx="363600" cy="395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7324920" y="1777680"/>
                <a:ext cx="337320" cy="38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7304760" y="1770840"/>
                <a:ext cx="363960" cy="395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5981040" y="1731240"/>
                <a:ext cx="174240" cy="327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5481000" y="1731240"/>
                <a:ext cx="1174320" cy="35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5547960" y="1716120"/>
                <a:ext cx="1107000" cy="35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5980680" y="1716120"/>
                <a:ext cx="174600" cy="35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>
                <a:off x="6101640" y="1818360"/>
                <a:ext cx="2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6101640" y="1968840"/>
                <a:ext cx="2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8020800" y="1881720"/>
                <a:ext cx="161280" cy="327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7507080" y="1881720"/>
                <a:ext cx="1175040" cy="36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7575120" y="1866240"/>
                <a:ext cx="1107000" cy="35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8020440" y="1866240"/>
                <a:ext cx="161640" cy="35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8142120" y="1968840"/>
                <a:ext cx="13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8142120" y="2133000"/>
                <a:ext cx="13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4939560" y="1736640"/>
                <a:ext cx="13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4777560" y="173664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4939560" y="1887120"/>
                <a:ext cx="13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4777560" y="188712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5953320" y="1818360"/>
                <a:ext cx="13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5642640" y="1818360"/>
                <a:ext cx="134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5790960" y="181836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4939560" y="2665800"/>
                <a:ext cx="13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4777560" y="266580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4939560" y="2829600"/>
                <a:ext cx="13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4777560" y="282960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7980120" y="213300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5642640" y="2747520"/>
                <a:ext cx="134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7898760" y="2133000"/>
                <a:ext cx="67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5790960" y="2747520"/>
                <a:ext cx="2094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7891920" y="2139480"/>
                <a:ext cx="0" cy="60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6966720" y="205092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6885360" y="2050920"/>
                <a:ext cx="67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4777560" y="2433240"/>
                <a:ext cx="2094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6878520" y="2057760"/>
                <a:ext cx="0" cy="36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5953320" y="1968840"/>
                <a:ext cx="13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5871960" y="1968840"/>
                <a:ext cx="67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4777560" y="2201040"/>
                <a:ext cx="1080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5865480" y="1975680"/>
                <a:ext cx="0" cy="21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6966720" y="188712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6655680" y="1887120"/>
                <a:ext cx="13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6804360" y="188712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7669080" y="196884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7980120" y="196884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7831440" y="1968840"/>
                <a:ext cx="134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8682480" y="2050920"/>
                <a:ext cx="12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4514040" y="2296800"/>
                <a:ext cx="283680" cy="35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4500720" y="1600200"/>
                <a:ext cx="270000" cy="35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4500720" y="1750320"/>
                <a:ext cx="270000" cy="35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4514040" y="2050920"/>
                <a:ext cx="283680" cy="35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4514040" y="2529000"/>
                <a:ext cx="270000" cy="35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4419720" y="2692800"/>
                <a:ext cx="405000" cy="35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8797320" y="1914120"/>
                <a:ext cx="270000" cy="35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58" name=""/>
          <p:cNvGrpSpPr/>
          <p:nvPr/>
        </p:nvGrpSpPr>
        <p:grpSpPr>
          <a:xfrm>
            <a:off x="2031840" y="3165480"/>
            <a:ext cx="7035480" cy="1429920"/>
            <a:chOff x="2031840" y="3165480"/>
            <a:chExt cx="7035480" cy="1429920"/>
          </a:xfrm>
        </p:grpSpPr>
        <p:sp>
          <p:nvSpPr>
            <p:cNvPr id="2959" name=""/>
            <p:cNvSpPr/>
            <p:nvPr/>
          </p:nvSpPr>
          <p:spPr>
            <a:xfrm>
              <a:off x="2031840" y="3441600"/>
              <a:ext cx="233712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troduction 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nservation of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ubb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0" name=""/>
            <p:cNvGrpSpPr/>
            <p:nvPr/>
          </p:nvGrpSpPr>
          <p:grpSpPr>
            <a:xfrm>
              <a:off x="4419720" y="3165480"/>
              <a:ext cx="4647600" cy="1429920"/>
              <a:chOff x="4419720" y="3165480"/>
              <a:chExt cx="4647600" cy="1429920"/>
            </a:xfrm>
          </p:grpSpPr>
          <p:sp>
            <p:nvSpPr>
              <p:cNvPr id="2961" name=""/>
              <p:cNvSpPr/>
              <p:nvPr/>
            </p:nvSpPr>
            <p:spPr>
              <a:xfrm>
                <a:off x="5111280" y="3205800"/>
                <a:ext cx="375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5111280" y="3570120"/>
                <a:ext cx="375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5104440" y="3212640"/>
                <a:ext cx="0" cy="35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5319720" y="3221280"/>
                <a:ext cx="334800" cy="36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5313240" y="3214080"/>
                <a:ext cx="361440" cy="390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5319360" y="3205800"/>
                <a:ext cx="335160" cy="363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5312880" y="3213000"/>
                <a:ext cx="361800" cy="36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5682240" y="3381480"/>
                <a:ext cx="40320" cy="4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5675400" y="3360960"/>
                <a:ext cx="53640" cy="669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5997960" y="3308760"/>
                <a:ext cx="174240" cy="32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5501520" y="3308760"/>
                <a:ext cx="1154160" cy="350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5568120" y="3293640"/>
                <a:ext cx="1087560" cy="350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5997600" y="3293640"/>
                <a:ext cx="174600" cy="350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6118920" y="3394800"/>
                <a:ext cx="13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6105240" y="3374640"/>
                <a:ext cx="53640" cy="53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 flipH="1">
                <a:off x="6024600" y="3543120"/>
                <a:ext cx="80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5272560" y="3630600"/>
                <a:ext cx="214560" cy="134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 flipV="1">
                <a:off x="5272560" y="3765240"/>
                <a:ext cx="214560" cy="175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5265720" y="3630600"/>
                <a:ext cx="0" cy="296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5501160" y="3752280"/>
                <a:ext cx="66960" cy="669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7126200" y="3354120"/>
                <a:ext cx="376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7126200" y="3732120"/>
                <a:ext cx="376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7119720" y="3360960"/>
                <a:ext cx="0" cy="36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7335360" y="3382920"/>
                <a:ext cx="347760" cy="36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7328520" y="3362760"/>
                <a:ext cx="361440" cy="390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7335000" y="3354480"/>
                <a:ext cx="348120" cy="376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7328160" y="3347640"/>
                <a:ext cx="361800" cy="390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7697520" y="3529800"/>
                <a:ext cx="40320" cy="4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7690680" y="3522960"/>
                <a:ext cx="53640" cy="53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5111280" y="4123440"/>
                <a:ext cx="375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5111280" y="4501080"/>
                <a:ext cx="375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5104440" y="4130280"/>
                <a:ext cx="0" cy="36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5319720" y="4151880"/>
                <a:ext cx="334800" cy="36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5313240" y="4131720"/>
                <a:ext cx="361440" cy="390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5319360" y="4123440"/>
                <a:ext cx="335160" cy="376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5312880" y="4116960"/>
                <a:ext cx="361800" cy="38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5682240" y="4298760"/>
                <a:ext cx="40320" cy="39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5675400" y="4291920"/>
                <a:ext cx="53640" cy="53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8013600" y="3457080"/>
                <a:ext cx="173520" cy="32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7516440" y="3457080"/>
                <a:ext cx="1167840" cy="36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7583040" y="3441960"/>
                <a:ext cx="1101240" cy="350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8013240" y="3441960"/>
                <a:ext cx="173880" cy="350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8133840" y="3543120"/>
                <a:ext cx="13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8107200" y="3684600"/>
                <a:ext cx="53640" cy="54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 flipH="1">
                <a:off x="8039520" y="3704760"/>
                <a:ext cx="53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4963680" y="3313800"/>
                <a:ext cx="133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4802400" y="3313800"/>
                <a:ext cx="147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4963680" y="3462120"/>
                <a:ext cx="133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4802400" y="3462120"/>
                <a:ext cx="147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5970960" y="3394800"/>
                <a:ext cx="120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5729040" y="3394800"/>
                <a:ext cx="147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5890680" y="339480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4963680" y="4231080"/>
                <a:ext cx="133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4802400" y="4231080"/>
                <a:ext cx="147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4963680" y="4393080"/>
                <a:ext cx="133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4802400" y="4393080"/>
                <a:ext cx="147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7985880" y="3704760"/>
                <a:ext cx="53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5729040" y="4312080"/>
                <a:ext cx="147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5890680" y="4312080"/>
                <a:ext cx="2001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7905240" y="3704760"/>
                <a:ext cx="67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7898760" y="3711960"/>
                <a:ext cx="0" cy="593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6978600" y="3624120"/>
                <a:ext cx="134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6897960" y="362412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4802400" y="4002120"/>
                <a:ext cx="208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6891120" y="3630600"/>
                <a:ext cx="0" cy="36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5581440" y="3772440"/>
                <a:ext cx="134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5970960" y="3543120"/>
                <a:ext cx="5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5890680" y="354312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5729040" y="3772440"/>
                <a:ext cx="147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5883840" y="3549960"/>
                <a:ext cx="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6978600" y="3462120"/>
                <a:ext cx="134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6669720" y="3462120"/>
                <a:ext cx="214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6897960" y="346212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7985880" y="3543120"/>
                <a:ext cx="134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7744320" y="3543120"/>
                <a:ext cx="147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7905240" y="3543120"/>
                <a:ext cx="67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>
                <a:off x="5111280" y="3772440"/>
                <a:ext cx="147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4802400" y="3772440"/>
                <a:ext cx="295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8697960" y="3624120"/>
                <a:ext cx="10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6105240" y="3522960"/>
                <a:ext cx="53640" cy="53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8107200" y="3522960"/>
                <a:ext cx="53640" cy="53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4513680" y="3853440"/>
                <a:ext cx="281880" cy="35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4500360" y="3165480"/>
                <a:ext cx="268200" cy="35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>
                <a:off x="4500360" y="3313800"/>
                <a:ext cx="268200" cy="35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>
                <a:off x="4513680" y="3610440"/>
                <a:ext cx="281880" cy="35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4513680" y="4082760"/>
                <a:ext cx="2682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4419720" y="4244760"/>
                <a:ext cx="402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8798760" y="3475800"/>
                <a:ext cx="26856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49" name=""/>
          <p:cNvGrpSpPr/>
          <p:nvPr/>
        </p:nvGrpSpPr>
        <p:grpSpPr>
          <a:xfrm>
            <a:off x="2286000" y="4952880"/>
            <a:ext cx="6743520" cy="1415880"/>
            <a:chOff x="2286000" y="4952880"/>
            <a:chExt cx="6743520" cy="1415880"/>
          </a:xfrm>
        </p:grpSpPr>
        <p:sp>
          <p:nvSpPr>
            <p:cNvPr id="3050" name=""/>
            <p:cNvSpPr/>
            <p:nvPr/>
          </p:nvSpPr>
          <p:spPr>
            <a:xfrm>
              <a:off x="2286000" y="5079960"/>
              <a:ext cx="208296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rawn in ter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f conventio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AND ga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1" name=""/>
            <p:cNvGrpSpPr/>
            <p:nvPr/>
          </p:nvGrpSpPr>
          <p:grpSpPr>
            <a:xfrm>
              <a:off x="4419720" y="4952880"/>
              <a:ext cx="4609800" cy="1415880"/>
              <a:chOff x="4419720" y="4952880"/>
              <a:chExt cx="4609800" cy="1415880"/>
            </a:xfrm>
          </p:grpSpPr>
          <p:sp>
            <p:nvSpPr>
              <p:cNvPr id="3052" name=""/>
              <p:cNvSpPr/>
              <p:nvPr/>
            </p:nvSpPr>
            <p:spPr>
              <a:xfrm>
                <a:off x="5094360" y="4979160"/>
                <a:ext cx="37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5094360" y="5340240"/>
                <a:ext cx="37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5087880" y="4986000"/>
                <a:ext cx="0" cy="347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5301720" y="4994280"/>
                <a:ext cx="33336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5295600" y="4987440"/>
                <a:ext cx="359280" cy="38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5301720" y="4979160"/>
                <a:ext cx="333360" cy="36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5295240" y="4986360"/>
                <a:ext cx="35964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5662080" y="5153040"/>
                <a:ext cx="39960" cy="39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5655600" y="5132880"/>
                <a:ext cx="53280" cy="66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7098840" y="5126040"/>
                <a:ext cx="37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7098840" y="5500440"/>
                <a:ext cx="37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7092000" y="5132880"/>
                <a:ext cx="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7306560" y="5154480"/>
                <a:ext cx="34632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7300080" y="5134680"/>
                <a:ext cx="359280" cy="38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7306200" y="5126400"/>
                <a:ext cx="346680" cy="373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7299720" y="5119560"/>
                <a:ext cx="359640" cy="38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7666560" y="5299920"/>
                <a:ext cx="39960" cy="39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7659720" y="5293080"/>
                <a:ext cx="53640" cy="53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5094360" y="5887800"/>
                <a:ext cx="37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5094360" y="6262200"/>
                <a:ext cx="37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5087880" y="5894640"/>
                <a:ext cx="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5301720" y="5916240"/>
                <a:ext cx="33336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5295600" y="5896080"/>
                <a:ext cx="359280" cy="38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5301720" y="5888160"/>
                <a:ext cx="333360" cy="373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5295240" y="5881320"/>
                <a:ext cx="359640" cy="38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5662080" y="6061680"/>
                <a:ext cx="39960" cy="39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5655600" y="6054840"/>
                <a:ext cx="53280" cy="53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8101080" y="5206320"/>
                <a:ext cx="373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8101080" y="5580720"/>
                <a:ext cx="373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8094240" y="5213160"/>
                <a:ext cx="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8308800" y="5221800"/>
                <a:ext cx="346320" cy="373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8302320" y="5214960"/>
                <a:ext cx="359280" cy="38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8308440" y="5206680"/>
                <a:ext cx="34668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8301960" y="5200200"/>
                <a:ext cx="359640" cy="386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8669160" y="5380200"/>
                <a:ext cx="39960" cy="39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8662320" y="5373360"/>
                <a:ext cx="53280" cy="53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6096600" y="5059440"/>
                <a:ext cx="37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6096600" y="5420160"/>
                <a:ext cx="37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6089760" y="5066280"/>
                <a:ext cx="0" cy="347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6303960" y="5074560"/>
                <a:ext cx="33336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6297120" y="5067720"/>
                <a:ext cx="360000" cy="373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6303960" y="5059800"/>
                <a:ext cx="33336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6296760" y="5052960"/>
                <a:ext cx="360360" cy="373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6664320" y="5219640"/>
                <a:ext cx="39960" cy="53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6657840" y="5213160"/>
                <a:ext cx="53280" cy="66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4947120" y="508608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4786920" y="5086080"/>
                <a:ext cx="14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4947120" y="523332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4786920" y="5233320"/>
                <a:ext cx="14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5949720" y="516636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5708880" y="5166360"/>
                <a:ext cx="14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5869080" y="516636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4947120" y="599472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4786920" y="5994720"/>
                <a:ext cx="14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4947120" y="615528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4786920" y="6155280"/>
                <a:ext cx="14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7954200" y="5473800"/>
                <a:ext cx="133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5708880" y="6075000"/>
                <a:ext cx="14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5869080" y="6075000"/>
                <a:ext cx="1991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7873920" y="547380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7867080" y="5480280"/>
                <a:ext cx="0" cy="587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6951960" y="539352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6871680" y="539352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4786920" y="5767920"/>
                <a:ext cx="2071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6864840" y="5400000"/>
                <a:ext cx="0" cy="36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5949720" y="531324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5869080" y="531324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5862960" y="5320080"/>
                <a:ext cx="0" cy="21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4786920" y="5540400"/>
                <a:ext cx="106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6711480" y="5233320"/>
                <a:ext cx="14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6951960" y="523332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6871680" y="523332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7954200" y="5313240"/>
                <a:ext cx="133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7713720" y="5313240"/>
                <a:ext cx="14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7873920" y="531324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8715600" y="5393520"/>
                <a:ext cx="53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4512960" y="5634000"/>
                <a:ext cx="28008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4499640" y="4952880"/>
                <a:ext cx="26712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4499640" y="5099760"/>
                <a:ext cx="26712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4432680" y="5393520"/>
                <a:ext cx="36036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4512960" y="5861520"/>
                <a:ext cx="26676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4419720" y="6021720"/>
                <a:ext cx="40068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8762760" y="5259960"/>
                <a:ext cx="26676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nversion of multi-level logic to NAND gat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296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 = A (B + C D) + B C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9F0A-CDAB-42C3-86E3-3F5694D4F35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7" name=""/>
          <p:cNvGrpSpPr/>
          <p:nvPr/>
        </p:nvGrpSpPr>
        <p:grpSpPr>
          <a:xfrm>
            <a:off x="4267080" y="1498680"/>
            <a:ext cx="3936960" cy="5219640"/>
            <a:chOff x="4267080" y="1498680"/>
            <a:chExt cx="3936960" cy="5219640"/>
          </a:xfrm>
        </p:grpSpPr>
        <p:sp>
          <p:nvSpPr>
            <p:cNvPr id="3138" name=""/>
            <p:cNvSpPr/>
            <p:nvPr/>
          </p:nvSpPr>
          <p:spPr>
            <a:xfrm>
              <a:off x="7238880" y="1523880"/>
              <a:ext cx="0" cy="5194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6248520" y="1523880"/>
              <a:ext cx="0" cy="5194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5257800" y="1498680"/>
              <a:ext cx="0" cy="5194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4267080" y="1498680"/>
              <a:ext cx="0" cy="5194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4572000" y="1523880"/>
              <a:ext cx="3632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65160"/>
                  <a:tab algn="l" pos="1917720"/>
                  <a:tab algn="l" pos="28576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vel 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vel 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vel 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vel 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3" name=""/>
          <p:cNvGrpSpPr/>
          <p:nvPr/>
        </p:nvGrpSpPr>
        <p:grpSpPr>
          <a:xfrm>
            <a:off x="2006640" y="1828800"/>
            <a:ext cx="6565680" cy="1479240"/>
            <a:chOff x="2006640" y="1828800"/>
            <a:chExt cx="6565680" cy="1479240"/>
          </a:xfrm>
        </p:grpSpPr>
        <p:grpSp>
          <p:nvGrpSpPr>
            <p:cNvPr id="3144" name=""/>
            <p:cNvGrpSpPr/>
            <p:nvPr/>
          </p:nvGrpSpPr>
          <p:grpSpPr>
            <a:xfrm>
              <a:off x="3772080" y="1828800"/>
              <a:ext cx="4800240" cy="1479240"/>
              <a:chOff x="3772080" y="1828800"/>
              <a:chExt cx="4800240" cy="1479240"/>
            </a:xfrm>
          </p:grpSpPr>
          <p:sp>
            <p:nvSpPr>
              <p:cNvPr id="3145" name=""/>
              <p:cNvSpPr/>
              <p:nvPr/>
            </p:nvSpPr>
            <p:spPr>
              <a:xfrm>
                <a:off x="4462920" y="1856880"/>
                <a:ext cx="37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4462920" y="2233440"/>
                <a:ext cx="390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4455720" y="1863360"/>
                <a:ext cx="0" cy="36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4665600" y="1872360"/>
                <a:ext cx="347760" cy="37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4658760" y="1865520"/>
                <a:ext cx="376200" cy="40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4665240" y="1856880"/>
                <a:ext cx="348120" cy="37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>
                <a:off x="4658400" y="1863720"/>
                <a:ext cx="376200" cy="37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4462920" y="2805840"/>
                <a:ext cx="37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4462920" y="3196800"/>
                <a:ext cx="390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4455720" y="2812320"/>
                <a:ext cx="0" cy="37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4665600" y="2835360"/>
                <a:ext cx="347760" cy="37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4658760" y="2814480"/>
                <a:ext cx="376200" cy="40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4665240" y="2806200"/>
                <a:ext cx="348120" cy="38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4658400" y="2799360"/>
                <a:ext cx="376200" cy="40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6569640" y="2010240"/>
                <a:ext cx="362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6569640" y="2401200"/>
                <a:ext cx="37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6563160" y="2017440"/>
                <a:ext cx="0" cy="376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6772680" y="2039760"/>
                <a:ext cx="347760" cy="37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6751440" y="2018880"/>
                <a:ext cx="376560" cy="40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6772320" y="2010600"/>
                <a:ext cx="348120" cy="38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6751080" y="2003760"/>
                <a:ext cx="376920" cy="40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5384520" y="1963080"/>
                <a:ext cx="180000" cy="333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4867920" y="1963080"/>
                <a:ext cx="1213200" cy="36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4937040" y="1947960"/>
                <a:ext cx="1143720" cy="36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5384160" y="1947960"/>
                <a:ext cx="180360" cy="36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5509080" y="2052000"/>
                <a:ext cx="28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5509080" y="2205720"/>
                <a:ext cx="28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7491240" y="2116800"/>
                <a:ext cx="166320" cy="333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6961320" y="2116800"/>
                <a:ext cx="1212480" cy="37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7030800" y="2101320"/>
                <a:ext cx="1143000" cy="36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7491240" y="2101320"/>
                <a:ext cx="166320" cy="36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7616520" y="2205720"/>
                <a:ext cx="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7616520" y="2373120"/>
                <a:ext cx="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4309200" y="196812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>
                <a:off x="4141800" y="196812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>
                <a:off x="4309200" y="212184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4141800" y="212184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5355720" y="205200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5034960" y="205200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5188320" y="205200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4309200" y="291744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4141800" y="291744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4309200" y="308484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4141800" y="308484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7449120" y="237312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5034960" y="300132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7365240" y="2373120"/>
                <a:ext cx="69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5188320" y="3001320"/>
                <a:ext cx="2162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7358400" y="2379960"/>
                <a:ext cx="0" cy="613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6402240" y="228924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6318720" y="2289240"/>
                <a:ext cx="69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4141800" y="2679840"/>
                <a:ext cx="2162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6311880" y="2296080"/>
                <a:ext cx="0" cy="37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5355720" y="220572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5272200" y="2205720"/>
                <a:ext cx="69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4141800" y="2442960"/>
                <a:ext cx="1116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5265000" y="2212200"/>
                <a:ext cx="0" cy="223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6402240" y="212184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6081480" y="212184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>
                <a:off x="6235200" y="212184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7128360" y="220572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7449120" y="220572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7295760" y="220572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>
                <a:off x="8174520" y="2289240"/>
                <a:ext cx="125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3869640" y="2540160"/>
                <a:ext cx="293040" cy="36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3855600" y="1828800"/>
                <a:ext cx="279000" cy="36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3855600" y="1982160"/>
                <a:ext cx="279000" cy="36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>
                <a:off x="3869640" y="2289240"/>
                <a:ext cx="293040" cy="36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3869640" y="2777760"/>
                <a:ext cx="27900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3772080" y="2945520"/>
                <a:ext cx="41868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8293320" y="2149920"/>
                <a:ext cx="27900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6" name=""/>
            <p:cNvSpPr/>
            <p:nvPr/>
          </p:nvSpPr>
          <p:spPr>
            <a:xfrm>
              <a:off x="2006640" y="2082960"/>
              <a:ext cx="170172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rigi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ND-OR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7" name=""/>
          <p:cNvGrpSpPr/>
          <p:nvPr/>
        </p:nvGrpSpPr>
        <p:grpSpPr>
          <a:xfrm>
            <a:off x="711360" y="3201840"/>
            <a:ext cx="8355960" cy="1733400"/>
            <a:chOff x="711360" y="3201840"/>
            <a:chExt cx="8355960" cy="1733400"/>
          </a:xfrm>
        </p:grpSpPr>
        <p:sp>
          <p:nvSpPr>
            <p:cNvPr id="3218" name=""/>
            <p:cNvSpPr/>
            <p:nvPr/>
          </p:nvSpPr>
          <p:spPr>
            <a:xfrm>
              <a:off x="711360" y="3530520"/>
              <a:ext cx="233676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troduction 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nservation of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ubb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9" name=""/>
            <p:cNvGrpSpPr/>
            <p:nvPr/>
          </p:nvGrpSpPr>
          <p:grpSpPr>
            <a:xfrm>
              <a:off x="3213000" y="3201840"/>
              <a:ext cx="5854320" cy="1733400"/>
              <a:chOff x="3213000" y="3201840"/>
              <a:chExt cx="5854320" cy="1733400"/>
            </a:xfrm>
          </p:grpSpPr>
          <p:sp>
            <p:nvSpPr>
              <p:cNvPr id="3220" name=""/>
              <p:cNvSpPr/>
              <p:nvPr/>
            </p:nvSpPr>
            <p:spPr>
              <a:xfrm>
                <a:off x="3306600" y="3998160"/>
                <a:ext cx="281160" cy="34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3293280" y="3221640"/>
                <a:ext cx="267480" cy="34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>
                <a:off x="3293280" y="3516120"/>
                <a:ext cx="267480" cy="34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3293280" y="3744000"/>
                <a:ext cx="28116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3319920" y="4279320"/>
                <a:ext cx="2678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>
                <a:off x="3213000" y="4587480"/>
                <a:ext cx="40176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8799480" y="3610080"/>
                <a:ext cx="267840" cy="34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6568560" y="3476520"/>
                <a:ext cx="36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>
                <a:off x="6568560" y="3837600"/>
                <a:ext cx="375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>
                <a:off x="6562080" y="3483000"/>
                <a:ext cx="0" cy="347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>
                <a:off x="6763320" y="3491280"/>
                <a:ext cx="347760" cy="36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>
                <a:off x="6756480" y="3484800"/>
                <a:ext cx="361440" cy="38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>
                <a:off x="6762960" y="3476520"/>
                <a:ext cx="348120" cy="36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>
                <a:off x="6756120" y="3469680"/>
                <a:ext cx="361800" cy="37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>
                <a:off x="6488640" y="3563280"/>
                <a:ext cx="66600" cy="53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>
                <a:off x="6488640" y="3710520"/>
                <a:ext cx="66600" cy="66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>
                <a:off x="4519080" y="3315600"/>
                <a:ext cx="374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7" name=""/>
              <p:cNvSpPr/>
              <p:nvPr/>
            </p:nvSpPr>
            <p:spPr>
              <a:xfrm>
                <a:off x="4519080" y="3690360"/>
                <a:ext cx="388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>
                <a:off x="4512240" y="3322440"/>
                <a:ext cx="0" cy="36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>
                <a:off x="4726800" y="3330720"/>
                <a:ext cx="334080" cy="37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>
                <a:off x="4707000" y="3323880"/>
                <a:ext cx="360720" cy="387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>
                <a:off x="4726440" y="3315600"/>
                <a:ext cx="334440" cy="37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>
                <a:off x="4706640" y="3308760"/>
                <a:ext cx="361080" cy="387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>
                <a:off x="4438800" y="3402720"/>
                <a:ext cx="66600" cy="66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>
                <a:off x="4438800" y="3563280"/>
                <a:ext cx="66600" cy="53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>
                <a:off x="4519080" y="4399920"/>
                <a:ext cx="374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>
                <a:off x="4519080" y="4775040"/>
                <a:ext cx="388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>
                <a:off x="4512240" y="4406400"/>
                <a:ext cx="0" cy="36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8" name=""/>
              <p:cNvSpPr/>
              <p:nvPr/>
            </p:nvSpPr>
            <p:spPr>
              <a:xfrm>
                <a:off x="4726800" y="4414680"/>
                <a:ext cx="334080" cy="37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>
                <a:off x="4707000" y="4408200"/>
                <a:ext cx="360720" cy="38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0" name=""/>
              <p:cNvSpPr/>
              <p:nvPr/>
            </p:nvSpPr>
            <p:spPr>
              <a:xfrm>
                <a:off x="4726440" y="4400280"/>
                <a:ext cx="334440" cy="36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1" name=""/>
              <p:cNvSpPr/>
              <p:nvPr/>
            </p:nvSpPr>
            <p:spPr>
              <a:xfrm>
                <a:off x="4706640" y="4393800"/>
                <a:ext cx="361080" cy="38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>
                <a:off x="4438800" y="4487040"/>
                <a:ext cx="66600" cy="53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3" name=""/>
              <p:cNvSpPr/>
              <p:nvPr/>
            </p:nvSpPr>
            <p:spPr>
              <a:xfrm>
                <a:off x="4438800" y="4634280"/>
                <a:ext cx="66600" cy="66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4" name=""/>
              <p:cNvSpPr/>
              <p:nvPr/>
            </p:nvSpPr>
            <p:spPr>
              <a:xfrm>
                <a:off x="5021640" y="3409920"/>
                <a:ext cx="1057680" cy="333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>
                <a:off x="5015160" y="3403080"/>
                <a:ext cx="1083960" cy="36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6" name=""/>
              <p:cNvSpPr/>
              <p:nvPr/>
            </p:nvSpPr>
            <p:spPr>
              <a:xfrm>
                <a:off x="5021640" y="3424320"/>
                <a:ext cx="1057680" cy="346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7" name=""/>
              <p:cNvSpPr/>
              <p:nvPr/>
            </p:nvSpPr>
            <p:spPr>
              <a:xfrm>
                <a:off x="5015520" y="3417480"/>
                <a:ext cx="1083600" cy="36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>
                <a:off x="5504040" y="3424320"/>
                <a:ext cx="92880" cy="30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9" name=""/>
              <p:cNvSpPr/>
              <p:nvPr/>
            </p:nvSpPr>
            <p:spPr>
              <a:xfrm>
                <a:off x="5497560" y="3417480"/>
                <a:ext cx="105840" cy="320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>
                <a:off x="5544000" y="3422880"/>
                <a:ext cx="52920" cy="30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>
                <a:off x="5523840" y="3416760"/>
                <a:ext cx="79560" cy="319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>
                <a:off x="5550480" y="3502800"/>
                <a:ext cx="39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>
                <a:off x="5550480" y="3663360"/>
                <a:ext cx="39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>
                <a:off x="6106680" y="3570120"/>
                <a:ext cx="39960" cy="39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5" name=""/>
              <p:cNvSpPr/>
              <p:nvPr/>
            </p:nvSpPr>
            <p:spPr>
              <a:xfrm>
                <a:off x="6099840" y="3563280"/>
                <a:ext cx="53640" cy="53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6" name=""/>
              <p:cNvSpPr/>
              <p:nvPr/>
            </p:nvSpPr>
            <p:spPr>
              <a:xfrm>
                <a:off x="7057800" y="3570480"/>
                <a:ext cx="1071000" cy="333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7" name=""/>
              <p:cNvSpPr/>
              <p:nvPr/>
            </p:nvSpPr>
            <p:spPr>
              <a:xfrm>
                <a:off x="7050960" y="3563640"/>
                <a:ext cx="1084680" cy="347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8" name=""/>
              <p:cNvSpPr/>
              <p:nvPr/>
            </p:nvSpPr>
            <p:spPr>
              <a:xfrm>
                <a:off x="7058160" y="3584880"/>
                <a:ext cx="1070640" cy="333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9" name=""/>
              <p:cNvSpPr/>
              <p:nvPr/>
            </p:nvSpPr>
            <p:spPr>
              <a:xfrm>
                <a:off x="7051320" y="3578400"/>
                <a:ext cx="1084320" cy="346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0" name=""/>
              <p:cNvSpPr/>
              <p:nvPr/>
            </p:nvSpPr>
            <p:spPr>
              <a:xfrm>
                <a:off x="7554240" y="3584880"/>
                <a:ext cx="92520" cy="30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1" name=""/>
              <p:cNvSpPr/>
              <p:nvPr/>
            </p:nvSpPr>
            <p:spPr>
              <a:xfrm>
                <a:off x="7547400" y="3578400"/>
                <a:ext cx="105840" cy="319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2" name=""/>
              <p:cNvSpPr/>
              <p:nvPr/>
            </p:nvSpPr>
            <p:spPr>
              <a:xfrm>
                <a:off x="7580520" y="3583440"/>
                <a:ext cx="65880" cy="30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3" name=""/>
              <p:cNvSpPr/>
              <p:nvPr/>
            </p:nvSpPr>
            <p:spPr>
              <a:xfrm>
                <a:off x="7573680" y="3576600"/>
                <a:ext cx="79560" cy="320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4" name=""/>
              <p:cNvSpPr/>
              <p:nvPr/>
            </p:nvSpPr>
            <p:spPr>
              <a:xfrm>
                <a:off x="7587000" y="3663360"/>
                <a:ext cx="5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5" name=""/>
              <p:cNvSpPr/>
              <p:nvPr/>
            </p:nvSpPr>
            <p:spPr>
              <a:xfrm>
                <a:off x="7587000" y="3810960"/>
                <a:ext cx="5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6" name=""/>
              <p:cNvSpPr/>
              <p:nvPr/>
            </p:nvSpPr>
            <p:spPr>
              <a:xfrm>
                <a:off x="8142840" y="3717360"/>
                <a:ext cx="53280" cy="53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7" name=""/>
              <p:cNvSpPr/>
              <p:nvPr/>
            </p:nvSpPr>
            <p:spPr>
              <a:xfrm>
                <a:off x="8136360" y="3710520"/>
                <a:ext cx="66600" cy="66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8" name=""/>
              <p:cNvSpPr/>
              <p:nvPr/>
            </p:nvSpPr>
            <p:spPr>
              <a:xfrm>
                <a:off x="3889440" y="3201840"/>
                <a:ext cx="227160" cy="146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9" name=""/>
              <p:cNvSpPr/>
              <p:nvPr/>
            </p:nvSpPr>
            <p:spPr>
              <a:xfrm flipV="1">
                <a:off x="3889440" y="3348720"/>
                <a:ext cx="227160" cy="16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0" name=""/>
              <p:cNvSpPr/>
              <p:nvPr/>
            </p:nvSpPr>
            <p:spPr>
              <a:xfrm>
                <a:off x="3882600" y="3201840"/>
                <a:ext cx="0" cy="29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1" name=""/>
              <p:cNvSpPr/>
              <p:nvPr/>
            </p:nvSpPr>
            <p:spPr>
              <a:xfrm>
                <a:off x="4130640" y="3322440"/>
                <a:ext cx="66600" cy="66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2" name=""/>
              <p:cNvSpPr/>
              <p:nvPr/>
            </p:nvSpPr>
            <p:spPr>
              <a:xfrm>
                <a:off x="3889440" y="3509640"/>
                <a:ext cx="227160" cy="146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3" name=""/>
              <p:cNvSpPr/>
              <p:nvPr/>
            </p:nvSpPr>
            <p:spPr>
              <a:xfrm flipV="1">
                <a:off x="3889440" y="3656520"/>
                <a:ext cx="227160" cy="16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4" name=""/>
              <p:cNvSpPr/>
              <p:nvPr/>
            </p:nvSpPr>
            <p:spPr>
              <a:xfrm>
                <a:off x="3882600" y="3509640"/>
                <a:ext cx="0" cy="29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5" name=""/>
              <p:cNvSpPr/>
              <p:nvPr/>
            </p:nvSpPr>
            <p:spPr>
              <a:xfrm>
                <a:off x="4130640" y="3630240"/>
                <a:ext cx="66600" cy="669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6" name=""/>
              <p:cNvSpPr/>
              <p:nvPr/>
            </p:nvSpPr>
            <p:spPr>
              <a:xfrm>
                <a:off x="3889440" y="3978000"/>
                <a:ext cx="227160" cy="13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7" name=""/>
              <p:cNvSpPr/>
              <p:nvPr/>
            </p:nvSpPr>
            <p:spPr>
              <a:xfrm flipV="1">
                <a:off x="3889440" y="4111560"/>
                <a:ext cx="227160" cy="17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8" name=""/>
              <p:cNvSpPr/>
              <p:nvPr/>
            </p:nvSpPr>
            <p:spPr>
              <a:xfrm>
                <a:off x="3882600" y="3978000"/>
                <a:ext cx="0" cy="29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9" name=""/>
              <p:cNvSpPr/>
              <p:nvPr/>
            </p:nvSpPr>
            <p:spPr>
              <a:xfrm>
                <a:off x="4130640" y="4098600"/>
                <a:ext cx="66600" cy="53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0" name=""/>
              <p:cNvSpPr/>
              <p:nvPr/>
            </p:nvSpPr>
            <p:spPr>
              <a:xfrm>
                <a:off x="3889440" y="4286160"/>
                <a:ext cx="227160" cy="13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1" name=""/>
              <p:cNvSpPr/>
              <p:nvPr/>
            </p:nvSpPr>
            <p:spPr>
              <a:xfrm flipV="1">
                <a:off x="3889440" y="4420080"/>
                <a:ext cx="227160" cy="17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>
                <a:off x="3882600" y="4286160"/>
                <a:ext cx="0" cy="29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3" name=""/>
              <p:cNvSpPr/>
              <p:nvPr/>
            </p:nvSpPr>
            <p:spPr>
              <a:xfrm>
                <a:off x="4130640" y="4406400"/>
                <a:ext cx="66600" cy="669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4" name=""/>
              <p:cNvSpPr/>
              <p:nvPr/>
            </p:nvSpPr>
            <p:spPr>
              <a:xfrm>
                <a:off x="3889440" y="4593960"/>
                <a:ext cx="227160" cy="13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5" name=""/>
              <p:cNvSpPr/>
              <p:nvPr/>
            </p:nvSpPr>
            <p:spPr>
              <a:xfrm flipV="1">
                <a:off x="3889440" y="4727520"/>
                <a:ext cx="227160" cy="17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6" name=""/>
              <p:cNvSpPr/>
              <p:nvPr/>
            </p:nvSpPr>
            <p:spPr>
              <a:xfrm>
                <a:off x="3882600" y="4593960"/>
                <a:ext cx="0" cy="29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7" name=""/>
              <p:cNvSpPr/>
              <p:nvPr/>
            </p:nvSpPr>
            <p:spPr>
              <a:xfrm>
                <a:off x="4130640" y="4714560"/>
                <a:ext cx="66600" cy="66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8" name=""/>
              <p:cNvSpPr/>
              <p:nvPr/>
            </p:nvSpPr>
            <p:spPr>
              <a:xfrm>
                <a:off x="8377560" y="3589920"/>
                <a:ext cx="213840" cy="13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9" name=""/>
              <p:cNvSpPr/>
              <p:nvPr/>
            </p:nvSpPr>
            <p:spPr>
              <a:xfrm flipV="1">
                <a:off x="8377560" y="3723480"/>
                <a:ext cx="213840" cy="17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0" name=""/>
              <p:cNvSpPr/>
              <p:nvPr/>
            </p:nvSpPr>
            <p:spPr>
              <a:xfrm>
                <a:off x="8370720" y="3589920"/>
                <a:ext cx="0" cy="29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1" name=""/>
              <p:cNvSpPr/>
              <p:nvPr/>
            </p:nvSpPr>
            <p:spPr>
              <a:xfrm>
                <a:off x="8605080" y="3710520"/>
                <a:ext cx="66960" cy="66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2" name=""/>
              <p:cNvSpPr/>
              <p:nvPr/>
            </p:nvSpPr>
            <p:spPr>
              <a:xfrm>
                <a:off x="4210920" y="33555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3" name=""/>
              <p:cNvSpPr/>
              <p:nvPr/>
            </p:nvSpPr>
            <p:spPr>
              <a:xfrm>
                <a:off x="4371840" y="3422520"/>
                <a:ext cx="5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4" name=""/>
              <p:cNvSpPr/>
              <p:nvPr/>
            </p:nvSpPr>
            <p:spPr>
              <a:xfrm>
                <a:off x="4365000" y="3362400"/>
                <a:ext cx="0" cy="53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5" name=""/>
              <p:cNvSpPr/>
              <p:nvPr/>
            </p:nvSpPr>
            <p:spPr>
              <a:xfrm>
                <a:off x="4210920" y="36633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6" name=""/>
              <p:cNvSpPr/>
              <p:nvPr/>
            </p:nvSpPr>
            <p:spPr>
              <a:xfrm>
                <a:off x="4371840" y="3583440"/>
                <a:ext cx="5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7" name=""/>
              <p:cNvSpPr/>
              <p:nvPr/>
            </p:nvSpPr>
            <p:spPr>
              <a:xfrm>
                <a:off x="4365000" y="3589920"/>
                <a:ext cx="0" cy="66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8" name=""/>
              <p:cNvSpPr/>
              <p:nvPr/>
            </p:nvSpPr>
            <p:spPr>
              <a:xfrm>
                <a:off x="5389920" y="350280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9" name=""/>
              <p:cNvSpPr/>
              <p:nvPr/>
            </p:nvSpPr>
            <p:spPr>
              <a:xfrm>
                <a:off x="5068440" y="350280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0" name=""/>
              <p:cNvSpPr/>
              <p:nvPr/>
            </p:nvSpPr>
            <p:spPr>
              <a:xfrm>
                <a:off x="5229000" y="350280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1" name=""/>
              <p:cNvSpPr/>
              <p:nvPr/>
            </p:nvSpPr>
            <p:spPr>
              <a:xfrm>
                <a:off x="4210920" y="44265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2" name=""/>
              <p:cNvSpPr/>
              <p:nvPr/>
            </p:nvSpPr>
            <p:spPr>
              <a:xfrm>
                <a:off x="4371840" y="4506840"/>
                <a:ext cx="5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3" name=""/>
              <p:cNvSpPr/>
              <p:nvPr/>
            </p:nvSpPr>
            <p:spPr>
              <a:xfrm>
                <a:off x="4365000" y="4433400"/>
                <a:ext cx="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4" name=""/>
              <p:cNvSpPr/>
              <p:nvPr/>
            </p:nvSpPr>
            <p:spPr>
              <a:xfrm>
                <a:off x="4210920" y="473472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5" name=""/>
              <p:cNvSpPr/>
              <p:nvPr/>
            </p:nvSpPr>
            <p:spPr>
              <a:xfrm>
                <a:off x="4371840" y="4667400"/>
                <a:ext cx="5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6" name=""/>
              <p:cNvSpPr/>
              <p:nvPr/>
            </p:nvSpPr>
            <p:spPr>
              <a:xfrm>
                <a:off x="4365000" y="4674240"/>
                <a:ext cx="0" cy="53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7" name=""/>
              <p:cNvSpPr/>
              <p:nvPr/>
            </p:nvSpPr>
            <p:spPr>
              <a:xfrm>
                <a:off x="7426080" y="38109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8" name=""/>
              <p:cNvSpPr/>
              <p:nvPr/>
            </p:nvSpPr>
            <p:spPr>
              <a:xfrm>
                <a:off x="5068440" y="458748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9" name=""/>
              <p:cNvSpPr/>
              <p:nvPr/>
            </p:nvSpPr>
            <p:spPr>
              <a:xfrm>
                <a:off x="7345800" y="381096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0" name=""/>
              <p:cNvSpPr/>
              <p:nvPr/>
            </p:nvSpPr>
            <p:spPr>
              <a:xfrm>
                <a:off x="5229000" y="4587480"/>
                <a:ext cx="2103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1" name=""/>
              <p:cNvSpPr/>
              <p:nvPr/>
            </p:nvSpPr>
            <p:spPr>
              <a:xfrm>
                <a:off x="7339320" y="3817440"/>
                <a:ext cx="0" cy="76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2" name=""/>
              <p:cNvSpPr/>
              <p:nvPr/>
            </p:nvSpPr>
            <p:spPr>
              <a:xfrm>
                <a:off x="4210920" y="41187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3" name=""/>
              <p:cNvSpPr/>
              <p:nvPr/>
            </p:nvSpPr>
            <p:spPr>
              <a:xfrm>
                <a:off x="6408000" y="373068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4" name=""/>
              <p:cNvSpPr/>
              <p:nvPr/>
            </p:nvSpPr>
            <p:spPr>
              <a:xfrm>
                <a:off x="6327720" y="373068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>
                <a:off x="4371840" y="4118760"/>
                <a:ext cx="1942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6" name=""/>
              <p:cNvSpPr/>
              <p:nvPr/>
            </p:nvSpPr>
            <p:spPr>
              <a:xfrm>
                <a:off x="6321240" y="3737160"/>
                <a:ext cx="0" cy="37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7" name=""/>
              <p:cNvSpPr/>
              <p:nvPr/>
            </p:nvSpPr>
            <p:spPr>
              <a:xfrm>
                <a:off x="5389920" y="36633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>
                <a:off x="5309280" y="366336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9" name=""/>
              <p:cNvSpPr/>
              <p:nvPr/>
            </p:nvSpPr>
            <p:spPr>
              <a:xfrm>
                <a:off x="5302440" y="3670200"/>
                <a:ext cx="0" cy="21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0" name=""/>
              <p:cNvSpPr/>
              <p:nvPr/>
            </p:nvSpPr>
            <p:spPr>
              <a:xfrm>
                <a:off x="3581280" y="3891240"/>
                <a:ext cx="1714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>
                <a:off x="6166800" y="358344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2" name=""/>
              <p:cNvSpPr/>
              <p:nvPr/>
            </p:nvSpPr>
            <p:spPr>
              <a:xfrm>
                <a:off x="6408000" y="358344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3" name=""/>
              <p:cNvSpPr/>
              <p:nvPr/>
            </p:nvSpPr>
            <p:spPr>
              <a:xfrm>
                <a:off x="6327720" y="358344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>
                <a:off x="7426080" y="36633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5" name=""/>
              <p:cNvSpPr/>
              <p:nvPr/>
            </p:nvSpPr>
            <p:spPr>
              <a:xfrm>
                <a:off x="7118280" y="36633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6" name=""/>
              <p:cNvSpPr/>
              <p:nvPr/>
            </p:nvSpPr>
            <p:spPr>
              <a:xfrm>
                <a:off x="7278840" y="3663360"/>
                <a:ext cx="133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>
                <a:off x="8216280" y="373068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8" name=""/>
              <p:cNvSpPr/>
              <p:nvPr/>
            </p:nvSpPr>
            <p:spPr>
              <a:xfrm>
                <a:off x="8216280" y="373068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9" name=""/>
              <p:cNvSpPr/>
              <p:nvPr/>
            </p:nvSpPr>
            <p:spPr>
              <a:xfrm>
                <a:off x="3742200" y="335556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>
                <a:off x="3581280" y="33555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>
                <a:off x="3742200" y="366336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>
                <a:off x="3581280" y="36633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>
                <a:off x="3742200" y="411876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>
                <a:off x="3581280" y="41187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>
                <a:off x="3742200" y="442656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>
                <a:off x="3581280" y="44265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>
                <a:off x="3742200" y="473472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>
                <a:off x="3581280" y="473472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>
                <a:off x="8685360" y="373068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50" name=""/>
          <p:cNvGrpSpPr/>
          <p:nvPr/>
        </p:nvGrpSpPr>
        <p:grpSpPr>
          <a:xfrm>
            <a:off x="1523880" y="4997520"/>
            <a:ext cx="7746840" cy="1550520"/>
            <a:chOff x="1523880" y="4997520"/>
            <a:chExt cx="7746840" cy="1550520"/>
          </a:xfrm>
        </p:grpSpPr>
        <p:sp>
          <p:nvSpPr>
            <p:cNvPr id="3351" name=""/>
            <p:cNvSpPr/>
            <p:nvPr/>
          </p:nvSpPr>
          <p:spPr>
            <a:xfrm>
              <a:off x="1523880" y="5283360"/>
              <a:ext cx="208296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rawn in ter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f conventio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R ga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52" name=""/>
            <p:cNvGrpSpPr/>
            <p:nvPr/>
          </p:nvGrpSpPr>
          <p:grpSpPr>
            <a:xfrm>
              <a:off x="3733920" y="4997520"/>
              <a:ext cx="5536800" cy="1550520"/>
              <a:chOff x="3733920" y="4997520"/>
              <a:chExt cx="5536800" cy="1550520"/>
            </a:xfrm>
          </p:grpSpPr>
          <p:sp>
            <p:nvSpPr>
              <p:cNvPr id="3353" name=""/>
              <p:cNvSpPr/>
              <p:nvPr/>
            </p:nvSpPr>
            <p:spPr>
              <a:xfrm>
                <a:off x="3785760" y="5675040"/>
                <a:ext cx="351720" cy="33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>
                <a:off x="3799080" y="4997520"/>
                <a:ext cx="364320" cy="33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>
                <a:off x="3799080" y="5153760"/>
                <a:ext cx="377640" cy="33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>
                <a:off x="3799080" y="5440320"/>
                <a:ext cx="351360" cy="33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7" name=""/>
              <p:cNvSpPr/>
              <p:nvPr/>
            </p:nvSpPr>
            <p:spPr>
              <a:xfrm>
                <a:off x="3733920" y="6052680"/>
                <a:ext cx="416880" cy="33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>
                <a:off x="3772800" y="6208920"/>
                <a:ext cx="39060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>
                <a:off x="9010440" y="5297040"/>
                <a:ext cx="260280" cy="33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>
                <a:off x="4880160" y="5114880"/>
                <a:ext cx="102924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4874040" y="5107680"/>
                <a:ext cx="1041480" cy="33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>
                <a:off x="4880520" y="5129280"/>
                <a:ext cx="102888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>
                <a:off x="4874400" y="5122440"/>
                <a:ext cx="1041120" cy="35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>
                <a:off x="5349600" y="5129280"/>
                <a:ext cx="90720" cy="29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>
                <a:off x="5343480" y="5122440"/>
                <a:ext cx="102960" cy="31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6" name=""/>
              <p:cNvSpPr/>
              <p:nvPr/>
            </p:nvSpPr>
            <p:spPr>
              <a:xfrm>
                <a:off x="5375520" y="5127480"/>
                <a:ext cx="64800" cy="2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>
                <a:off x="5369040" y="5121000"/>
                <a:ext cx="77400" cy="31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8" name=""/>
              <p:cNvSpPr/>
              <p:nvPr/>
            </p:nvSpPr>
            <p:spPr>
              <a:xfrm>
                <a:off x="5382000" y="5205600"/>
                <a:ext cx="51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>
                <a:off x="5382000" y="5348880"/>
                <a:ext cx="51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5922720" y="5257800"/>
                <a:ext cx="51840" cy="51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1" name=""/>
              <p:cNvSpPr/>
              <p:nvPr/>
            </p:nvSpPr>
            <p:spPr>
              <a:xfrm>
                <a:off x="5915880" y="5250960"/>
                <a:ext cx="65160" cy="65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>
                <a:off x="6847560" y="5258520"/>
                <a:ext cx="1029240" cy="337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>
                <a:off x="6841800" y="5252040"/>
                <a:ext cx="1053720" cy="35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6847920" y="5285520"/>
                <a:ext cx="102888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6842160" y="5266080"/>
                <a:ext cx="1053360" cy="35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7317000" y="5285520"/>
                <a:ext cx="90720" cy="2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7310880" y="5266080"/>
                <a:ext cx="10296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7355880" y="5283720"/>
                <a:ext cx="51480" cy="2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>
                <a:off x="7349400" y="5265000"/>
                <a:ext cx="6444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>
                <a:off x="7362360" y="5348880"/>
                <a:ext cx="3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7362360" y="5505480"/>
                <a:ext cx="3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7903080" y="5414040"/>
                <a:ext cx="38880" cy="38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7896240" y="5407920"/>
                <a:ext cx="52200" cy="64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3890880" y="5036760"/>
                <a:ext cx="102816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>
                <a:off x="3884400" y="5043600"/>
                <a:ext cx="1053720" cy="337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>
                <a:off x="3890880" y="5050800"/>
                <a:ext cx="1028160" cy="33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>
                <a:off x="3884760" y="5044320"/>
                <a:ext cx="1053360" cy="351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>
                <a:off x="4373280" y="5050800"/>
                <a:ext cx="76320" cy="2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>
                <a:off x="4353480" y="5044320"/>
                <a:ext cx="102960" cy="31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>
                <a:off x="4398840" y="5049360"/>
                <a:ext cx="50760" cy="2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>
                <a:off x="4392000" y="5042520"/>
                <a:ext cx="64440" cy="31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>
                <a:off x="4404960" y="5127480"/>
                <a:ext cx="3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>
                <a:off x="4404960" y="5284080"/>
                <a:ext cx="3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>
                <a:off x="4945320" y="5192640"/>
                <a:ext cx="38880" cy="38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5" name=""/>
              <p:cNvSpPr/>
              <p:nvPr/>
            </p:nvSpPr>
            <p:spPr>
              <a:xfrm>
                <a:off x="4938840" y="5173200"/>
                <a:ext cx="51840" cy="64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6" name=""/>
              <p:cNvSpPr/>
              <p:nvPr/>
            </p:nvSpPr>
            <p:spPr>
              <a:xfrm>
                <a:off x="3890880" y="6092640"/>
                <a:ext cx="1028160" cy="337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>
                <a:off x="3884400" y="6086160"/>
                <a:ext cx="1053720" cy="35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>
                <a:off x="3890880" y="6106680"/>
                <a:ext cx="1028160" cy="337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>
                <a:off x="3884760" y="6100200"/>
                <a:ext cx="1053360" cy="35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>
                <a:off x="4373280" y="6106680"/>
                <a:ext cx="76320" cy="31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>
                <a:off x="4353480" y="6100200"/>
                <a:ext cx="10296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>
                <a:off x="4398840" y="6105240"/>
                <a:ext cx="50760" cy="31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>
                <a:off x="4392000" y="6099120"/>
                <a:ext cx="64440" cy="32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>
                <a:off x="4404960" y="6183360"/>
                <a:ext cx="3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>
                <a:off x="4404960" y="6339600"/>
                <a:ext cx="3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>
                <a:off x="4945320" y="6248160"/>
                <a:ext cx="38880" cy="38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>
                <a:off x="4938840" y="6242040"/>
                <a:ext cx="51840" cy="51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>
                <a:off x="5793120" y="5193360"/>
                <a:ext cx="102816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>
                <a:off x="5786280" y="5173560"/>
                <a:ext cx="1041480" cy="35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>
                <a:off x="5793120" y="5207040"/>
                <a:ext cx="102816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>
                <a:off x="5786640" y="5200920"/>
                <a:ext cx="1041120" cy="337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>
                <a:off x="6262200" y="5207040"/>
                <a:ext cx="90000" cy="2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>
                <a:off x="6255720" y="5200920"/>
                <a:ext cx="102960" cy="31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>
                <a:off x="6287760" y="5206320"/>
                <a:ext cx="64440" cy="29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>
                <a:off x="6281280" y="5199480"/>
                <a:ext cx="77400" cy="31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>
                <a:off x="6293880" y="5284080"/>
                <a:ext cx="51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>
                <a:off x="6293880" y="5427360"/>
                <a:ext cx="51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>
                <a:off x="6834600" y="5336280"/>
                <a:ext cx="51840" cy="51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>
                <a:off x="6828120" y="5329440"/>
                <a:ext cx="64800" cy="65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0" name=""/>
              <p:cNvSpPr/>
              <p:nvPr/>
            </p:nvSpPr>
            <p:spPr>
              <a:xfrm>
                <a:off x="7759440" y="5258520"/>
                <a:ext cx="1029240" cy="337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1" name=""/>
              <p:cNvSpPr/>
              <p:nvPr/>
            </p:nvSpPr>
            <p:spPr>
              <a:xfrm>
                <a:off x="7752960" y="5252040"/>
                <a:ext cx="1042200" cy="35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>
                <a:off x="7759800" y="5285520"/>
                <a:ext cx="102888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>
                <a:off x="7753320" y="5266080"/>
                <a:ext cx="1041840" cy="35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>
                <a:off x="8228880" y="5285520"/>
                <a:ext cx="90720" cy="2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5" name=""/>
              <p:cNvSpPr/>
              <p:nvPr/>
            </p:nvSpPr>
            <p:spPr>
              <a:xfrm>
                <a:off x="8222400" y="5266080"/>
                <a:ext cx="10368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6" name=""/>
              <p:cNvSpPr/>
              <p:nvPr/>
            </p:nvSpPr>
            <p:spPr>
              <a:xfrm>
                <a:off x="8267760" y="5283720"/>
                <a:ext cx="51480" cy="2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7" name=""/>
              <p:cNvSpPr/>
              <p:nvPr/>
            </p:nvSpPr>
            <p:spPr>
              <a:xfrm>
                <a:off x="8248680" y="5265000"/>
                <a:ext cx="7740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8" name=""/>
              <p:cNvSpPr/>
              <p:nvPr/>
            </p:nvSpPr>
            <p:spPr>
              <a:xfrm>
                <a:off x="8274240" y="5348880"/>
                <a:ext cx="3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9" name=""/>
              <p:cNvSpPr/>
              <p:nvPr/>
            </p:nvSpPr>
            <p:spPr>
              <a:xfrm>
                <a:off x="8274240" y="5505480"/>
                <a:ext cx="3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0" name=""/>
              <p:cNvSpPr/>
              <p:nvPr/>
            </p:nvSpPr>
            <p:spPr>
              <a:xfrm>
                <a:off x="8815320" y="5414040"/>
                <a:ext cx="38520" cy="38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>
                <a:off x="8795520" y="5407920"/>
                <a:ext cx="64800" cy="64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2" name=""/>
              <p:cNvSpPr/>
              <p:nvPr/>
            </p:nvSpPr>
            <p:spPr>
              <a:xfrm>
                <a:off x="5004360" y="520560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3" name=""/>
              <p:cNvSpPr/>
              <p:nvPr/>
            </p:nvSpPr>
            <p:spPr>
              <a:xfrm>
                <a:off x="5238720" y="5205600"/>
                <a:ext cx="13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>
                <a:off x="5160240" y="5205600"/>
                <a:ext cx="64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>
                <a:off x="5004360" y="626148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>
                <a:off x="7206120" y="550548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>
                <a:off x="7127640" y="5505480"/>
                <a:ext cx="64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>
                <a:off x="5160240" y="6261480"/>
                <a:ext cx="1954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>
                <a:off x="7121160" y="5511960"/>
                <a:ext cx="0" cy="74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>
                <a:off x="5238720" y="5348880"/>
                <a:ext cx="13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>
                <a:off x="5160240" y="5348880"/>
                <a:ext cx="64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>
                <a:off x="5153760" y="5355720"/>
                <a:ext cx="0" cy="22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>
                <a:off x="4118040" y="5583600"/>
                <a:ext cx="1029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>
                <a:off x="6150600" y="5284080"/>
                <a:ext cx="13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>
                <a:off x="5994360" y="528408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6" name=""/>
              <p:cNvSpPr/>
              <p:nvPr/>
            </p:nvSpPr>
            <p:spPr>
              <a:xfrm>
                <a:off x="6906240" y="534888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>
                <a:off x="7206120" y="534888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8" name=""/>
              <p:cNvSpPr/>
              <p:nvPr/>
            </p:nvSpPr>
            <p:spPr>
              <a:xfrm>
                <a:off x="7062840" y="5348880"/>
                <a:ext cx="129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9" name=""/>
              <p:cNvSpPr/>
              <p:nvPr/>
            </p:nvSpPr>
            <p:spPr>
              <a:xfrm>
                <a:off x="4248720" y="528408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>
                <a:off x="4118040" y="5284080"/>
                <a:ext cx="13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1" name=""/>
              <p:cNvSpPr/>
              <p:nvPr/>
            </p:nvSpPr>
            <p:spPr>
              <a:xfrm>
                <a:off x="6150600" y="5427360"/>
                <a:ext cx="13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>
                <a:off x="6144120" y="5433480"/>
                <a:ext cx="0" cy="36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>
                <a:off x="4131000" y="5805360"/>
                <a:ext cx="2006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>
                <a:off x="4248720" y="618336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5" name=""/>
              <p:cNvSpPr/>
              <p:nvPr/>
            </p:nvSpPr>
            <p:spPr>
              <a:xfrm>
                <a:off x="4118040" y="6183360"/>
                <a:ext cx="13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6" name=""/>
              <p:cNvSpPr/>
              <p:nvPr/>
            </p:nvSpPr>
            <p:spPr>
              <a:xfrm>
                <a:off x="4248720" y="633960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7" name=""/>
              <p:cNvSpPr/>
              <p:nvPr/>
            </p:nvSpPr>
            <p:spPr>
              <a:xfrm>
                <a:off x="4118040" y="6339600"/>
                <a:ext cx="13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>
                <a:off x="4248720" y="512748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>
                <a:off x="4118040" y="5127480"/>
                <a:ext cx="13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0" name=""/>
              <p:cNvSpPr/>
              <p:nvPr/>
            </p:nvSpPr>
            <p:spPr>
              <a:xfrm>
                <a:off x="7961760" y="542736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1" name=""/>
              <p:cNvSpPr/>
              <p:nvPr/>
            </p:nvSpPr>
            <p:spPr>
              <a:xfrm>
                <a:off x="8118000" y="550548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>
                <a:off x="8118000" y="534888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3" name=""/>
              <p:cNvSpPr/>
              <p:nvPr/>
            </p:nvSpPr>
            <p:spPr>
              <a:xfrm>
                <a:off x="8111520" y="5433480"/>
                <a:ext cx="0" cy="65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4" name=""/>
              <p:cNvSpPr/>
              <p:nvPr/>
            </p:nvSpPr>
            <p:spPr>
              <a:xfrm>
                <a:off x="8098200" y="5414040"/>
                <a:ext cx="38880" cy="38880"/>
              </a:xfrm>
              <a:prstGeom prst="rect">
                <a:avLst/>
              </a:prstGeom>
              <a:solidFill>
                <a:srgbClr val="d500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5" name=""/>
              <p:cNvSpPr/>
              <p:nvPr/>
            </p:nvSpPr>
            <p:spPr>
              <a:xfrm>
                <a:off x="8111520" y="5355720"/>
                <a:ext cx="0" cy="6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8873640" y="542736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6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nversion of multi-level logic to NO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6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 = A (B + C D) + B C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500B-799D-4743-B2D8-579D47C5E2E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nversion between for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1" name=""/>
          <p:cNvGrpSpPr/>
          <p:nvPr/>
        </p:nvGrpSpPr>
        <p:grpSpPr>
          <a:xfrm>
            <a:off x="1731960" y="2360520"/>
            <a:ext cx="6532560" cy="3427560"/>
            <a:chOff x="1731960" y="2360520"/>
            <a:chExt cx="6532560" cy="3427560"/>
          </a:xfrm>
        </p:grpSpPr>
        <p:sp>
          <p:nvSpPr>
            <p:cNvPr id="3472" name=""/>
            <p:cNvSpPr/>
            <p:nvPr/>
          </p:nvSpPr>
          <p:spPr>
            <a:xfrm>
              <a:off x="2925720" y="2378160"/>
              <a:ext cx="3445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2925720" y="2735280"/>
              <a:ext cx="3664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 flipV="1">
              <a:off x="2919240" y="2371680"/>
              <a:ext cx="1800" cy="370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75" name=""/>
            <p:cNvGrpSpPr/>
            <p:nvPr/>
          </p:nvGrpSpPr>
          <p:grpSpPr>
            <a:xfrm>
              <a:off x="3274920" y="2384640"/>
              <a:ext cx="173160" cy="190440"/>
              <a:chOff x="3274920" y="2384640"/>
              <a:chExt cx="173160" cy="190440"/>
            </a:xfrm>
          </p:grpSpPr>
          <p:sp>
            <p:nvSpPr>
              <p:cNvPr id="3476" name=""/>
              <p:cNvSpPr/>
              <p:nvPr/>
            </p:nvSpPr>
            <p:spPr>
              <a:xfrm>
                <a:off x="3274920" y="2384640"/>
                <a:ext cx="17316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0" y="0"/>
                    </a:moveTo>
                    <a:lnTo>
                      <a:pt x="22" y="2"/>
                    </a:lnTo>
                    <a:lnTo>
                      <a:pt x="43" y="5"/>
                    </a:lnTo>
                    <a:lnTo>
                      <a:pt x="64" y="11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0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0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1" y="191"/>
                    </a:lnTo>
                    <a:lnTo>
                      <a:pt x="215" y="215"/>
                    </a:lnTo>
                    <a:lnTo>
                      <a:pt x="217" y="240"/>
                    </a:lnTo>
                    <a:lnTo>
                      <a:pt x="0" y="2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7" name=""/>
              <p:cNvSpPr/>
              <p:nvPr/>
            </p:nvSpPr>
            <p:spPr>
              <a:xfrm>
                <a:off x="3274920" y="2384640"/>
                <a:ext cx="17316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0" y="0"/>
                    </a:moveTo>
                    <a:lnTo>
                      <a:pt x="22" y="2"/>
                    </a:lnTo>
                    <a:lnTo>
                      <a:pt x="43" y="5"/>
                    </a:lnTo>
                    <a:lnTo>
                      <a:pt x="64" y="11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0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0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1" y="191"/>
                    </a:lnTo>
                    <a:lnTo>
                      <a:pt x="215" y="215"/>
                    </a:lnTo>
                    <a:lnTo>
                      <a:pt x="217" y="24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8" name=""/>
            <p:cNvGrpSpPr/>
            <p:nvPr/>
          </p:nvGrpSpPr>
          <p:grpSpPr>
            <a:xfrm>
              <a:off x="3274920" y="2557440"/>
              <a:ext cx="173160" cy="195480"/>
              <a:chOff x="3274920" y="2557440"/>
              <a:chExt cx="173160" cy="195480"/>
            </a:xfrm>
          </p:grpSpPr>
          <p:sp>
            <p:nvSpPr>
              <p:cNvPr id="3479" name=""/>
              <p:cNvSpPr/>
              <p:nvPr/>
            </p:nvSpPr>
            <p:spPr>
              <a:xfrm>
                <a:off x="3274920" y="2557440"/>
                <a:ext cx="173160" cy="195480"/>
              </a:xfrm>
              <a:custGeom>
                <a:avLst/>
                <a:gdLst/>
                <a:ahLst/>
                <a:rect l="l" t="t" r="r" b="b"/>
                <a:pathLst>
                  <a:path w="217" h="247">
                    <a:moveTo>
                      <a:pt x="217" y="0"/>
                    </a:moveTo>
                    <a:lnTo>
                      <a:pt x="215" y="25"/>
                    </a:lnTo>
                    <a:lnTo>
                      <a:pt x="211" y="49"/>
                    </a:lnTo>
                    <a:lnTo>
                      <a:pt x="206" y="74"/>
                    </a:lnTo>
                    <a:lnTo>
                      <a:pt x="199" y="96"/>
                    </a:lnTo>
                    <a:lnTo>
                      <a:pt x="190" y="117"/>
                    </a:lnTo>
                    <a:lnTo>
                      <a:pt x="180" y="138"/>
                    </a:lnTo>
                    <a:lnTo>
                      <a:pt x="154" y="175"/>
                    </a:lnTo>
                    <a:lnTo>
                      <a:pt x="138" y="191"/>
                    </a:lnTo>
                    <a:lnTo>
                      <a:pt x="120" y="205"/>
                    </a:lnTo>
                    <a:lnTo>
                      <a:pt x="103" y="217"/>
                    </a:lnTo>
                    <a:lnTo>
                      <a:pt x="84" y="228"/>
                    </a:lnTo>
                    <a:lnTo>
                      <a:pt x="64" y="236"/>
                    </a:lnTo>
                    <a:lnTo>
                      <a:pt x="43" y="242"/>
                    </a:lnTo>
                    <a:lnTo>
                      <a:pt x="22" y="245"/>
                    </a:lnTo>
                    <a:lnTo>
                      <a:pt x="0" y="247"/>
                    </a:lnTo>
                    <a:lnTo>
                      <a:pt x="0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0" name=""/>
              <p:cNvSpPr/>
              <p:nvPr/>
            </p:nvSpPr>
            <p:spPr>
              <a:xfrm>
                <a:off x="3274920" y="2557440"/>
                <a:ext cx="173160" cy="195480"/>
              </a:xfrm>
              <a:custGeom>
                <a:avLst/>
                <a:gdLst/>
                <a:ahLst/>
                <a:rect l="l" t="t" r="r" b="b"/>
                <a:pathLst>
                  <a:path w="217" h="247">
                    <a:moveTo>
                      <a:pt x="217" y="0"/>
                    </a:moveTo>
                    <a:lnTo>
                      <a:pt x="215" y="25"/>
                    </a:lnTo>
                    <a:lnTo>
                      <a:pt x="211" y="49"/>
                    </a:lnTo>
                    <a:lnTo>
                      <a:pt x="206" y="74"/>
                    </a:lnTo>
                    <a:lnTo>
                      <a:pt x="199" y="96"/>
                    </a:lnTo>
                    <a:lnTo>
                      <a:pt x="190" y="117"/>
                    </a:lnTo>
                    <a:lnTo>
                      <a:pt x="180" y="138"/>
                    </a:lnTo>
                    <a:lnTo>
                      <a:pt x="154" y="175"/>
                    </a:lnTo>
                    <a:lnTo>
                      <a:pt x="138" y="191"/>
                    </a:lnTo>
                    <a:lnTo>
                      <a:pt x="120" y="205"/>
                    </a:lnTo>
                    <a:lnTo>
                      <a:pt x="103" y="217"/>
                    </a:lnTo>
                    <a:lnTo>
                      <a:pt x="84" y="228"/>
                    </a:lnTo>
                    <a:lnTo>
                      <a:pt x="64" y="236"/>
                    </a:lnTo>
                    <a:lnTo>
                      <a:pt x="43" y="242"/>
                    </a:lnTo>
                    <a:lnTo>
                      <a:pt x="22" y="245"/>
                    </a:lnTo>
                    <a:lnTo>
                      <a:pt x="0" y="247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81" name=""/>
            <p:cNvSpPr/>
            <p:nvPr/>
          </p:nvSpPr>
          <p:spPr>
            <a:xfrm>
              <a:off x="2114280" y="2678040"/>
              <a:ext cx="3445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2114280" y="3046320"/>
              <a:ext cx="355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 flipV="1">
              <a:off x="2109600" y="2671920"/>
              <a:ext cx="1800" cy="380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4" name=""/>
            <p:cNvGrpSpPr/>
            <p:nvPr/>
          </p:nvGrpSpPr>
          <p:grpSpPr>
            <a:xfrm>
              <a:off x="2463840" y="2684520"/>
              <a:ext cx="172800" cy="190440"/>
              <a:chOff x="2463840" y="2684520"/>
              <a:chExt cx="172800" cy="190440"/>
            </a:xfrm>
          </p:grpSpPr>
          <p:sp>
            <p:nvSpPr>
              <p:cNvPr id="3485" name=""/>
              <p:cNvSpPr/>
              <p:nvPr/>
            </p:nvSpPr>
            <p:spPr>
              <a:xfrm>
                <a:off x="2463840" y="2684520"/>
                <a:ext cx="17280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0" y="0"/>
                    </a:moveTo>
                    <a:lnTo>
                      <a:pt x="23" y="2"/>
                    </a:lnTo>
                    <a:lnTo>
                      <a:pt x="44" y="5"/>
                    </a:lnTo>
                    <a:lnTo>
                      <a:pt x="65" y="11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1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1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2" y="191"/>
                    </a:lnTo>
                    <a:lnTo>
                      <a:pt x="215" y="215"/>
                    </a:lnTo>
                    <a:lnTo>
                      <a:pt x="217" y="240"/>
                    </a:lnTo>
                    <a:lnTo>
                      <a:pt x="0" y="2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>
                <a:off x="2463840" y="2684520"/>
                <a:ext cx="17280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0" y="0"/>
                    </a:moveTo>
                    <a:lnTo>
                      <a:pt x="23" y="2"/>
                    </a:lnTo>
                    <a:lnTo>
                      <a:pt x="44" y="5"/>
                    </a:lnTo>
                    <a:lnTo>
                      <a:pt x="65" y="11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1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1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2" y="191"/>
                    </a:lnTo>
                    <a:lnTo>
                      <a:pt x="215" y="215"/>
                    </a:lnTo>
                    <a:lnTo>
                      <a:pt x="217" y="24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7" name=""/>
            <p:cNvGrpSpPr/>
            <p:nvPr/>
          </p:nvGrpSpPr>
          <p:grpSpPr>
            <a:xfrm>
              <a:off x="2463840" y="2862360"/>
              <a:ext cx="172800" cy="190440"/>
              <a:chOff x="2463840" y="2862360"/>
              <a:chExt cx="172800" cy="190440"/>
            </a:xfrm>
          </p:grpSpPr>
          <p:sp>
            <p:nvSpPr>
              <p:cNvPr id="3488" name=""/>
              <p:cNvSpPr/>
              <p:nvPr/>
            </p:nvSpPr>
            <p:spPr>
              <a:xfrm>
                <a:off x="2463840" y="2862360"/>
                <a:ext cx="17280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217" y="0"/>
                    </a:moveTo>
                    <a:lnTo>
                      <a:pt x="215" y="25"/>
                    </a:lnTo>
                    <a:lnTo>
                      <a:pt x="212" y="49"/>
                    </a:lnTo>
                    <a:lnTo>
                      <a:pt x="206" y="72"/>
                    </a:lnTo>
                    <a:lnTo>
                      <a:pt x="199" y="95"/>
                    </a:lnTo>
                    <a:lnTo>
                      <a:pt x="191" y="114"/>
                    </a:lnTo>
                    <a:lnTo>
                      <a:pt x="180" y="135"/>
                    </a:lnTo>
                    <a:lnTo>
                      <a:pt x="154" y="170"/>
                    </a:lnTo>
                    <a:lnTo>
                      <a:pt x="138" y="186"/>
                    </a:lnTo>
                    <a:lnTo>
                      <a:pt x="121" y="200"/>
                    </a:lnTo>
                    <a:lnTo>
                      <a:pt x="103" y="212"/>
                    </a:lnTo>
                    <a:lnTo>
                      <a:pt x="84" y="221"/>
                    </a:lnTo>
                    <a:lnTo>
                      <a:pt x="65" y="229"/>
                    </a:lnTo>
                    <a:lnTo>
                      <a:pt x="44" y="235"/>
                    </a:lnTo>
                    <a:lnTo>
                      <a:pt x="23" y="238"/>
                    </a:lnTo>
                    <a:lnTo>
                      <a:pt x="0" y="240"/>
                    </a:lnTo>
                    <a:lnTo>
                      <a:pt x="0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9" name=""/>
              <p:cNvSpPr/>
              <p:nvPr/>
            </p:nvSpPr>
            <p:spPr>
              <a:xfrm>
                <a:off x="2463840" y="2862360"/>
                <a:ext cx="17280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217" y="0"/>
                    </a:moveTo>
                    <a:lnTo>
                      <a:pt x="215" y="25"/>
                    </a:lnTo>
                    <a:lnTo>
                      <a:pt x="212" y="49"/>
                    </a:lnTo>
                    <a:lnTo>
                      <a:pt x="206" y="72"/>
                    </a:lnTo>
                    <a:lnTo>
                      <a:pt x="199" y="95"/>
                    </a:lnTo>
                    <a:lnTo>
                      <a:pt x="191" y="114"/>
                    </a:lnTo>
                    <a:lnTo>
                      <a:pt x="180" y="135"/>
                    </a:lnTo>
                    <a:lnTo>
                      <a:pt x="154" y="170"/>
                    </a:lnTo>
                    <a:lnTo>
                      <a:pt x="138" y="186"/>
                    </a:lnTo>
                    <a:lnTo>
                      <a:pt x="121" y="200"/>
                    </a:lnTo>
                    <a:lnTo>
                      <a:pt x="103" y="212"/>
                    </a:lnTo>
                    <a:lnTo>
                      <a:pt x="84" y="221"/>
                    </a:lnTo>
                    <a:lnTo>
                      <a:pt x="65" y="229"/>
                    </a:lnTo>
                    <a:lnTo>
                      <a:pt x="44" y="235"/>
                    </a:lnTo>
                    <a:lnTo>
                      <a:pt x="23" y="238"/>
                    </a:lnTo>
                    <a:lnTo>
                      <a:pt x="0" y="24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0" name=""/>
            <p:cNvGrpSpPr/>
            <p:nvPr/>
          </p:nvGrpSpPr>
          <p:grpSpPr>
            <a:xfrm>
              <a:off x="3692520" y="2697120"/>
              <a:ext cx="555480" cy="177840"/>
              <a:chOff x="3692520" y="2697120"/>
              <a:chExt cx="555480" cy="177840"/>
            </a:xfrm>
          </p:grpSpPr>
          <p:sp>
            <p:nvSpPr>
              <p:cNvPr id="3491" name=""/>
              <p:cNvSpPr/>
              <p:nvPr/>
            </p:nvSpPr>
            <p:spPr>
              <a:xfrm>
                <a:off x="3692520" y="2697120"/>
                <a:ext cx="555480" cy="177840"/>
              </a:xfrm>
              <a:custGeom>
                <a:avLst/>
                <a:gdLst/>
                <a:ahLst/>
                <a:rect l="l" t="t" r="r" b="b"/>
                <a:pathLst>
                  <a:path w="700" h="224">
                    <a:moveTo>
                      <a:pt x="0" y="0"/>
                    </a:moveTo>
                    <a:lnTo>
                      <a:pt x="72" y="2"/>
                    </a:lnTo>
                    <a:lnTo>
                      <a:pt x="142" y="5"/>
                    </a:lnTo>
                    <a:lnTo>
                      <a:pt x="209" y="10"/>
                    </a:lnTo>
                    <a:lnTo>
                      <a:pt x="273" y="17"/>
                    </a:lnTo>
                    <a:lnTo>
                      <a:pt x="335" y="26"/>
                    </a:lnTo>
                    <a:lnTo>
                      <a:pt x="392" y="38"/>
                    </a:lnTo>
                    <a:lnTo>
                      <a:pt x="447" y="51"/>
                    </a:lnTo>
                    <a:lnTo>
                      <a:pt x="496" y="65"/>
                    </a:lnTo>
                    <a:lnTo>
                      <a:pt x="541" y="80"/>
                    </a:lnTo>
                    <a:lnTo>
                      <a:pt x="581" y="98"/>
                    </a:lnTo>
                    <a:lnTo>
                      <a:pt x="616" y="117"/>
                    </a:lnTo>
                    <a:lnTo>
                      <a:pt x="646" y="136"/>
                    </a:lnTo>
                    <a:lnTo>
                      <a:pt x="669" y="157"/>
                    </a:lnTo>
                    <a:lnTo>
                      <a:pt x="686" y="178"/>
                    </a:lnTo>
                    <a:lnTo>
                      <a:pt x="697" y="201"/>
                    </a:lnTo>
                    <a:lnTo>
                      <a:pt x="700" y="212"/>
                    </a:lnTo>
                    <a:lnTo>
                      <a:pt x="700" y="224"/>
                    </a:lnTo>
                    <a:lnTo>
                      <a:pt x="0" y="2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>
                <a:off x="3692520" y="2697120"/>
                <a:ext cx="555480" cy="177840"/>
              </a:xfrm>
              <a:custGeom>
                <a:avLst/>
                <a:gdLst/>
                <a:ahLst/>
                <a:rect l="l" t="t" r="r" b="b"/>
                <a:pathLst>
                  <a:path w="700" h="224">
                    <a:moveTo>
                      <a:pt x="0" y="0"/>
                    </a:moveTo>
                    <a:lnTo>
                      <a:pt x="72" y="2"/>
                    </a:lnTo>
                    <a:lnTo>
                      <a:pt x="142" y="5"/>
                    </a:lnTo>
                    <a:lnTo>
                      <a:pt x="209" y="10"/>
                    </a:lnTo>
                    <a:lnTo>
                      <a:pt x="273" y="17"/>
                    </a:lnTo>
                    <a:lnTo>
                      <a:pt x="335" y="26"/>
                    </a:lnTo>
                    <a:lnTo>
                      <a:pt x="392" y="38"/>
                    </a:lnTo>
                    <a:lnTo>
                      <a:pt x="447" y="51"/>
                    </a:lnTo>
                    <a:lnTo>
                      <a:pt x="496" y="65"/>
                    </a:lnTo>
                    <a:lnTo>
                      <a:pt x="541" y="80"/>
                    </a:lnTo>
                    <a:lnTo>
                      <a:pt x="581" y="98"/>
                    </a:lnTo>
                    <a:lnTo>
                      <a:pt x="616" y="117"/>
                    </a:lnTo>
                    <a:lnTo>
                      <a:pt x="646" y="136"/>
                    </a:lnTo>
                    <a:lnTo>
                      <a:pt x="669" y="157"/>
                    </a:lnTo>
                    <a:lnTo>
                      <a:pt x="686" y="178"/>
                    </a:lnTo>
                    <a:lnTo>
                      <a:pt x="697" y="201"/>
                    </a:lnTo>
                    <a:lnTo>
                      <a:pt x="700" y="212"/>
                    </a:lnTo>
                    <a:lnTo>
                      <a:pt x="700" y="22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3" name=""/>
            <p:cNvGrpSpPr/>
            <p:nvPr/>
          </p:nvGrpSpPr>
          <p:grpSpPr>
            <a:xfrm>
              <a:off x="3719520" y="2862360"/>
              <a:ext cx="528480" cy="179280"/>
              <a:chOff x="3719520" y="2862360"/>
              <a:chExt cx="528480" cy="179280"/>
            </a:xfrm>
          </p:grpSpPr>
          <p:sp>
            <p:nvSpPr>
              <p:cNvPr id="3494" name=""/>
              <p:cNvSpPr/>
              <p:nvPr/>
            </p:nvSpPr>
            <p:spPr>
              <a:xfrm>
                <a:off x="3719520" y="2862360"/>
                <a:ext cx="528480" cy="179280"/>
              </a:xfrm>
              <a:custGeom>
                <a:avLst/>
                <a:gdLst/>
                <a:ahLst/>
                <a:rect l="l" t="t" r="r" b="b"/>
                <a:pathLst>
                  <a:path w="665" h="226">
                    <a:moveTo>
                      <a:pt x="665" y="0"/>
                    </a:moveTo>
                    <a:lnTo>
                      <a:pt x="662" y="23"/>
                    </a:lnTo>
                    <a:lnTo>
                      <a:pt x="651" y="46"/>
                    </a:lnTo>
                    <a:lnTo>
                      <a:pt x="635" y="67"/>
                    </a:lnTo>
                    <a:lnTo>
                      <a:pt x="613" y="88"/>
                    </a:lnTo>
                    <a:lnTo>
                      <a:pt x="585" y="107"/>
                    </a:lnTo>
                    <a:lnTo>
                      <a:pt x="552" y="126"/>
                    </a:lnTo>
                    <a:lnTo>
                      <a:pt x="513" y="144"/>
                    </a:lnTo>
                    <a:lnTo>
                      <a:pt x="471" y="159"/>
                    </a:lnTo>
                    <a:lnTo>
                      <a:pt x="424" y="173"/>
                    </a:lnTo>
                    <a:lnTo>
                      <a:pt x="373" y="187"/>
                    </a:lnTo>
                    <a:lnTo>
                      <a:pt x="317" y="198"/>
                    </a:lnTo>
                    <a:lnTo>
                      <a:pt x="259" y="208"/>
                    </a:lnTo>
                    <a:lnTo>
                      <a:pt x="198" y="215"/>
                    </a:lnTo>
                    <a:lnTo>
                      <a:pt x="135" y="221"/>
                    </a:lnTo>
                    <a:lnTo>
                      <a:pt x="69" y="224"/>
                    </a:lnTo>
                    <a:lnTo>
                      <a:pt x="0" y="226"/>
                    </a:lnTo>
                    <a:lnTo>
                      <a:pt x="0" y="0"/>
                    </a:lnTo>
                    <a:lnTo>
                      <a:pt x="66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>
                <a:off x="3719520" y="2862360"/>
                <a:ext cx="528480" cy="179280"/>
              </a:xfrm>
              <a:custGeom>
                <a:avLst/>
                <a:gdLst/>
                <a:ahLst/>
                <a:rect l="l" t="t" r="r" b="b"/>
                <a:pathLst>
                  <a:path w="665" h="226">
                    <a:moveTo>
                      <a:pt x="665" y="0"/>
                    </a:moveTo>
                    <a:lnTo>
                      <a:pt x="662" y="23"/>
                    </a:lnTo>
                    <a:lnTo>
                      <a:pt x="651" y="46"/>
                    </a:lnTo>
                    <a:lnTo>
                      <a:pt x="635" y="67"/>
                    </a:lnTo>
                    <a:lnTo>
                      <a:pt x="613" y="88"/>
                    </a:lnTo>
                    <a:lnTo>
                      <a:pt x="585" y="107"/>
                    </a:lnTo>
                    <a:lnTo>
                      <a:pt x="552" y="126"/>
                    </a:lnTo>
                    <a:lnTo>
                      <a:pt x="513" y="144"/>
                    </a:lnTo>
                    <a:lnTo>
                      <a:pt x="471" y="159"/>
                    </a:lnTo>
                    <a:lnTo>
                      <a:pt x="424" y="173"/>
                    </a:lnTo>
                    <a:lnTo>
                      <a:pt x="373" y="187"/>
                    </a:lnTo>
                    <a:lnTo>
                      <a:pt x="317" y="198"/>
                    </a:lnTo>
                    <a:lnTo>
                      <a:pt x="259" y="208"/>
                    </a:lnTo>
                    <a:lnTo>
                      <a:pt x="198" y="215"/>
                    </a:lnTo>
                    <a:lnTo>
                      <a:pt x="135" y="221"/>
                    </a:lnTo>
                    <a:lnTo>
                      <a:pt x="69" y="224"/>
                    </a:lnTo>
                    <a:lnTo>
                      <a:pt x="0" y="22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6" name=""/>
            <p:cNvGrpSpPr/>
            <p:nvPr/>
          </p:nvGrpSpPr>
          <p:grpSpPr>
            <a:xfrm>
              <a:off x="3697200" y="2862360"/>
              <a:ext cx="84240" cy="179280"/>
              <a:chOff x="3697200" y="2862360"/>
              <a:chExt cx="84240" cy="179280"/>
            </a:xfrm>
          </p:grpSpPr>
          <p:sp>
            <p:nvSpPr>
              <p:cNvPr id="3497" name=""/>
              <p:cNvSpPr/>
              <p:nvPr/>
            </p:nvSpPr>
            <p:spPr>
              <a:xfrm>
                <a:off x="3697200" y="2862360"/>
                <a:ext cx="84240" cy="179280"/>
              </a:xfrm>
              <a:custGeom>
                <a:avLst/>
                <a:gdLst/>
                <a:ahLst/>
                <a:rect l="l" t="t" r="r" b="b"/>
                <a:pathLst>
                  <a:path w="105" h="226">
                    <a:moveTo>
                      <a:pt x="105" y="0"/>
                    </a:moveTo>
                    <a:lnTo>
                      <a:pt x="104" y="46"/>
                    </a:lnTo>
                    <a:lnTo>
                      <a:pt x="97" y="88"/>
                    </a:lnTo>
                    <a:lnTo>
                      <a:pt x="88" y="126"/>
                    </a:lnTo>
                    <a:lnTo>
                      <a:pt x="74" y="159"/>
                    </a:lnTo>
                    <a:lnTo>
                      <a:pt x="60" y="187"/>
                    </a:lnTo>
                    <a:lnTo>
                      <a:pt x="51" y="198"/>
                    </a:lnTo>
                    <a:lnTo>
                      <a:pt x="41" y="208"/>
                    </a:lnTo>
                    <a:lnTo>
                      <a:pt x="32" y="215"/>
                    </a:lnTo>
                    <a:lnTo>
                      <a:pt x="21" y="221"/>
                    </a:lnTo>
                    <a:lnTo>
                      <a:pt x="11" y="224"/>
                    </a:lnTo>
                    <a:lnTo>
                      <a:pt x="0" y="226"/>
                    </a:lnTo>
                    <a:lnTo>
                      <a:pt x="0" y="0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>
                <a:off x="3697200" y="2862360"/>
                <a:ext cx="84240" cy="179280"/>
              </a:xfrm>
              <a:custGeom>
                <a:avLst/>
                <a:gdLst/>
                <a:ahLst/>
                <a:rect l="l" t="t" r="r" b="b"/>
                <a:pathLst>
                  <a:path w="105" h="226">
                    <a:moveTo>
                      <a:pt x="105" y="0"/>
                    </a:moveTo>
                    <a:lnTo>
                      <a:pt x="104" y="46"/>
                    </a:lnTo>
                    <a:lnTo>
                      <a:pt x="97" y="88"/>
                    </a:lnTo>
                    <a:lnTo>
                      <a:pt x="88" y="126"/>
                    </a:lnTo>
                    <a:lnTo>
                      <a:pt x="74" y="159"/>
                    </a:lnTo>
                    <a:lnTo>
                      <a:pt x="60" y="187"/>
                    </a:lnTo>
                    <a:lnTo>
                      <a:pt x="51" y="198"/>
                    </a:lnTo>
                    <a:lnTo>
                      <a:pt x="41" y="208"/>
                    </a:lnTo>
                    <a:lnTo>
                      <a:pt x="32" y="215"/>
                    </a:lnTo>
                    <a:lnTo>
                      <a:pt x="21" y="221"/>
                    </a:lnTo>
                    <a:lnTo>
                      <a:pt x="11" y="224"/>
                    </a:lnTo>
                    <a:lnTo>
                      <a:pt x="0" y="22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9" name=""/>
            <p:cNvSpPr/>
            <p:nvPr/>
          </p:nvSpPr>
          <p:spPr>
            <a:xfrm>
              <a:off x="3747960" y="2862360"/>
              <a:ext cx="14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00" name=""/>
            <p:cNvGrpSpPr/>
            <p:nvPr/>
          </p:nvGrpSpPr>
          <p:grpSpPr>
            <a:xfrm>
              <a:off x="3697200" y="2697120"/>
              <a:ext cx="84240" cy="160560"/>
              <a:chOff x="3697200" y="2697120"/>
              <a:chExt cx="84240" cy="160560"/>
            </a:xfrm>
          </p:grpSpPr>
          <p:sp>
            <p:nvSpPr>
              <p:cNvPr id="3501" name=""/>
              <p:cNvSpPr/>
              <p:nvPr/>
            </p:nvSpPr>
            <p:spPr>
              <a:xfrm>
                <a:off x="3697200" y="2697120"/>
                <a:ext cx="84240" cy="160560"/>
              </a:xfrm>
              <a:custGeom>
                <a:avLst/>
                <a:gdLst/>
                <a:ahLst/>
                <a:rect l="l" t="t" r="r" b="b"/>
                <a:pathLst>
                  <a:path w="105" h="203">
                    <a:moveTo>
                      <a:pt x="0" y="0"/>
                    </a:moveTo>
                    <a:lnTo>
                      <a:pt x="11" y="2"/>
                    </a:lnTo>
                    <a:lnTo>
                      <a:pt x="21" y="3"/>
                    </a:lnTo>
                    <a:lnTo>
                      <a:pt x="32" y="9"/>
                    </a:lnTo>
                    <a:lnTo>
                      <a:pt x="41" y="16"/>
                    </a:lnTo>
                    <a:lnTo>
                      <a:pt x="60" y="35"/>
                    </a:lnTo>
                    <a:lnTo>
                      <a:pt x="74" y="59"/>
                    </a:lnTo>
                    <a:lnTo>
                      <a:pt x="88" y="89"/>
                    </a:lnTo>
                    <a:lnTo>
                      <a:pt x="97" y="124"/>
                    </a:lnTo>
                    <a:lnTo>
                      <a:pt x="104" y="163"/>
                    </a:lnTo>
                    <a:lnTo>
                      <a:pt x="105" y="203"/>
                    </a:lnTo>
                    <a:lnTo>
                      <a:pt x="0" y="2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>
                <a:off x="3697200" y="2697120"/>
                <a:ext cx="84240" cy="160560"/>
              </a:xfrm>
              <a:custGeom>
                <a:avLst/>
                <a:gdLst/>
                <a:ahLst/>
                <a:rect l="l" t="t" r="r" b="b"/>
                <a:pathLst>
                  <a:path w="105" h="203">
                    <a:moveTo>
                      <a:pt x="0" y="0"/>
                    </a:moveTo>
                    <a:lnTo>
                      <a:pt x="11" y="2"/>
                    </a:lnTo>
                    <a:lnTo>
                      <a:pt x="21" y="3"/>
                    </a:lnTo>
                    <a:lnTo>
                      <a:pt x="32" y="9"/>
                    </a:lnTo>
                    <a:lnTo>
                      <a:pt x="41" y="16"/>
                    </a:lnTo>
                    <a:lnTo>
                      <a:pt x="60" y="35"/>
                    </a:lnTo>
                    <a:lnTo>
                      <a:pt x="74" y="59"/>
                    </a:lnTo>
                    <a:lnTo>
                      <a:pt x="88" y="89"/>
                    </a:lnTo>
                    <a:lnTo>
                      <a:pt x="97" y="124"/>
                    </a:lnTo>
                    <a:lnTo>
                      <a:pt x="104" y="163"/>
                    </a:lnTo>
                    <a:lnTo>
                      <a:pt x="105" y="2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3" name=""/>
            <p:cNvSpPr/>
            <p:nvPr/>
          </p:nvSpPr>
          <p:spPr>
            <a:xfrm>
              <a:off x="3592440" y="2712960"/>
              <a:ext cx="1443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3448080" y="255132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3585960" y="2557440"/>
              <a:ext cx="1800" cy="149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4259160" y="2862360"/>
              <a:ext cx="1443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2781360" y="248148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1969920" y="2481480"/>
              <a:ext cx="800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1798560" y="2401920"/>
              <a:ext cx="22212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1811520" y="2360520"/>
              <a:ext cx="9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3592440" y="2862360"/>
              <a:ext cx="1443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2636640" y="2862360"/>
              <a:ext cx="1335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2770200" y="2844720"/>
              <a:ext cx="34920" cy="3492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2781360" y="2631960"/>
              <a:ext cx="1332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2781360" y="2862360"/>
              <a:ext cx="7999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2774880" y="2637000"/>
              <a:ext cx="1440" cy="220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2685960" y="2932200"/>
              <a:ext cx="2127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2702520" y="2890800"/>
              <a:ext cx="90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1969920" y="2781360"/>
              <a:ext cx="1335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1798560" y="2712960"/>
              <a:ext cx="2109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1809720" y="2671920"/>
              <a:ext cx="99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1969920" y="2932200"/>
              <a:ext cx="1335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1798560" y="2862360"/>
              <a:ext cx="2109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1812240" y="2822760"/>
              <a:ext cx="96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3592440" y="3013200"/>
              <a:ext cx="1443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3585960" y="3017880"/>
              <a:ext cx="1800" cy="139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1969920" y="3162240"/>
              <a:ext cx="16113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1798560" y="3092400"/>
              <a:ext cx="2109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1810080" y="30528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4419360" y="2757600"/>
              <a:ext cx="2462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4436640" y="2718000"/>
              <a:ext cx="79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1898640" y="3278160"/>
              <a:ext cx="160020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1872000" y="3338640"/>
              <a:ext cx="1026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riginal circu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6113520" y="3882960"/>
              <a:ext cx="3553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6113520" y="2378160"/>
              <a:ext cx="344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6113520" y="2735280"/>
              <a:ext cx="3553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 flipV="1">
              <a:off x="6108480" y="2371680"/>
              <a:ext cx="1800" cy="370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38" name=""/>
            <p:cNvGrpSpPr/>
            <p:nvPr/>
          </p:nvGrpSpPr>
          <p:grpSpPr>
            <a:xfrm>
              <a:off x="6464160" y="2384640"/>
              <a:ext cx="171360" cy="190440"/>
              <a:chOff x="6464160" y="2384640"/>
              <a:chExt cx="171360" cy="190440"/>
            </a:xfrm>
          </p:grpSpPr>
          <p:sp>
            <p:nvSpPr>
              <p:cNvPr id="3539" name=""/>
              <p:cNvSpPr/>
              <p:nvPr/>
            </p:nvSpPr>
            <p:spPr>
              <a:xfrm>
                <a:off x="6464160" y="2384640"/>
                <a:ext cx="17136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0" y="0"/>
                    </a:moveTo>
                    <a:lnTo>
                      <a:pt x="23" y="2"/>
                    </a:lnTo>
                    <a:lnTo>
                      <a:pt x="44" y="5"/>
                    </a:lnTo>
                    <a:lnTo>
                      <a:pt x="65" y="11"/>
                    </a:lnTo>
                    <a:lnTo>
                      <a:pt x="84" y="19"/>
                    </a:lnTo>
                    <a:lnTo>
                      <a:pt x="104" y="28"/>
                    </a:lnTo>
                    <a:lnTo>
                      <a:pt x="121" y="40"/>
                    </a:lnTo>
                    <a:lnTo>
                      <a:pt x="139" y="54"/>
                    </a:lnTo>
                    <a:lnTo>
                      <a:pt x="154" y="70"/>
                    </a:lnTo>
                    <a:lnTo>
                      <a:pt x="181" y="105"/>
                    </a:lnTo>
                    <a:lnTo>
                      <a:pt x="191" y="126"/>
                    </a:lnTo>
                    <a:lnTo>
                      <a:pt x="200" y="147"/>
                    </a:lnTo>
                    <a:lnTo>
                      <a:pt x="207" y="168"/>
                    </a:lnTo>
                    <a:lnTo>
                      <a:pt x="212" y="191"/>
                    </a:lnTo>
                    <a:lnTo>
                      <a:pt x="216" y="215"/>
                    </a:lnTo>
                    <a:lnTo>
                      <a:pt x="217" y="240"/>
                    </a:lnTo>
                    <a:lnTo>
                      <a:pt x="0" y="2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0" name=""/>
              <p:cNvSpPr/>
              <p:nvPr/>
            </p:nvSpPr>
            <p:spPr>
              <a:xfrm>
                <a:off x="6464160" y="2384640"/>
                <a:ext cx="17136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0" y="0"/>
                    </a:moveTo>
                    <a:lnTo>
                      <a:pt x="23" y="2"/>
                    </a:lnTo>
                    <a:lnTo>
                      <a:pt x="44" y="5"/>
                    </a:lnTo>
                    <a:lnTo>
                      <a:pt x="65" y="11"/>
                    </a:lnTo>
                    <a:lnTo>
                      <a:pt x="84" y="19"/>
                    </a:lnTo>
                    <a:lnTo>
                      <a:pt x="104" y="28"/>
                    </a:lnTo>
                    <a:lnTo>
                      <a:pt x="121" y="40"/>
                    </a:lnTo>
                    <a:lnTo>
                      <a:pt x="139" y="54"/>
                    </a:lnTo>
                    <a:lnTo>
                      <a:pt x="154" y="70"/>
                    </a:lnTo>
                    <a:lnTo>
                      <a:pt x="181" y="105"/>
                    </a:lnTo>
                    <a:lnTo>
                      <a:pt x="191" y="126"/>
                    </a:lnTo>
                    <a:lnTo>
                      <a:pt x="200" y="147"/>
                    </a:lnTo>
                    <a:lnTo>
                      <a:pt x="207" y="168"/>
                    </a:lnTo>
                    <a:lnTo>
                      <a:pt x="212" y="191"/>
                    </a:lnTo>
                    <a:lnTo>
                      <a:pt x="216" y="215"/>
                    </a:lnTo>
                    <a:lnTo>
                      <a:pt x="217" y="24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1" name=""/>
            <p:cNvGrpSpPr/>
            <p:nvPr/>
          </p:nvGrpSpPr>
          <p:grpSpPr>
            <a:xfrm>
              <a:off x="6464160" y="2557440"/>
              <a:ext cx="171360" cy="195480"/>
              <a:chOff x="6464160" y="2557440"/>
              <a:chExt cx="171360" cy="195480"/>
            </a:xfrm>
          </p:grpSpPr>
          <p:sp>
            <p:nvSpPr>
              <p:cNvPr id="3542" name=""/>
              <p:cNvSpPr/>
              <p:nvPr/>
            </p:nvSpPr>
            <p:spPr>
              <a:xfrm>
                <a:off x="6464160" y="2557440"/>
                <a:ext cx="171360" cy="195480"/>
              </a:xfrm>
              <a:custGeom>
                <a:avLst/>
                <a:gdLst/>
                <a:ahLst/>
                <a:rect l="l" t="t" r="r" b="b"/>
                <a:pathLst>
                  <a:path w="217" h="247">
                    <a:moveTo>
                      <a:pt x="217" y="0"/>
                    </a:moveTo>
                    <a:lnTo>
                      <a:pt x="216" y="25"/>
                    </a:lnTo>
                    <a:lnTo>
                      <a:pt x="212" y="49"/>
                    </a:lnTo>
                    <a:lnTo>
                      <a:pt x="207" y="74"/>
                    </a:lnTo>
                    <a:lnTo>
                      <a:pt x="200" y="96"/>
                    </a:lnTo>
                    <a:lnTo>
                      <a:pt x="191" y="117"/>
                    </a:lnTo>
                    <a:lnTo>
                      <a:pt x="181" y="138"/>
                    </a:lnTo>
                    <a:lnTo>
                      <a:pt x="154" y="175"/>
                    </a:lnTo>
                    <a:lnTo>
                      <a:pt x="139" y="191"/>
                    </a:lnTo>
                    <a:lnTo>
                      <a:pt x="121" y="205"/>
                    </a:lnTo>
                    <a:lnTo>
                      <a:pt x="104" y="217"/>
                    </a:lnTo>
                    <a:lnTo>
                      <a:pt x="84" y="228"/>
                    </a:lnTo>
                    <a:lnTo>
                      <a:pt x="65" y="236"/>
                    </a:lnTo>
                    <a:lnTo>
                      <a:pt x="44" y="242"/>
                    </a:lnTo>
                    <a:lnTo>
                      <a:pt x="23" y="245"/>
                    </a:lnTo>
                    <a:lnTo>
                      <a:pt x="0" y="247"/>
                    </a:lnTo>
                    <a:lnTo>
                      <a:pt x="0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3" name=""/>
              <p:cNvSpPr/>
              <p:nvPr/>
            </p:nvSpPr>
            <p:spPr>
              <a:xfrm>
                <a:off x="6464160" y="2557440"/>
                <a:ext cx="171360" cy="195480"/>
              </a:xfrm>
              <a:custGeom>
                <a:avLst/>
                <a:gdLst/>
                <a:ahLst/>
                <a:rect l="l" t="t" r="r" b="b"/>
                <a:pathLst>
                  <a:path w="217" h="247">
                    <a:moveTo>
                      <a:pt x="217" y="0"/>
                    </a:moveTo>
                    <a:lnTo>
                      <a:pt x="216" y="25"/>
                    </a:lnTo>
                    <a:lnTo>
                      <a:pt x="212" y="49"/>
                    </a:lnTo>
                    <a:lnTo>
                      <a:pt x="207" y="74"/>
                    </a:lnTo>
                    <a:lnTo>
                      <a:pt x="200" y="96"/>
                    </a:lnTo>
                    <a:lnTo>
                      <a:pt x="191" y="117"/>
                    </a:lnTo>
                    <a:lnTo>
                      <a:pt x="181" y="138"/>
                    </a:lnTo>
                    <a:lnTo>
                      <a:pt x="154" y="175"/>
                    </a:lnTo>
                    <a:lnTo>
                      <a:pt x="139" y="191"/>
                    </a:lnTo>
                    <a:lnTo>
                      <a:pt x="121" y="205"/>
                    </a:lnTo>
                    <a:lnTo>
                      <a:pt x="104" y="217"/>
                    </a:lnTo>
                    <a:lnTo>
                      <a:pt x="84" y="228"/>
                    </a:lnTo>
                    <a:lnTo>
                      <a:pt x="65" y="236"/>
                    </a:lnTo>
                    <a:lnTo>
                      <a:pt x="44" y="242"/>
                    </a:lnTo>
                    <a:lnTo>
                      <a:pt x="23" y="245"/>
                    </a:lnTo>
                    <a:lnTo>
                      <a:pt x="0" y="247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44" name=""/>
            <p:cNvSpPr/>
            <p:nvPr/>
          </p:nvSpPr>
          <p:spPr>
            <a:xfrm>
              <a:off x="5290920" y="2678040"/>
              <a:ext cx="3445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5290920" y="3046320"/>
              <a:ext cx="3668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 flipV="1">
              <a:off x="5286240" y="2671920"/>
              <a:ext cx="1440" cy="380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47" name=""/>
            <p:cNvGrpSpPr/>
            <p:nvPr/>
          </p:nvGrpSpPr>
          <p:grpSpPr>
            <a:xfrm>
              <a:off x="5641920" y="2684520"/>
              <a:ext cx="171360" cy="190440"/>
              <a:chOff x="5641920" y="2684520"/>
              <a:chExt cx="171360" cy="190440"/>
            </a:xfrm>
          </p:grpSpPr>
          <p:sp>
            <p:nvSpPr>
              <p:cNvPr id="3548" name=""/>
              <p:cNvSpPr/>
              <p:nvPr/>
            </p:nvSpPr>
            <p:spPr>
              <a:xfrm>
                <a:off x="5641920" y="2684520"/>
                <a:ext cx="17136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0" y="0"/>
                    </a:moveTo>
                    <a:lnTo>
                      <a:pt x="22" y="2"/>
                    </a:lnTo>
                    <a:lnTo>
                      <a:pt x="43" y="5"/>
                    </a:lnTo>
                    <a:lnTo>
                      <a:pt x="64" y="11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0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0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1" y="191"/>
                    </a:lnTo>
                    <a:lnTo>
                      <a:pt x="215" y="215"/>
                    </a:lnTo>
                    <a:lnTo>
                      <a:pt x="217" y="240"/>
                    </a:lnTo>
                    <a:lnTo>
                      <a:pt x="0" y="2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9" name=""/>
              <p:cNvSpPr/>
              <p:nvPr/>
            </p:nvSpPr>
            <p:spPr>
              <a:xfrm>
                <a:off x="5641920" y="2684520"/>
                <a:ext cx="17136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0" y="0"/>
                    </a:moveTo>
                    <a:lnTo>
                      <a:pt x="22" y="2"/>
                    </a:lnTo>
                    <a:lnTo>
                      <a:pt x="43" y="5"/>
                    </a:lnTo>
                    <a:lnTo>
                      <a:pt x="64" y="11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0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0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1" y="191"/>
                    </a:lnTo>
                    <a:lnTo>
                      <a:pt x="215" y="215"/>
                    </a:lnTo>
                    <a:lnTo>
                      <a:pt x="217" y="24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0" name=""/>
            <p:cNvGrpSpPr/>
            <p:nvPr/>
          </p:nvGrpSpPr>
          <p:grpSpPr>
            <a:xfrm>
              <a:off x="5641920" y="2862360"/>
              <a:ext cx="171360" cy="190440"/>
              <a:chOff x="5641920" y="2862360"/>
              <a:chExt cx="171360" cy="190440"/>
            </a:xfrm>
          </p:grpSpPr>
          <p:sp>
            <p:nvSpPr>
              <p:cNvPr id="3551" name=""/>
              <p:cNvSpPr/>
              <p:nvPr/>
            </p:nvSpPr>
            <p:spPr>
              <a:xfrm>
                <a:off x="5641920" y="2862360"/>
                <a:ext cx="17136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217" y="0"/>
                    </a:moveTo>
                    <a:lnTo>
                      <a:pt x="215" y="25"/>
                    </a:lnTo>
                    <a:lnTo>
                      <a:pt x="211" y="49"/>
                    </a:lnTo>
                    <a:lnTo>
                      <a:pt x="206" y="72"/>
                    </a:lnTo>
                    <a:lnTo>
                      <a:pt x="199" y="95"/>
                    </a:lnTo>
                    <a:lnTo>
                      <a:pt x="190" y="114"/>
                    </a:lnTo>
                    <a:lnTo>
                      <a:pt x="180" y="135"/>
                    </a:lnTo>
                    <a:lnTo>
                      <a:pt x="154" y="170"/>
                    </a:lnTo>
                    <a:lnTo>
                      <a:pt x="138" y="186"/>
                    </a:lnTo>
                    <a:lnTo>
                      <a:pt x="120" y="200"/>
                    </a:lnTo>
                    <a:lnTo>
                      <a:pt x="103" y="212"/>
                    </a:lnTo>
                    <a:lnTo>
                      <a:pt x="84" y="221"/>
                    </a:lnTo>
                    <a:lnTo>
                      <a:pt x="64" y="229"/>
                    </a:lnTo>
                    <a:lnTo>
                      <a:pt x="43" y="235"/>
                    </a:lnTo>
                    <a:lnTo>
                      <a:pt x="22" y="238"/>
                    </a:lnTo>
                    <a:lnTo>
                      <a:pt x="0" y="240"/>
                    </a:lnTo>
                    <a:lnTo>
                      <a:pt x="0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2" name=""/>
              <p:cNvSpPr/>
              <p:nvPr/>
            </p:nvSpPr>
            <p:spPr>
              <a:xfrm>
                <a:off x="5641920" y="2862360"/>
                <a:ext cx="17136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217" y="0"/>
                    </a:moveTo>
                    <a:lnTo>
                      <a:pt x="215" y="25"/>
                    </a:lnTo>
                    <a:lnTo>
                      <a:pt x="211" y="49"/>
                    </a:lnTo>
                    <a:lnTo>
                      <a:pt x="206" y="72"/>
                    </a:lnTo>
                    <a:lnTo>
                      <a:pt x="199" y="95"/>
                    </a:lnTo>
                    <a:lnTo>
                      <a:pt x="190" y="114"/>
                    </a:lnTo>
                    <a:lnTo>
                      <a:pt x="180" y="135"/>
                    </a:lnTo>
                    <a:lnTo>
                      <a:pt x="154" y="170"/>
                    </a:lnTo>
                    <a:lnTo>
                      <a:pt x="138" y="186"/>
                    </a:lnTo>
                    <a:lnTo>
                      <a:pt x="120" y="200"/>
                    </a:lnTo>
                    <a:lnTo>
                      <a:pt x="103" y="212"/>
                    </a:lnTo>
                    <a:lnTo>
                      <a:pt x="84" y="221"/>
                    </a:lnTo>
                    <a:lnTo>
                      <a:pt x="64" y="229"/>
                    </a:lnTo>
                    <a:lnTo>
                      <a:pt x="43" y="235"/>
                    </a:lnTo>
                    <a:lnTo>
                      <a:pt x="22" y="238"/>
                    </a:lnTo>
                    <a:lnTo>
                      <a:pt x="0" y="24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3" name=""/>
            <p:cNvGrpSpPr/>
            <p:nvPr/>
          </p:nvGrpSpPr>
          <p:grpSpPr>
            <a:xfrm>
              <a:off x="6875280" y="2697120"/>
              <a:ext cx="560520" cy="177840"/>
              <a:chOff x="6875280" y="2697120"/>
              <a:chExt cx="560520" cy="177840"/>
            </a:xfrm>
          </p:grpSpPr>
          <p:sp>
            <p:nvSpPr>
              <p:cNvPr id="3554" name=""/>
              <p:cNvSpPr/>
              <p:nvPr/>
            </p:nvSpPr>
            <p:spPr>
              <a:xfrm>
                <a:off x="6875280" y="2697120"/>
                <a:ext cx="560520" cy="177840"/>
              </a:xfrm>
              <a:custGeom>
                <a:avLst/>
                <a:gdLst/>
                <a:ahLst/>
                <a:rect l="l" t="t" r="r" b="b"/>
                <a:pathLst>
                  <a:path w="707" h="224">
                    <a:moveTo>
                      <a:pt x="0" y="0"/>
                    </a:moveTo>
                    <a:lnTo>
                      <a:pt x="72" y="2"/>
                    </a:lnTo>
                    <a:lnTo>
                      <a:pt x="142" y="5"/>
                    </a:lnTo>
                    <a:lnTo>
                      <a:pt x="210" y="10"/>
                    </a:lnTo>
                    <a:lnTo>
                      <a:pt x="275" y="17"/>
                    </a:lnTo>
                    <a:lnTo>
                      <a:pt x="338" y="26"/>
                    </a:lnTo>
                    <a:lnTo>
                      <a:pt x="396" y="38"/>
                    </a:lnTo>
                    <a:lnTo>
                      <a:pt x="450" y="51"/>
                    </a:lnTo>
                    <a:lnTo>
                      <a:pt x="500" y="65"/>
                    </a:lnTo>
                    <a:lnTo>
                      <a:pt x="546" y="80"/>
                    </a:lnTo>
                    <a:lnTo>
                      <a:pt x="586" y="98"/>
                    </a:lnTo>
                    <a:lnTo>
                      <a:pt x="621" y="117"/>
                    </a:lnTo>
                    <a:lnTo>
                      <a:pt x="651" y="136"/>
                    </a:lnTo>
                    <a:lnTo>
                      <a:pt x="675" y="157"/>
                    </a:lnTo>
                    <a:lnTo>
                      <a:pt x="693" y="178"/>
                    </a:lnTo>
                    <a:lnTo>
                      <a:pt x="698" y="189"/>
                    </a:lnTo>
                    <a:lnTo>
                      <a:pt x="703" y="201"/>
                    </a:lnTo>
                    <a:lnTo>
                      <a:pt x="707" y="212"/>
                    </a:lnTo>
                    <a:lnTo>
                      <a:pt x="707" y="224"/>
                    </a:lnTo>
                    <a:lnTo>
                      <a:pt x="0" y="2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5" name=""/>
              <p:cNvSpPr/>
              <p:nvPr/>
            </p:nvSpPr>
            <p:spPr>
              <a:xfrm>
                <a:off x="6875280" y="2697120"/>
                <a:ext cx="560520" cy="177840"/>
              </a:xfrm>
              <a:custGeom>
                <a:avLst/>
                <a:gdLst/>
                <a:ahLst/>
                <a:rect l="l" t="t" r="r" b="b"/>
                <a:pathLst>
                  <a:path w="707" h="224">
                    <a:moveTo>
                      <a:pt x="0" y="0"/>
                    </a:moveTo>
                    <a:lnTo>
                      <a:pt x="72" y="2"/>
                    </a:lnTo>
                    <a:lnTo>
                      <a:pt x="142" y="5"/>
                    </a:lnTo>
                    <a:lnTo>
                      <a:pt x="210" y="10"/>
                    </a:lnTo>
                    <a:lnTo>
                      <a:pt x="275" y="17"/>
                    </a:lnTo>
                    <a:lnTo>
                      <a:pt x="338" y="26"/>
                    </a:lnTo>
                    <a:lnTo>
                      <a:pt x="396" y="38"/>
                    </a:lnTo>
                    <a:lnTo>
                      <a:pt x="450" y="51"/>
                    </a:lnTo>
                    <a:lnTo>
                      <a:pt x="500" y="65"/>
                    </a:lnTo>
                    <a:lnTo>
                      <a:pt x="546" y="80"/>
                    </a:lnTo>
                    <a:lnTo>
                      <a:pt x="586" y="98"/>
                    </a:lnTo>
                    <a:lnTo>
                      <a:pt x="621" y="117"/>
                    </a:lnTo>
                    <a:lnTo>
                      <a:pt x="651" y="136"/>
                    </a:lnTo>
                    <a:lnTo>
                      <a:pt x="675" y="157"/>
                    </a:lnTo>
                    <a:lnTo>
                      <a:pt x="693" y="178"/>
                    </a:lnTo>
                    <a:lnTo>
                      <a:pt x="698" y="189"/>
                    </a:lnTo>
                    <a:lnTo>
                      <a:pt x="703" y="201"/>
                    </a:lnTo>
                    <a:lnTo>
                      <a:pt x="707" y="212"/>
                    </a:lnTo>
                    <a:lnTo>
                      <a:pt x="707" y="22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6" name=""/>
            <p:cNvGrpSpPr/>
            <p:nvPr/>
          </p:nvGrpSpPr>
          <p:grpSpPr>
            <a:xfrm>
              <a:off x="6908760" y="2862360"/>
              <a:ext cx="527040" cy="179280"/>
              <a:chOff x="6908760" y="2862360"/>
              <a:chExt cx="527040" cy="179280"/>
            </a:xfrm>
          </p:grpSpPr>
          <p:sp>
            <p:nvSpPr>
              <p:cNvPr id="3557" name=""/>
              <p:cNvSpPr/>
              <p:nvPr/>
            </p:nvSpPr>
            <p:spPr>
              <a:xfrm>
                <a:off x="6908760" y="2862360"/>
                <a:ext cx="527040" cy="179280"/>
              </a:xfrm>
              <a:custGeom>
                <a:avLst/>
                <a:gdLst/>
                <a:ahLst/>
                <a:rect l="l" t="t" r="r" b="b"/>
                <a:pathLst>
                  <a:path w="665" h="226">
                    <a:moveTo>
                      <a:pt x="665" y="0"/>
                    </a:moveTo>
                    <a:lnTo>
                      <a:pt x="661" y="23"/>
                    </a:lnTo>
                    <a:lnTo>
                      <a:pt x="651" y="46"/>
                    </a:lnTo>
                    <a:lnTo>
                      <a:pt x="635" y="67"/>
                    </a:lnTo>
                    <a:lnTo>
                      <a:pt x="612" y="88"/>
                    </a:lnTo>
                    <a:lnTo>
                      <a:pt x="584" y="107"/>
                    </a:lnTo>
                    <a:lnTo>
                      <a:pt x="551" y="126"/>
                    </a:lnTo>
                    <a:lnTo>
                      <a:pt x="513" y="144"/>
                    </a:lnTo>
                    <a:lnTo>
                      <a:pt x="471" y="159"/>
                    </a:lnTo>
                    <a:lnTo>
                      <a:pt x="424" y="173"/>
                    </a:lnTo>
                    <a:lnTo>
                      <a:pt x="373" y="187"/>
                    </a:lnTo>
                    <a:lnTo>
                      <a:pt x="317" y="198"/>
                    </a:lnTo>
                    <a:lnTo>
                      <a:pt x="259" y="208"/>
                    </a:lnTo>
                    <a:lnTo>
                      <a:pt x="198" y="215"/>
                    </a:lnTo>
                    <a:lnTo>
                      <a:pt x="135" y="221"/>
                    </a:lnTo>
                    <a:lnTo>
                      <a:pt x="68" y="224"/>
                    </a:lnTo>
                    <a:lnTo>
                      <a:pt x="0" y="226"/>
                    </a:lnTo>
                    <a:lnTo>
                      <a:pt x="0" y="0"/>
                    </a:lnTo>
                    <a:lnTo>
                      <a:pt x="66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8" name=""/>
              <p:cNvSpPr/>
              <p:nvPr/>
            </p:nvSpPr>
            <p:spPr>
              <a:xfrm>
                <a:off x="6908760" y="2862360"/>
                <a:ext cx="527040" cy="179280"/>
              </a:xfrm>
              <a:custGeom>
                <a:avLst/>
                <a:gdLst/>
                <a:ahLst/>
                <a:rect l="l" t="t" r="r" b="b"/>
                <a:pathLst>
                  <a:path w="665" h="226">
                    <a:moveTo>
                      <a:pt x="665" y="0"/>
                    </a:moveTo>
                    <a:lnTo>
                      <a:pt x="661" y="23"/>
                    </a:lnTo>
                    <a:lnTo>
                      <a:pt x="651" y="46"/>
                    </a:lnTo>
                    <a:lnTo>
                      <a:pt x="635" y="67"/>
                    </a:lnTo>
                    <a:lnTo>
                      <a:pt x="612" y="88"/>
                    </a:lnTo>
                    <a:lnTo>
                      <a:pt x="584" y="107"/>
                    </a:lnTo>
                    <a:lnTo>
                      <a:pt x="551" y="126"/>
                    </a:lnTo>
                    <a:lnTo>
                      <a:pt x="513" y="144"/>
                    </a:lnTo>
                    <a:lnTo>
                      <a:pt x="471" y="159"/>
                    </a:lnTo>
                    <a:lnTo>
                      <a:pt x="424" y="173"/>
                    </a:lnTo>
                    <a:lnTo>
                      <a:pt x="373" y="187"/>
                    </a:lnTo>
                    <a:lnTo>
                      <a:pt x="317" y="198"/>
                    </a:lnTo>
                    <a:lnTo>
                      <a:pt x="259" y="208"/>
                    </a:lnTo>
                    <a:lnTo>
                      <a:pt x="198" y="215"/>
                    </a:lnTo>
                    <a:lnTo>
                      <a:pt x="135" y="221"/>
                    </a:lnTo>
                    <a:lnTo>
                      <a:pt x="68" y="224"/>
                    </a:lnTo>
                    <a:lnTo>
                      <a:pt x="0" y="22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9" name=""/>
            <p:cNvGrpSpPr/>
            <p:nvPr/>
          </p:nvGrpSpPr>
          <p:grpSpPr>
            <a:xfrm>
              <a:off x="6875280" y="2862360"/>
              <a:ext cx="82800" cy="179280"/>
              <a:chOff x="6875280" y="2862360"/>
              <a:chExt cx="82800" cy="179280"/>
            </a:xfrm>
          </p:grpSpPr>
          <p:sp>
            <p:nvSpPr>
              <p:cNvPr id="3560" name=""/>
              <p:cNvSpPr/>
              <p:nvPr/>
            </p:nvSpPr>
            <p:spPr>
              <a:xfrm>
                <a:off x="6875280" y="2862360"/>
                <a:ext cx="82800" cy="179280"/>
              </a:xfrm>
              <a:custGeom>
                <a:avLst/>
                <a:gdLst/>
                <a:ahLst/>
                <a:rect l="l" t="t" r="r" b="b"/>
                <a:pathLst>
                  <a:path w="105" h="226">
                    <a:moveTo>
                      <a:pt x="105" y="0"/>
                    </a:moveTo>
                    <a:lnTo>
                      <a:pt x="103" y="46"/>
                    </a:lnTo>
                    <a:lnTo>
                      <a:pt x="96" y="88"/>
                    </a:lnTo>
                    <a:lnTo>
                      <a:pt x="88" y="126"/>
                    </a:lnTo>
                    <a:lnTo>
                      <a:pt x="74" y="159"/>
                    </a:lnTo>
                    <a:lnTo>
                      <a:pt x="60" y="187"/>
                    </a:lnTo>
                    <a:lnTo>
                      <a:pt x="51" y="198"/>
                    </a:lnTo>
                    <a:lnTo>
                      <a:pt x="40" y="208"/>
                    </a:lnTo>
                    <a:lnTo>
                      <a:pt x="32" y="215"/>
                    </a:lnTo>
                    <a:lnTo>
                      <a:pt x="21" y="221"/>
                    </a:lnTo>
                    <a:lnTo>
                      <a:pt x="11" y="224"/>
                    </a:lnTo>
                    <a:lnTo>
                      <a:pt x="0" y="226"/>
                    </a:lnTo>
                    <a:lnTo>
                      <a:pt x="0" y="0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1" name=""/>
              <p:cNvSpPr/>
              <p:nvPr/>
            </p:nvSpPr>
            <p:spPr>
              <a:xfrm>
                <a:off x="6875280" y="2862360"/>
                <a:ext cx="82800" cy="179280"/>
              </a:xfrm>
              <a:custGeom>
                <a:avLst/>
                <a:gdLst/>
                <a:ahLst/>
                <a:rect l="l" t="t" r="r" b="b"/>
                <a:pathLst>
                  <a:path w="105" h="226">
                    <a:moveTo>
                      <a:pt x="105" y="0"/>
                    </a:moveTo>
                    <a:lnTo>
                      <a:pt x="103" y="46"/>
                    </a:lnTo>
                    <a:lnTo>
                      <a:pt x="96" y="88"/>
                    </a:lnTo>
                    <a:lnTo>
                      <a:pt x="88" y="126"/>
                    </a:lnTo>
                    <a:lnTo>
                      <a:pt x="74" y="159"/>
                    </a:lnTo>
                    <a:lnTo>
                      <a:pt x="60" y="187"/>
                    </a:lnTo>
                    <a:lnTo>
                      <a:pt x="51" y="198"/>
                    </a:lnTo>
                    <a:lnTo>
                      <a:pt x="40" y="208"/>
                    </a:lnTo>
                    <a:lnTo>
                      <a:pt x="32" y="215"/>
                    </a:lnTo>
                    <a:lnTo>
                      <a:pt x="21" y="221"/>
                    </a:lnTo>
                    <a:lnTo>
                      <a:pt x="11" y="224"/>
                    </a:lnTo>
                    <a:lnTo>
                      <a:pt x="0" y="22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2" name=""/>
            <p:cNvSpPr/>
            <p:nvPr/>
          </p:nvSpPr>
          <p:spPr>
            <a:xfrm>
              <a:off x="6924600" y="2862360"/>
              <a:ext cx="14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63" name=""/>
            <p:cNvGrpSpPr/>
            <p:nvPr/>
          </p:nvGrpSpPr>
          <p:grpSpPr>
            <a:xfrm>
              <a:off x="6875280" y="2697120"/>
              <a:ext cx="82800" cy="160560"/>
              <a:chOff x="6875280" y="2697120"/>
              <a:chExt cx="82800" cy="160560"/>
            </a:xfrm>
          </p:grpSpPr>
          <p:sp>
            <p:nvSpPr>
              <p:cNvPr id="3564" name=""/>
              <p:cNvSpPr/>
              <p:nvPr/>
            </p:nvSpPr>
            <p:spPr>
              <a:xfrm>
                <a:off x="6875280" y="2697120"/>
                <a:ext cx="82800" cy="160560"/>
              </a:xfrm>
              <a:custGeom>
                <a:avLst/>
                <a:gdLst/>
                <a:ahLst/>
                <a:rect l="l" t="t" r="r" b="b"/>
                <a:pathLst>
                  <a:path w="105" h="203">
                    <a:moveTo>
                      <a:pt x="0" y="0"/>
                    </a:moveTo>
                    <a:lnTo>
                      <a:pt x="11" y="2"/>
                    </a:lnTo>
                    <a:lnTo>
                      <a:pt x="21" y="3"/>
                    </a:lnTo>
                    <a:lnTo>
                      <a:pt x="32" y="9"/>
                    </a:lnTo>
                    <a:lnTo>
                      <a:pt x="40" y="16"/>
                    </a:lnTo>
                    <a:lnTo>
                      <a:pt x="60" y="35"/>
                    </a:lnTo>
                    <a:lnTo>
                      <a:pt x="74" y="59"/>
                    </a:lnTo>
                    <a:lnTo>
                      <a:pt x="88" y="89"/>
                    </a:lnTo>
                    <a:lnTo>
                      <a:pt x="96" y="124"/>
                    </a:lnTo>
                    <a:lnTo>
                      <a:pt x="103" y="163"/>
                    </a:lnTo>
                    <a:lnTo>
                      <a:pt x="105" y="203"/>
                    </a:lnTo>
                    <a:lnTo>
                      <a:pt x="0" y="2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5" name=""/>
              <p:cNvSpPr/>
              <p:nvPr/>
            </p:nvSpPr>
            <p:spPr>
              <a:xfrm>
                <a:off x="6875280" y="2697120"/>
                <a:ext cx="82800" cy="160560"/>
              </a:xfrm>
              <a:custGeom>
                <a:avLst/>
                <a:gdLst/>
                <a:ahLst/>
                <a:rect l="l" t="t" r="r" b="b"/>
                <a:pathLst>
                  <a:path w="105" h="203">
                    <a:moveTo>
                      <a:pt x="0" y="0"/>
                    </a:moveTo>
                    <a:lnTo>
                      <a:pt x="11" y="2"/>
                    </a:lnTo>
                    <a:lnTo>
                      <a:pt x="21" y="3"/>
                    </a:lnTo>
                    <a:lnTo>
                      <a:pt x="32" y="9"/>
                    </a:lnTo>
                    <a:lnTo>
                      <a:pt x="40" y="16"/>
                    </a:lnTo>
                    <a:lnTo>
                      <a:pt x="60" y="35"/>
                    </a:lnTo>
                    <a:lnTo>
                      <a:pt x="74" y="59"/>
                    </a:lnTo>
                    <a:lnTo>
                      <a:pt x="88" y="89"/>
                    </a:lnTo>
                    <a:lnTo>
                      <a:pt x="96" y="124"/>
                    </a:lnTo>
                    <a:lnTo>
                      <a:pt x="103" y="163"/>
                    </a:lnTo>
                    <a:lnTo>
                      <a:pt x="105" y="2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6" name=""/>
            <p:cNvSpPr/>
            <p:nvPr/>
          </p:nvSpPr>
          <p:spPr>
            <a:xfrm>
              <a:off x="5957640" y="2481480"/>
              <a:ext cx="1447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5146560" y="2481480"/>
              <a:ext cx="800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4986360" y="2401920"/>
              <a:ext cx="2235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4998960" y="2360520"/>
              <a:ext cx="9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6780240" y="286236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5813280" y="2862360"/>
              <a:ext cx="1335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5946840" y="2844720"/>
              <a:ext cx="34920" cy="3492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5957640" y="2631960"/>
              <a:ext cx="1447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5957640" y="2862360"/>
              <a:ext cx="8114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5952960" y="2637000"/>
              <a:ext cx="1800" cy="220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5875200" y="2932200"/>
              <a:ext cx="2127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5890320" y="2890800"/>
              <a:ext cx="90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6780240" y="2712960"/>
              <a:ext cx="1332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6624360" y="2551320"/>
              <a:ext cx="1447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6775200" y="2557440"/>
              <a:ext cx="1800" cy="149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5146560" y="278136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4986360" y="2712960"/>
              <a:ext cx="2127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4997520" y="2671920"/>
              <a:ext cx="99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5146560" y="293220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4986360" y="2862360"/>
              <a:ext cx="2127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4999680" y="2822760"/>
              <a:ext cx="96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6780240" y="301320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6775200" y="3017880"/>
              <a:ext cx="1800" cy="139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5146560" y="3162240"/>
              <a:ext cx="16225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4986360" y="3092400"/>
              <a:ext cx="2127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4997880" y="30528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7446960" y="286236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6835680" y="2683080"/>
              <a:ext cx="68400" cy="712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6879960" y="2833560"/>
              <a:ext cx="68400" cy="7020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6835680" y="2982960"/>
              <a:ext cx="68400" cy="712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6757920" y="2683080"/>
              <a:ext cx="68040" cy="712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6757920" y="2982960"/>
              <a:ext cx="68040" cy="712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7629480" y="2757600"/>
              <a:ext cx="24588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7646760" y="2718000"/>
              <a:ext cx="79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5052960" y="3243240"/>
              <a:ext cx="298908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5020920" y="3303720"/>
              <a:ext cx="19072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add double bubbles to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invert all inputs of OR g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02" name=""/>
            <p:cNvGrpSpPr/>
            <p:nvPr/>
          </p:nvGrpSpPr>
          <p:grpSpPr>
            <a:xfrm>
              <a:off x="3963960" y="4375080"/>
              <a:ext cx="528480" cy="162000"/>
              <a:chOff x="3963960" y="4375080"/>
              <a:chExt cx="528480" cy="162000"/>
            </a:xfrm>
          </p:grpSpPr>
          <p:sp>
            <p:nvSpPr>
              <p:cNvPr id="3603" name=""/>
              <p:cNvSpPr/>
              <p:nvPr/>
            </p:nvSpPr>
            <p:spPr>
              <a:xfrm>
                <a:off x="3963960" y="4375080"/>
                <a:ext cx="528480" cy="162000"/>
              </a:xfrm>
              <a:custGeom>
                <a:avLst/>
                <a:gdLst/>
                <a:ahLst/>
                <a:rect l="l" t="t" r="r" b="b"/>
                <a:pathLst>
                  <a:path w="665" h="203">
                    <a:moveTo>
                      <a:pt x="0" y="0"/>
                    </a:moveTo>
                    <a:lnTo>
                      <a:pt x="69" y="2"/>
                    </a:lnTo>
                    <a:lnTo>
                      <a:pt x="135" y="4"/>
                    </a:lnTo>
                    <a:lnTo>
                      <a:pt x="198" y="9"/>
                    </a:lnTo>
                    <a:lnTo>
                      <a:pt x="259" y="16"/>
                    </a:lnTo>
                    <a:lnTo>
                      <a:pt x="317" y="25"/>
                    </a:lnTo>
                    <a:lnTo>
                      <a:pt x="373" y="35"/>
                    </a:lnTo>
                    <a:lnTo>
                      <a:pt x="424" y="48"/>
                    </a:lnTo>
                    <a:lnTo>
                      <a:pt x="471" y="60"/>
                    </a:lnTo>
                    <a:lnTo>
                      <a:pt x="513" y="74"/>
                    </a:lnTo>
                    <a:lnTo>
                      <a:pt x="551" y="90"/>
                    </a:lnTo>
                    <a:lnTo>
                      <a:pt x="585" y="107"/>
                    </a:lnTo>
                    <a:lnTo>
                      <a:pt x="613" y="125"/>
                    </a:lnTo>
                    <a:lnTo>
                      <a:pt x="635" y="144"/>
                    </a:lnTo>
                    <a:lnTo>
                      <a:pt x="651" y="163"/>
                    </a:lnTo>
                    <a:lnTo>
                      <a:pt x="662" y="182"/>
                    </a:lnTo>
                    <a:lnTo>
                      <a:pt x="665" y="203"/>
                    </a:lnTo>
                    <a:lnTo>
                      <a:pt x="0" y="2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>
                <a:off x="3963960" y="4375080"/>
                <a:ext cx="528480" cy="162000"/>
              </a:xfrm>
              <a:custGeom>
                <a:avLst/>
                <a:gdLst/>
                <a:ahLst/>
                <a:rect l="l" t="t" r="r" b="b"/>
                <a:pathLst>
                  <a:path w="665" h="203">
                    <a:moveTo>
                      <a:pt x="0" y="0"/>
                    </a:moveTo>
                    <a:lnTo>
                      <a:pt x="69" y="2"/>
                    </a:lnTo>
                    <a:lnTo>
                      <a:pt x="135" y="4"/>
                    </a:lnTo>
                    <a:lnTo>
                      <a:pt x="198" y="9"/>
                    </a:lnTo>
                    <a:lnTo>
                      <a:pt x="259" y="16"/>
                    </a:lnTo>
                    <a:lnTo>
                      <a:pt x="317" y="25"/>
                    </a:lnTo>
                    <a:lnTo>
                      <a:pt x="373" y="35"/>
                    </a:lnTo>
                    <a:lnTo>
                      <a:pt x="424" y="48"/>
                    </a:lnTo>
                    <a:lnTo>
                      <a:pt x="471" y="60"/>
                    </a:lnTo>
                    <a:lnTo>
                      <a:pt x="513" y="74"/>
                    </a:lnTo>
                    <a:lnTo>
                      <a:pt x="551" y="90"/>
                    </a:lnTo>
                    <a:lnTo>
                      <a:pt x="585" y="107"/>
                    </a:lnTo>
                    <a:lnTo>
                      <a:pt x="613" y="125"/>
                    </a:lnTo>
                    <a:lnTo>
                      <a:pt x="635" y="144"/>
                    </a:lnTo>
                    <a:lnTo>
                      <a:pt x="651" y="163"/>
                    </a:lnTo>
                    <a:lnTo>
                      <a:pt x="662" y="182"/>
                    </a:lnTo>
                    <a:lnTo>
                      <a:pt x="665" y="2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5" name=""/>
            <p:cNvGrpSpPr/>
            <p:nvPr/>
          </p:nvGrpSpPr>
          <p:grpSpPr>
            <a:xfrm>
              <a:off x="3963960" y="4386240"/>
              <a:ext cx="83880" cy="162000"/>
              <a:chOff x="3963960" y="4386240"/>
              <a:chExt cx="83880" cy="162000"/>
            </a:xfrm>
          </p:grpSpPr>
          <p:sp>
            <p:nvSpPr>
              <p:cNvPr id="3606" name=""/>
              <p:cNvSpPr/>
              <p:nvPr/>
            </p:nvSpPr>
            <p:spPr>
              <a:xfrm>
                <a:off x="3963960" y="4386240"/>
                <a:ext cx="83880" cy="162000"/>
              </a:xfrm>
              <a:custGeom>
                <a:avLst/>
                <a:gdLst/>
                <a:ahLst/>
                <a:rect l="l" t="t" r="r" b="b"/>
                <a:pathLst>
                  <a:path w="105" h="203">
                    <a:moveTo>
                      <a:pt x="0" y="0"/>
                    </a:moveTo>
                    <a:lnTo>
                      <a:pt x="11" y="2"/>
                    </a:lnTo>
                    <a:lnTo>
                      <a:pt x="21" y="4"/>
                    </a:lnTo>
                    <a:lnTo>
                      <a:pt x="32" y="9"/>
                    </a:lnTo>
                    <a:lnTo>
                      <a:pt x="41" y="16"/>
                    </a:lnTo>
                    <a:lnTo>
                      <a:pt x="60" y="35"/>
                    </a:lnTo>
                    <a:lnTo>
                      <a:pt x="74" y="60"/>
                    </a:lnTo>
                    <a:lnTo>
                      <a:pt x="88" y="90"/>
                    </a:lnTo>
                    <a:lnTo>
                      <a:pt x="97" y="125"/>
                    </a:lnTo>
                    <a:lnTo>
                      <a:pt x="104" y="163"/>
                    </a:lnTo>
                    <a:lnTo>
                      <a:pt x="105" y="203"/>
                    </a:lnTo>
                    <a:lnTo>
                      <a:pt x="0" y="2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7" name=""/>
              <p:cNvSpPr/>
              <p:nvPr/>
            </p:nvSpPr>
            <p:spPr>
              <a:xfrm>
                <a:off x="3963960" y="4386240"/>
                <a:ext cx="83880" cy="162000"/>
              </a:xfrm>
              <a:custGeom>
                <a:avLst/>
                <a:gdLst/>
                <a:ahLst/>
                <a:rect l="l" t="t" r="r" b="b"/>
                <a:pathLst>
                  <a:path w="105" h="203">
                    <a:moveTo>
                      <a:pt x="0" y="0"/>
                    </a:moveTo>
                    <a:lnTo>
                      <a:pt x="11" y="2"/>
                    </a:lnTo>
                    <a:lnTo>
                      <a:pt x="21" y="4"/>
                    </a:lnTo>
                    <a:lnTo>
                      <a:pt x="32" y="9"/>
                    </a:lnTo>
                    <a:lnTo>
                      <a:pt x="41" y="16"/>
                    </a:lnTo>
                    <a:lnTo>
                      <a:pt x="60" y="35"/>
                    </a:lnTo>
                    <a:lnTo>
                      <a:pt x="74" y="60"/>
                    </a:lnTo>
                    <a:lnTo>
                      <a:pt x="88" y="90"/>
                    </a:lnTo>
                    <a:lnTo>
                      <a:pt x="97" y="125"/>
                    </a:lnTo>
                    <a:lnTo>
                      <a:pt x="104" y="163"/>
                    </a:lnTo>
                    <a:lnTo>
                      <a:pt x="105" y="2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8" name=""/>
            <p:cNvGrpSpPr/>
            <p:nvPr/>
          </p:nvGrpSpPr>
          <p:grpSpPr>
            <a:xfrm>
              <a:off x="3963960" y="4518000"/>
              <a:ext cx="528480" cy="177840"/>
              <a:chOff x="3963960" y="4518000"/>
              <a:chExt cx="528480" cy="177840"/>
            </a:xfrm>
          </p:grpSpPr>
          <p:sp>
            <p:nvSpPr>
              <p:cNvPr id="3609" name=""/>
              <p:cNvSpPr/>
              <p:nvPr/>
            </p:nvSpPr>
            <p:spPr>
              <a:xfrm>
                <a:off x="3963960" y="4518000"/>
                <a:ext cx="528480" cy="177840"/>
              </a:xfrm>
              <a:custGeom>
                <a:avLst/>
                <a:gdLst/>
                <a:ahLst/>
                <a:rect l="l" t="t" r="r" b="b"/>
                <a:pathLst>
                  <a:path w="665" h="224">
                    <a:moveTo>
                      <a:pt x="665" y="0"/>
                    </a:moveTo>
                    <a:lnTo>
                      <a:pt x="662" y="22"/>
                    </a:lnTo>
                    <a:lnTo>
                      <a:pt x="651" y="45"/>
                    </a:lnTo>
                    <a:lnTo>
                      <a:pt x="635" y="66"/>
                    </a:lnTo>
                    <a:lnTo>
                      <a:pt x="613" y="87"/>
                    </a:lnTo>
                    <a:lnTo>
                      <a:pt x="585" y="106"/>
                    </a:lnTo>
                    <a:lnTo>
                      <a:pt x="551" y="126"/>
                    </a:lnTo>
                    <a:lnTo>
                      <a:pt x="513" y="143"/>
                    </a:lnTo>
                    <a:lnTo>
                      <a:pt x="471" y="159"/>
                    </a:lnTo>
                    <a:lnTo>
                      <a:pt x="424" y="173"/>
                    </a:lnTo>
                    <a:lnTo>
                      <a:pt x="373" y="185"/>
                    </a:lnTo>
                    <a:lnTo>
                      <a:pt x="317" y="197"/>
                    </a:lnTo>
                    <a:lnTo>
                      <a:pt x="259" y="206"/>
                    </a:lnTo>
                    <a:lnTo>
                      <a:pt x="198" y="213"/>
                    </a:lnTo>
                    <a:lnTo>
                      <a:pt x="135" y="218"/>
                    </a:lnTo>
                    <a:lnTo>
                      <a:pt x="69" y="222"/>
                    </a:lnTo>
                    <a:lnTo>
                      <a:pt x="0" y="224"/>
                    </a:lnTo>
                    <a:lnTo>
                      <a:pt x="0" y="0"/>
                    </a:lnTo>
                    <a:lnTo>
                      <a:pt x="66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>
                <a:off x="3963960" y="4518000"/>
                <a:ext cx="528480" cy="177840"/>
              </a:xfrm>
              <a:custGeom>
                <a:avLst/>
                <a:gdLst/>
                <a:ahLst/>
                <a:rect l="l" t="t" r="r" b="b"/>
                <a:pathLst>
                  <a:path w="665" h="224">
                    <a:moveTo>
                      <a:pt x="665" y="0"/>
                    </a:moveTo>
                    <a:lnTo>
                      <a:pt x="662" y="22"/>
                    </a:lnTo>
                    <a:lnTo>
                      <a:pt x="651" y="45"/>
                    </a:lnTo>
                    <a:lnTo>
                      <a:pt x="635" y="66"/>
                    </a:lnTo>
                    <a:lnTo>
                      <a:pt x="613" y="87"/>
                    </a:lnTo>
                    <a:lnTo>
                      <a:pt x="585" y="106"/>
                    </a:lnTo>
                    <a:lnTo>
                      <a:pt x="551" y="126"/>
                    </a:lnTo>
                    <a:lnTo>
                      <a:pt x="513" y="143"/>
                    </a:lnTo>
                    <a:lnTo>
                      <a:pt x="471" y="159"/>
                    </a:lnTo>
                    <a:lnTo>
                      <a:pt x="424" y="173"/>
                    </a:lnTo>
                    <a:lnTo>
                      <a:pt x="373" y="185"/>
                    </a:lnTo>
                    <a:lnTo>
                      <a:pt x="317" y="197"/>
                    </a:lnTo>
                    <a:lnTo>
                      <a:pt x="259" y="206"/>
                    </a:lnTo>
                    <a:lnTo>
                      <a:pt x="198" y="213"/>
                    </a:lnTo>
                    <a:lnTo>
                      <a:pt x="135" y="218"/>
                    </a:lnTo>
                    <a:lnTo>
                      <a:pt x="69" y="222"/>
                    </a:lnTo>
                    <a:lnTo>
                      <a:pt x="0" y="22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1" name=""/>
            <p:cNvGrpSpPr/>
            <p:nvPr/>
          </p:nvGrpSpPr>
          <p:grpSpPr>
            <a:xfrm>
              <a:off x="3963960" y="4524480"/>
              <a:ext cx="83880" cy="160200"/>
              <a:chOff x="3963960" y="4524480"/>
              <a:chExt cx="83880" cy="160200"/>
            </a:xfrm>
          </p:grpSpPr>
          <p:sp>
            <p:nvSpPr>
              <p:cNvPr id="3612" name=""/>
              <p:cNvSpPr/>
              <p:nvPr/>
            </p:nvSpPr>
            <p:spPr>
              <a:xfrm>
                <a:off x="3963960" y="4524480"/>
                <a:ext cx="83880" cy="160200"/>
              </a:xfrm>
              <a:custGeom>
                <a:avLst/>
                <a:gdLst/>
                <a:ahLst/>
                <a:rect l="l" t="t" r="r" b="b"/>
                <a:pathLst>
                  <a:path w="105" h="203">
                    <a:moveTo>
                      <a:pt x="105" y="0"/>
                    </a:moveTo>
                    <a:lnTo>
                      <a:pt x="104" y="40"/>
                    </a:lnTo>
                    <a:lnTo>
                      <a:pt x="97" y="78"/>
                    </a:lnTo>
                    <a:lnTo>
                      <a:pt x="88" y="113"/>
                    </a:lnTo>
                    <a:lnTo>
                      <a:pt x="74" y="143"/>
                    </a:lnTo>
                    <a:lnTo>
                      <a:pt x="60" y="168"/>
                    </a:lnTo>
                    <a:lnTo>
                      <a:pt x="41" y="187"/>
                    </a:lnTo>
                    <a:lnTo>
                      <a:pt x="32" y="194"/>
                    </a:lnTo>
                    <a:lnTo>
                      <a:pt x="21" y="199"/>
                    </a:lnTo>
                    <a:lnTo>
                      <a:pt x="11" y="201"/>
                    </a:lnTo>
                    <a:lnTo>
                      <a:pt x="0" y="203"/>
                    </a:lnTo>
                    <a:lnTo>
                      <a:pt x="0" y="0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3" name=""/>
              <p:cNvSpPr/>
              <p:nvPr/>
            </p:nvSpPr>
            <p:spPr>
              <a:xfrm>
                <a:off x="3963960" y="4524480"/>
                <a:ext cx="83880" cy="160200"/>
              </a:xfrm>
              <a:custGeom>
                <a:avLst/>
                <a:gdLst/>
                <a:ahLst/>
                <a:rect l="l" t="t" r="r" b="b"/>
                <a:pathLst>
                  <a:path w="105" h="203">
                    <a:moveTo>
                      <a:pt x="105" y="0"/>
                    </a:moveTo>
                    <a:lnTo>
                      <a:pt x="104" y="40"/>
                    </a:lnTo>
                    <a:lnTo>
                      <a:pt x="97" y="78"/>
                    </a:lnTo>
                    <a:lnTo>
                      <a:pt x="88" y="113"/>
                    </a:lnTo>
                    <a:lnTo>
                      <a:pt x="74" y="143"/>
                    </a:lnTo>
                    <a:lnTo>
                      <a:pt x="60" y="168"/>
                    </a:lnTo>
                    <a:lnTo>
                      <a:pt x="41" y="187"/>
                    </a:lnTo>
                    <a:lnTo>
                      <a:pt x="32" y="194"/>
                    </a:lnTo>
                    <a:lnTo>
                      <a:pt x="21" y="199"/>
                    </a:lnTo>
                    <a:lnTo>
                      <a:pt x="11" y="201"/>
                    </a:lnTo>
                    <a:lnTo>
                      <a:pt x="0" y="2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14" name=""/>
            <p:cNvSpPr/>
            <p:nvPr/>
          </p:nvSpPr>
          <p:spPr>
            <a:xfrm>
              <a:off x="3970080" y="4489560"/>
              <a:ext cx="57240" cy="712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3892320" y="4338720"/>
              <a:ext cx="68400" cy="712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3892320" y="4649760"/>
              <a:ext cx="68400" cy="604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3003480" y="4033800"/>
              <a:ext cx="355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3003480" y="4390920"/>
              <a:ext cx="355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2997000" y="4038480"/>
              <a:ext cx="1800" cy="346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20" name=""/>
            <p:cNvGrpSpPr/>
            <p:nvPr/>
          </p:nvGrpSpPr>
          <p:grpSpPr>
            <a:xfrm>
              <a:off x="3363840" y="4040280"/>
              <a:ext cx="173160" cy="190440"/>
              <a:chOff x="3363840" y="4040280"/>
              <a:chExt cx="173160" cy="190440"/>
            </a:xfrm>
          </p:grpSpPr>
          <p:sp>
            <p:nvSpPr>
              <p:cNvPr id="3621" name=""/>
              <p:cNvSpPr/>
              <p:nvPr/>
            </p:nvSpPr>
            <p:spPr>
              <a:xfrm>
                <a:off x="3363840" y="4040280"/>
                <a:ext cx="173160" cy="190440"/>
              </a:xfrm>
              <a:custGeom>
                <a:avLst/>
                <a:gdLst/>
                <a:ahLst/>
                <a:rect l="l" t="t" r="r" b="b"/>
                <a:pathLst>
                  <a:path w="217" h="239">
                    <a:moveTo>
                      <a:pt x="0" y="0"/>
                    </a:moveTo>
                    <a:lnTo>
                      <a:pt x="22" y="1"/>
                    </a:lnTo>
                    <a:lnTo>
                      <a:pt x="43" y="5"/>
                    </a:lnTo>
                    <a:lnTo>
                      <a:pt x="64" y="10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0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0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1" y="190"/>
                    </a:lnTo>
                    <a:lnTo>
                      <a:pt x="215" y="215"/>
                    </a:lnTo>
                    <a:lnTo>
                      <a:pt x="217" y="239"/>
                    </a:lnTo>
                    <a:lnTo>
                      <a:pt x="0" y="2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2" name=""/>
              <p:cNvSpPr/>
              <p:nvPr/>
            </p:nvSpPr>
            <p:spPr>
              <a:xfrm>
                <a:off x="3363840" y="4040280"/>
                <a:ext cx="173160" cy="190440"/>
              </a:xfrm>
              <a:custGeom>
                <a:avLst/>
                <a:gdLst/>
                <a:ahLst/>
                <a:rect l="l" t="t" r="r" b="b"/>
                <a:pathLst>
                  <a:path w="217" h="239">
                    <a:moveTo>
                      <a:pt x="0" y="0"/>
                    </a:moveTo>
                    <a:lnTo>
                      <a:pt x="22" y="1"/>
                    </a:lnTo>
                    <a:lnTo>
                      <a:pt x="43" y="5"/>
                    </a:lnTo>
                    <a:lnTo>
                      <a:pt x="64" y="10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0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0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1" y="190"/>
                    </a:lnTo>
                    <a:lnTo>
                      <a:pt x="215" y="215"/>
                    </a:lnTo>
                    <a:lnTo>
                      <a:pt x="217" y="23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3" name=""/>
            <p:cNvGrpSpPr/>
            <p:nvPr/>
          </p:nvGrpSpPr>
          <p:grpSpPr>
            <a:xfrm>
              <a:off x="3363840" y="4218120"/>
              <a:ext cx="173160" cy="190440"/>
              <a:chOff x="3363840" y="4218120"/>
              <a:chExt cx="173160" cy="190440"/>
            </a:xfrm>
          </p:grpSpPr>
          <p:sp>
            <p:nvSpPr>
              <p:cNvPr id="3624" name=""/>
              <p:cNvSpPr/>
              <p:nvPr/>
            </p:nvSpPr>
            <p:spPr>
              <a:xfrm>
                <a:off x="3363840" y="4218120"/>
                <a:ext cx="173160" cy="190440"/>
              </a:xfrm>
              <a:custGeom>
                <a:avLst/>
                <a:gdLst/>
                <a:ahLst/>
                <a:rect l="l" t="t" r="r" b="b"/>
                <a:pathLst>
                  <a:path w="217" h="239">
                    <a:moveTo>
                      <a:pt x="217" y="0"/>
                    </a:moveTo>
                    <a:lnTo>
                      <a:pt x="215" y="24"/>
                    </a:lnTo>
                    <a:lnTo>
                      <a:pt x="211" y="49"/>
                    </a:lnTo>
                    <a:lnTo>
                      <a:pt x="206" y="71"/>
                    </a:lnTo>
                    <a:lnTo>
                      <a:pt x="199" y="94"/>
                    </a:lnTo>
                    <a:lnTo>
                      <a:pt x="190" y="113"/>
                    </a:lnTo>
                    <a:lnTo>
                      <a:pt x="180" y="134"/>
                    </a:lnTo>
                    <a:lnTo>
                      <a:pt x="154" y="169"/>
                    </a:lnTo>
                    <a:lnTo>
                      <a:pt x="138" y="185"/>
                    </a:lnTo>
                    <a:lnTo>
                      <a:pt x="120" y="199"/>
                    </a:lnTo>
                    <a:lnTo>
                      <a:pt x="103" y="211"/>
                    </a:lnTo>
                    <a:lnTo>
                      <a:pt x="84" y="220"/>
                    </a:lnTo>
                    <a:lnTo>
                      <a:pt x="64" y="229"/>
                    </a:lnTo>
                    <a:lnTo>
                      <a:pt x="43" y="234"/>
                    </a:lnTo>
                    <a:lnTo>
                      <a:pt x="22" y="238"/>
                    </a:lnTo>
                    <a:lnTo>
                      <a:pt x="0" y="239"/>
                    </a:lnTo>
                    <a:lnTo>
                      <a:pt x="0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5" name=""/>
              <p:cNvSpPr/>
              <p:nvPr/>
            </p:nvSpPr>
            <p:spPr>
              <a:xfrm>
                <a:off x="3363840" y="4218120"/>
                <a:ext cx="173160" cy="190440"/>
              </a:xfrm>
              <a:custGeom>
                <a:avLst/>
                <a:gdLst/>
                <a:ahLst/>
                <a:rect l="l" t="t" r="r" b="b"/>
                <a:pathLst>
                  <a:path w="217" h="239">
                    <a:moveTo>
                      <a:pt x="217" y="0"/>
                    </a:moveTo>
                    <a:lnTo>
                      <a:pt x="215" y="24"/>
                    </a:lnTo>
                    <a:lnTo>
                      <a:pt x="211" y="49"/>
                    </a:lnTo>
                    <a:lnTo>
                      <a:pt x="206" y="71"/>
                    </a:lnTo>
                    <a:lnTo>
                      <a:pt x="199" y="94"/>
                    </a:lnTo>
                    <a:lnTo>
                      <a:pt x="190" y="113"/>
                    </a:lnTo>
                    <a:lnTo>
                      <a:pt x="180" y="134"/>
                    </a:lnTo>
                    <a:lnTo>
                      <a:pt x="154" y="169"/>
                    </a:lnTo>
                    <a:lnTo>
                      <a:pt x="138" y="185"/>
                    </a:lnTo>
                    <a:lnTo>
                      <a:pt x="120" y="199"/>
                    </a:lnTo>
                    <a:lnTo>
                      <a:pt x="103" y="211"/>
                    </a:lnTo>
                    <a:lnTo>
                      <a:pt x="84" y="220"/>
                    </a:lnTo>
                    <a:lnTo>
                      <a:pt x="64" y="229"/>
                    </a:lnTo>
                    <a:lnTo>
                      <a:pt x="43" y="234"/>
                    </a:lnTo>
                    <a:lnTo>
                      <a:pt x="22" y="238"/>
                    </a:lnTo>
                    <a:lnTo>
                      <a:pt x="0" y="23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26" name=""/>
            <p:cNvSpPr/>
            <p:nvPr/>
          </p:nvSpPr>
          <p:spPr>
            <a:xfrm>
              <a:off x="3537000" y="4189320"/>
              <a:ext cx="68040" cy="716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2114280" y="4334040"/>
              <a:ext cx="3556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2114280" y="4703760"/>
              <a:ext cx="355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2109600" y="4338720"/>
              <a:ext cx="1800" cy="357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30" name=""/>
            <p:cNvGrpSpPr/>
            <p:nvPr/>
          </p:nvGrpSpPr>
          <p:grpSpPr>
            <a:xfrm>
              <a:off x="2474640" y="4340160"/>
              <a:ext cx="173160" cy="190440"/>
              <a:chOff x="2474640" y="4340160"/>
              <a:chExt cx="173160" cy="190440"/>
            </a:xfrm>
          </p:grpSpPr>
          <p:sp>
            <p:nvSpPr>
              <p:cNvPr id="3631" name=""/>
              <p:cNvSpPr/>
              <p:nvPr/>
            </p:nvSpPr>
            <p:spPr>
              <a:xfrm>
                <a:off x="2474640" y="4340160"/>
                <a:ext cx="173160" cy="190440"/>
              </a:xfrm>
              <a:custGeom>
                <a:avLst/>
                <a:gdLst/>
                <a:ahLst/>
                <a:rect l="l" t="t" r="r" b="b"/>
                <a:pathLst>
                  <a:path w="217" h="239">
                    <a:moveTo>
                      <a:pt x="0" y="0"/>
                    </a:moveTo>
                    <a:lnTo>
                      <a:pt x="23" y="1"/>
                    </a:lnTo>
                    <a:lnTo>
                      <a:pt x="44" y="5"/>
                    </a:lnTo>
                    <a:lnTo>
                      <a:pt x="65" y="10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1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1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2" y="190"/>
                    </a:lnTo>
                    <a:lnTo>
                      <a:pt x="215" y="215"/>
                    </a:lnTo>
                    <a:lnTo>
                      <a:pt x="217" y="239"/>
                    </a:lnTo>
                    <a:lnTo>
                      <a:pt x="0" y="2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>
                <a:off x="2474640" y="4340160"/>
                <a:ext cx="173160" cy="190440"/>
              </a:xfrm>
              <a:custGeom>
                <a:avLst/>
                <a:gdLst/>
                <a:ahLst/>
                <a:rect l="l" t="t" r="r" b="b"/>
                <a:pathLst>
                  <a:path w="217" h="239">
                    <a:moveTo>
                      <a:pt x="0" y="0"/>
                    </a:moveTo>
                    <a:lnTo>
                      <a:pt x="23" y="1"/>
                    </a:lnTo>
                    <a:lnTo>
                      <a:pt x="44" y="5"/>
                    </a:lnTo>
                    <a:lnTo>
                      <a:pt x="65" y="10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1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1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2" y="190"/>
                    </a:lnTo>
                    <a:lnTo>
                      <a:pt x="215" y="215"/>
                    </a:lnTo>
                    <a:lnTo>
                      <a:pt x="217" y="23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33" name=""/>
            <p:cNvGrpSpPr/>
            <p:nvPr/>
          </p:nvGrpSpPr>
          <p:grpSpPr>
            <a:xfrm>
              <a:off x="2474640" y="4518000"/>
              <a:ext cx="173160" cy="190440"/>
              <a:chOff x="2474640" y="4518000"/>
              <a:chExt cx="173160" cy="190440"/>
            </a:xfrm>
          </p:grpSpPr>
          <p:sp>
            <p:nvSpPr>
              <p:cNvPr id="3634" name=""/>
              <p:cNvSpPr/>
              <p:nvPr/>
            </p:nvSpPr>
            <p:spPr>
              <a:xfrm>
                <a:off x="2474640" y="4518000"/>
                <a:ext cx="173160" cy="190440"/>
              </a:xfrm>
              <a:custGeom>
                <a:avLst/>
                <a:gdLst/>
                <a:ahLst/>
                <a:rect l="l" t="t" r="r" b="b"/>
                <a:pathLst>
                  <a:path w="217" h="239">
                    <a:moveTo>
                      <a:pt x="217" y="0"/>
                    </a:moveTo>
                    <a:lnTo>
                      <a:pt x="215" y="24"/>
                    </a:lnTo>
                    <a:lnTo>
                      <a:pt x="212" y="49"/>
                    </a:lnTo>
                    <a:lnTo>
                      <a:pt x="206" y="71"/>
                    </a:lnTo>
                    <a:lnTo>
                      <a:pt x="199" y="94"/>
                    </a:lnTo>
                    <a:lnTo>
                      <a:pt x="191" y="113"/>
                    </a:lnTo>
                    <a:lnTo>
                      <a:pt x="180" y="134"/>
                    </a:lnTo>
                    <a:lnTo>
                      <a:pt x="154" y="169"/>
                    </a:lnTo>
                    <a:lnTo>
                      <a:pt x="138" y="185"/>
                    </a:lnTo>
                    <a:lnTo>
                      <a:pt x="121" y="199"/>
                    </a:lnTo>
                    <a:lnTo>
                      <a:pt x="103" y="211"/>
                    </a:lnTo>
                    <a:lnTo>
                      <a:pt x="84" y="220"/>
                    </a:lnTo>
                    <a:lnTo>
                      <a:pt x="65" y="229"/>
                    </a:lnTo>
                    <a:lnTo>
                      <a:pt x="44" y="234"/>
                    </a:lnTo>
                    <a:lnTo>
                      <a:pt x="23" y="238"/>
                    </a:lnTo>
                    <a:lnTo>
                      <a:pt x="0" y="239"/>
                    </a:lnTo>
                    <a:lnTo>
                      <a:pt x="0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5" name=""/>
              <p:cNvSpPr/>
              <p:nvPr/>
            </p:nvSpPr>
            <p:spPr>
              <a:xfrm>
                <a:off x="2474640" y="4518000"/>
                <a:ext cx="173160" cy="190440"/>
              </a:xfrm>
              <a:custGeom>
                <a:avLst/>
                <a:gdLst/>
                <a:ahLst/>
                <a:rect l="l" t="t" r="r" b="b"/>
                <a:pathLst>
                  <a:path w="217" h="239">
                    <a:moveTo>
                      <a:pt x="217" y="0"/>
                    </a:moveTo>
                    <a:lnTo>
                      <a:pt x="215" y="24"/>
                    </a:lnTo>
                    <a:lnTo>
                      <a:pt x="212" y="49"/>
                    </a:lnTo>
                    <a:lnTo>
                      <a:pt x="206" y="71"/>
                    </a:lnTo>
                    <a:lnTo>
                      <a:pt x="199" y="94"/>
                    </a:lnTo>
                    <a:lnTo>
                      <a:pt x="191" y="113"/>
                    </a:lnTo>
                    <a:lnTo>
                      <a:pt x="180" y="134"/>
                    </a:lnTo>
                    <a:lnTo>
                      <a:pt x="154" y="169"/>
                    </a:lnTo>
                    <a:lnTo>
                      <a:pt x="138" y="185"/>
                    </a:lnTo>
                    <a:lnTo>
                      <a:pt x="121" y="199"/>
                    </a:lnTo>
                    <a:lnTo>
                      <a:pt x="103" y="211"/>
                    </a:lnTo>
                    <a:lnTo>
                      <a:pt x="84" y="220"/>
                    </a:lnTo>
                    <a:lnTo>
                      <a:pt x="65" y="229"/>
                    </a:lnTo>
                    <a:lnTo>
                      <a:pt x="44" y="234"/>
                    </a:lnTo>
                    <a:lnTo>
                      <a:pt x="23" y="238"/>
                    </a:lnTo>
                    <a:lnTo>
                      <a:pt x="0" y="23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36" name=""/>
            <p:cNvSpPr/>
            <p:nvPr/>
          </p:nvSpPr>
          <p:spPr>
            <a:xfrm>
              <a:off x="2647800" y="4489560"/>
              <a:ext cx="68400" cy="712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4481280" y="4518000"/>
              <a:ext cx="1447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3747960" y="436896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3592440" y="4218120"/>
              <a:ext cx="1443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3741480" y="4224240"/>
              <a:ext cx="1800" cy="138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3747960" y="4668840"/>
              <a:ext cx="1332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3741480" y="4673520"/>
              <a:ext cx="1800" cy="138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1969920" y="4818240"/>
              <a:ext cx="17668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1731960" y="4749840"/>
              <a:ext cx="2775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1744560" y="4708440"/>
              <a:ext cx="168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\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2859120" y="4138560"/>
              <a:ext cx="1332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1969920" y="4138560"/>
              <a:ext cx="8780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1798560" y="4057560"/>
              <a:ext cx="22212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1811520" y="4016520"/>
              <a:ext cx="9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2859120" y="428796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1" name=""/>
            <p:cNvSpPr/>
            <p:nvPr/>
          </p:nvSpPr>
          <p:spPr>
            <a:xfrm>
              <a:off x="3814560" y="4518000"/>
              <a:ext cx="1447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2" name=""/>
            <p:cNvSpPr/>
            <p:nvPr/>
          </p:nvSpPr>
          <p:spPr>
            <a:xfrm>
              <a:off x="2703240" y="4518000"/>
              <a:ext cx="1447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3" name=""/>
            <p:cNvSpPr/>
            <p:nvPr/>
          </p:nvSpPr>
          <p:spPr>
            <a:xfrm>
              <a:off x="2836800" y="4513320"/>
              <a:ext cx="34920" cy="3492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2852640" y="4294080"/>
              <a:ext cx="1440" cy="219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2859120" y="4518000"/>
              <a:ext cx="9442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>
              <a:off x="2763720" y="4599000"/>
              <a:ext cx="2793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1969920" y="4438800"/>
              <a:ext cx="1335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1798560" y="4368960"/>
              <a:ext cx="21096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9" name=""/>
            <p:cNvSpPr/>
            <p:nvPr/>
          </p:nvSpPr>
          <p:spPr>
            <a:xfrm>
              <a:off x="1809720" y="4327560"/>
              <a:ext cx="99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0" name=""/>
            <p:cNvSpPr/>
            <p:nvPr/>
          </p:nvSpPr>
          <p:spPr>
            <a:xfrm>
              <a:off x="1969920" y="4599000"/>
              <a:ext cx="1335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1798560" y="4518000"/>
              <a:ext cx="2109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2" name=""/>
            <p:cNvSpPr/>
            <p:nvPr/>
          </p:nvSpPr>
          <p:spPr>
            <a:xfrm>
              <a:off x="1812240" y="4478400"/>
              <a:ext cx="96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4619520" y="4403880"/>
              <a:ext cx="24588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4636800" y="4362480"/>
              <a:ext cx="79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1865160" y="5210280"/>
              <a:ext cx="193356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6" name=""/>
            <p:cNvGrpSpPr/>
            <p:nvPr/>
          </p:nvGrpSpPr>
          <p:grpSpPr>
            <a:xfrm>
              <a:off x="7064280" y="4600440"/>
              <a:ext cx="527040" cy="162000"/>
              <a:chOff x="7064280" y="4600440"/>
              <a:chExt cx="527040" cy="162000"/>
            </a:xfrm>
          </p:grpSpPr>
          <p:sp>
            <p:nvSpPr>
              <p:cNvPr id="3667" name=""/>
              <p:cNvSpPr/>
              <p:nvPr/>
            </p:nvSpPr>
            <p:spPr>
              <a:xfrm>
                <a:off x="7064280" y="4600440"/>
                <a:ext cx="527040" cy="162000"/>
              </a:xfrm>
              <a:custGeom>
                <a:avLst/>
                <a:gdLst/>
                <a:ahLst/>
                <a:rect l="l" t="t" r="r" b="b"/>
                <a:pathLst>
                  <a:path w="665" h="203">
                    <a:moveTo>
                      <a:pt x="0" y="0"/>
                    </a:moveTo>
                    <a:lnTo>
                      <a:pt x="68" y="2"/>
                    </a:lnTo>
                    <a:lnTo>
                      <a:pt x="135" y="3"/>
                    </a:lnTo>
                    <a:lnTo>
                      <a:pt x="198" y="9"/>
                    </a:lnTo>
                    <a:lnTo>
                      <a:pt x="259" y="16"/>
                    </a:lnTo>
                    <a:lnTo>
                      <a:pt x="317" y="24"/>
                    </a:lnTo>
                    <a:lnTo>
                      <a:pt x="373" y="35"/>
                    </a:lnTo>
                    <a:lnTo>
                      <a:pt x="423" y="47"/>
                    </a:lnTo>
                    <a:lnTo>
                      <a:pt x="471" y="59"/>
                    </a:lnTo>
                    <a:lnTo>
                      <a:pt x="513" y="73"/>
                    </a:lnTo>
                    <a:lnTo>
                      <a:pt x="551" y="89"/>
                    </a:lnTo>
                    <a:lnTo>
                      <a:pt x="584" y="107"/>
                    </a:lnTo>
                    <a:lnTo>
                      <a:pt x="612" y="124"/>
                    </a:lnTo>
                    <a:lnTo>
                      <a:pt x="635" y="143"/>
                    </a:lnTo>
                    <a:lnTo>
                      <a:pt x="651" y="163"/>
                    </a:lnTo>
                    <a:lnTo>
                      <a:pt x="661" y="182"/>
                    </a:lnTo>
                    <a:lnTo>
                      <a:pt x="665" y="203"/>
                    </a:lnTo>
                    <a:lnTo>
                      <a:pt x="0" y="2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>
                <a:off x="7064280" y="4600440"/>
                <a:ext cx="527040" cy="162000"/>
              </a:xfrm>
              <a:custGeom>
                <a:avLst/>
                <a:gdLst/>
                <a:ahLst/>
                <a:rect l="l" t="t" r="r" b="b"/>
                <a:pathLst>
                  <a:path w="665" h="203">
                    <a:moveTo>
                      <a:pt x="0" y="0"/>
                    </a:moveTo>
                    <a:lnTo>
                      <a:pt x="68" y="2"/>
                    </a:lnTo>
                    <a:lnTo>
                      <a:pt x="135" y="3"/>
                    </a:lnTo>
                    <a:lnTo>
                      <a:pt x="198" y="9"/>
                    </a:lnTo>
                    <a:lnTo>
                      <a:pt x="259" y="16"/>
                    </a:lnTo>
                    <a:lnTo>
                      <a:pt x="317" y="24"/>
                    </a:lnTo>
                    <a:lnTo>
                      <a:pt x="373" y="35"/>
                    </a:lnTo>
                    <a:lnTo>
                      <a:pt x="423" y="47"/>
                    </a:lnTo>
                    <a:lnTo>
                      <a:pt x="471" y="59"/>
                    </a:lnTo>
                    <a:lnTo>
                      <a:pt x="513" y="73"/>
                    </a:lnTo>
                    <a:lnTo>
                      <a:pt x="551" y="89"/>
                    </a:lnTo>
                    <a:lnTo>
                      <a:pt x="584" y="107"/>
                    </a:lnTo>
                    <a:lnTo>
                      <a:pt x="612" y="124"/>
                    </a:lnTo>
                    <a:lnTo>
                      <a:pt x="635" y="143"/>
                    </a:lnTo>
                    <a:lnTo>
                      <a:pt x="651" y="163"/>
                    </a:lnTo>
                    <a:lnTo>
                      <a:pt x="661" y="182"/>
                    </a:lnTo>
                    <a:lnTo>
                      <a:pt x="665" y="2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69" name=""/>
            <p:cNvGrpSpPr/>
            <p:nvPr/>
          </p:nvGrpSpPr>
          <p:grpSpPr>
            <a:xfrm>
              <a:off x="7064280" y="4611600"/>
              <a:ext cx="82440" cy="163440"/>
              <a:chOff x="7064280" y="4611600"/>
              <a:chExt cx="82440" cy="163440"/>
            </a:xfrm>
          </p:grpSpPr>
          <p:sp>
            <p:nvSpPr>
              <p:cNvPr id="3670" name=""/>
              <p:cNvSpPr/>
              <p:nvPr/>
            </p:nvSpPr>
            <p:spPr>
              <a:xfrm>
                <a:off x="7064280" y="4611600"/>
                <a:ext cx="82440" cy="163440"/>
              </a:xfrm>
              <a:custGeom>
                <a:avLst/>
                <a:gdLst/>
                <a:ahLst/>
                <a:rect l="l" t="t" r="r" b="b"/>
                <a:pathLst>
                  <a:path w="105" h="205">
                    <a:moveTo>
                      <a:pt x="0" y="0"/>
                    </a:moveTo>
                    <a:lnTo>
                      <a:pt x="11" y="2"/>
                    </a:lnTo>
                    <a:lnTo>
                      <a:pt x="21" y="3"/>
                    </a:lnTo>
                    <a:lnTo>
                      <a:pt x="32" y="9"/>
                    </a:lnTo>
                    <a:lnTo>
                      <a:pt x="40" y="16"/>
                    </a:lnTo>
                    <a:lnTo>
                      <a:pt x="60" y="35"/>
                    </a:lnTo>
                    <a:lnTo>
                      <a:pt x="74" y="59"/>
                    </a:lnTo>
                    <a:lnTo>
                      <a:pt x="88" y="89"/>
                    </a:lnTo>
                    <a:lnTo>
                      <a:pt x="96" y="124"/>
                    </a:lnTo>
                    <a:lnTo>
                      <a:pt x="103" y="163"/>
                    </a:lnTo>
                    <a:lnTo>
                      <a:pt x="105" y="205"/>
                    </a:lnTo>
                    <a:lnTo>
                      <a:pt x="0" y="20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>
                <a:off x="7064280" y="4611600"/>
                <a:ext cx="82440" cy="163440"/>
              </a:xfrm>
              <a:custGeom>
                <a:avLst/>
                <a:gdLst/>
                <a:ahLst/>
                <a:rect l="l" t="t" r="r" b="b"/>
                <a:pathLst>
                  <a:path w="105" h="205">
                    <a:moveTo>
                      <a:pt x="0" y="0"/>
                    </a:moveTo>
                    <a:lnTo>
                      <a:pt x="11" y="2"/>
                    </a:lnTo>
                    <a:lnTo>
                      <a:pt x="21" y="3"/>
                    </a:lnTo>
                    <a:lnTo>
                      <a:pt x="32" y="9"/>
                    </a:lnTo>
                    <a:lnTo>
                      <a:pt x="40" y="16"/>
                    </a:lnTo>
                    <a:lnTo>
                      <a:pt x="60" y="35"/>
                    </a:lnTo>
                    <a:lnTo>
                      <a:pt x="74" y="59"/>
                    </a:lnTo>
                    <a:lnTo>
                      <a:pt x="88" y="89"/>
                    </a:lnTo>
                    <a:lnTo>
                      <a:pt x="96" y="124"/>
                    </a:lnTo>
                    <a:lnTo>
                      <a:pt x="103" y="163"/>
                    </a:lnTo>
                    <a:lnTo>
                      <a:pt x="105" y="20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72" name=""/>
            <p:cNvGrpSpPr/>
            <p:nvPr/>
          </p:nvGrpSpPr>
          <p:grpSpPr>
            <a:xfrm>
              <a:off x="7064280" y="4745160"/>
              <a:ext cx="527040" cy="177840"/>
              <a:chOff x="7064280" y="4745160"/>
              <a:chExt cx="527040" cy="177840"/>
            </a:xfrm>
          </p:grpSpPr>
          <p:sp>
            <p:nvSpPr>
              <p:cNvPr id="3673" name=""/>
              <p:cNvSpPr/>
              <p:nvPr/>
            </p:nvSpPr>
            <p:spPr>
              <a:xfrm>
                <a:off x="7064280" y="4745160"/>
                <a:ext cx="527040" cy="177840"/>
              </a:xfrm>
              <a:custGeom>
                <a:avLst/>
                <a:gdLst/>
                <a:ahLst/>
                <a:rect l="l" t="t" r="r" b="b"/>
                <a:pathLst>
                  <a:path w="665" h="224">
                    <a:moveTo>
                      <a:pt x="665" y="0"/>
                    </a:moveTo>
                    <a:lnTo>
                      <a:pt x="661" y="23"/>
                    </a:lnTo>
                    <a:lnTo>
                      <a:pt x="651" y="46"/>
                    </a:lnTo>
                    <a:lnTo>
                      <a:pt x="635" y="67"/>
                    </a:lnTo>
                    <a:lnTo>
                      <a:pt x="612" y="88"/>
                    </a:lnTo>
                    <a:lnTo>
                      <a:pt x="584" y="107"/>
                    </a:lnTo>
                    <a:lnTo>
                      <a:pt x="551" y="126"/>
                    </a:lnTo>
                    <a:lnTo>
                      <a:pt x="513" y="144"/>
                    </a:lnTo>
                    <a:lnTo>
                      <a:pt x="471" y="159"/>
                    </a:lnTo>
                    <a:lnTo>
                      <a:pt x="423" y="173"/>
                    </a:lnTo>
                    <a:lnTo>
                      <a:pt x="373" y="186"/>
                    </a:lnTo>
                    <a:lnTo>
                      <a:pt x="317" y="198"/>
                    </a:lnTo>
                    <a:lnTo>
                      <a:pt x="259" y="207"/>
                    </a:lnTo>
                    <a:lnTo>
                      <a:pt x="198" y="214"/>
                    </a:lnTo>
                    <a:lnTo>
                      <a:pt x="135" y="219"/>
                    </a:lnTo>
                    <a:lnTo>
                      <a:pt x="68" y="222"/>
                    </a:lnTo>
                    <a:lnTo>
                      <a:pt x="0" y="224"/>
                    </a:lnTo>
                    <a:lnTo>
                      <a:pt x="0" y="0"/>
                    </a:lnTo>
                    <a:lnTo>
                      <a:pt x="66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>
                <a:off x="7064280" y="4745160"/>
                <a:ext cx="527040" cy="177840"/>
              </a:xfrm>
              <a:custGeom>
                <a:avLst/>
                <a:gdLst/>
                <a:ahLst/>
                <a:rect l="l" t="t" r="r" b="b"/>
                <a:pathLst>
                  <a:path w="665" h="224">
                    <a:moveTo>
                      <a:pt x="665" y="0"/>
                    </a:moveTo>
                    <a:lnTo>
                      <a:pt x="661" y="23"/>
                    </a:lnTo>
                    <a:lnTo>
                      <a:pt x="651" y="46"/>
                    </a:lnTo>
                    <a:lnTo>
                      <a:pt x="635" y="67"/>
                    </a:lnTo>
                    <a:lnTo>
                      <a:pt x="612" y="88"/>
                    </a:lnTo>
                    <a:lnTo>
                      <a:pt x="584" y="107"/>
                    </a:lnTo>
                    <a:lnTo>
                      <a:pt x="551" y="126"/>
                    </a:lnTo>
                    <a:lnTo>
                      <a:pt x="513" y="144"/>
                    </a:lnTo>
                    <a:lnTo>
                      <a:pt x="471" y="159"/>
                    </a:lnTo>
                    <a:lnTo>
                      <a:pt x="423" y="173"/>
                    </a:lnTo>
                    <a:lnTo>
                      <a:pt x="373" y="186"/>
                    </a:lnTo>
                    <a:lnTo>
                      <a:pt x="317" y="198"/>
                    </a:lnTo>
                    <a:lnTo>
                      <a:pt x="259" y="207"/>
                    </a:lnTo>
                    <a:lnTo>
                      <a:pt x="198" y="214"/>
                    </a:lnTo>
                    <a:lnTo>
                      <a:pt x="135" y="219"/>
                    </a:lnTo>
                    <a:lnTo>
                      <a:pt x="68" y="222"/>
                    </a:lnTo>
                    <a:lnTo>
                      <a:pt x="0" y="22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75" name=""/>
            <p:cNvGrpSpPr/>
            <p:nvPr/>
          </p:nvGrpSpPr>
          <p:grpSpPr>
            <a:xfrm>
              <a:off x="7064280" y="4738680"/>
              <a:ext cx="82440" cy="185400"/>
              <a:chOff x="7064280" y="4738680"/>
              <a:chExt cx="82440" cy="185400"/>
            </a:xfrm>
          </p:grpSpPr>
          <p:sp>
            <p:nvSpPr>
              <p:cNvPr id="3676" name=""/>
              <p:cNvSpPr/>
              <p:nvPr/>
            </p:nvSpPr>
            <p:spPr>
              <a:xfrm>
                <a:off x="7064280" y="4738680"/>
                <a:ext cx="82440" cy="185400"/>
              </a:xfrm>
              <a:custGeom>
                <a:avLst/>
                <a:gdLst/>
                <a:ahLst/>
                <a:rect l="l" t="t" r="r" b="b"/>
                <a:pathLst>
                  <a:path w="105" h="203">
                    <a:moveTo>
                      <a:pt x="105" y="0"/>
                    </a:moveTo>
                    <a:lnTo>
                      <a:pt x="103" y="40"/>
                    </a:lnTo>
                    <a:lnTo>
                      <a:pt x="96" y="79"/>
                    </a:lnTo>
                    <a:lnTo>
                      <a:pt x="88" y="114"/>
                    </a:lnTo>
                    <a:lnTo>
                      <a:pt x="74" y="144"/>
                    </a:lnTo>
                    <a:lnTo>
                      <a:pt x="60" y="168"/>
                    </a:lnTo>
                    <a:lnTo>
                      <a:pt x="40" y="187"/>
                    </a:lnTo>
                    <a:lnTo>
                      <a:pt x="32" y="194"/>
                    </a:lnTo>
                    <a:lnTo>
                      <a:pt x="21" y="200"/>
                    </a:lnTo>
                    <a:lnTo>
                      <a:pt x="11" y="201"/>
                    </a:lnTo>
                    <a:lnTo>
                      <a:pt x="0" y="203"/>
                    </a:lnTo>
                    <a:lnTo>
                      <a:pt x="0" y="0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7" name=""/>
              <p:cNvSpPr/>
              <p:nvPr/>
            </p:nvSpPr>
            <p:spPr>
              <a:xfrm>
                <a:off x="7064280" y="4738680"/>
                <a:ext cx="82440" cy="185400"/>
              </a:xfrm>
              <a:custGeom>
                <a:avLst/>
                <a:gdLst/>
                <a:ahLst/>
                <a:rect l="l" t="t" r="r" b="b"/>
                <a:pathLst>
                  <a:path w="105" h="203">
                    <a:moveTo>
                      <a:pt x="105" y="0"/>
                    </a:moveTo>
                    <a:lnTo>
                      <a:pt x="103" y="40"/>
                    </a:lnTo>
                    <a:lnTo>
                      <a:pt x="96" y="79"/>
                    </a:lnTo>
                    <a:lnTo>
                      <a:pt x="88" y="114"/>
                    </a:lnTo>
                    <a:lnTo>
                      <a:pt x="74" y="144"/>
                    </a:lnTo>
                    <a:lnTo>
                      <a:pt x="60" y="168"/>
                    </a:lnTo>
                    <a:lnTo>
                      <a:pt x="40" y="187"/>
                    </a:lnTo>
                    <a:lnTo>
                      <a:pt x="32" y="194"/>
                    </a:lnTo>
                    <a:lnTo>
                      <a:pt x="21" y="200"/>
                    </a:lnTo>
                    <a:lnTo>
                      <a:pt x="11" y="201"/>
                    </a:lnTo>
                    <a:lnTo>
                      <a:pt x="0" y="2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78" name=""/>
            <p:cNvSpPr/>
            <p:nvPr/>
          </p:nvSpPr>
          <p:spPr>
            <a:xfrm>
              <a:off x="7068960" y="4719600"/>
              <a:ext cx="68400" cy="716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9" name=""/>
            <p:cNvSpPr/>
            <p:nvPr/>
          </p:nvSpPr>
          <p:spPr>
            <a:xfrm>
              <a:off x="7040520" y="4622760"/>
              <a:ext cx="6660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0" name=""/>
            <p:cNvSpPr/>
            <p:nvPr/>
          </p:nvSpPr>
          <p:spPr>
            <a:xfrm>
              <a:off x="7045200" y="4827600"/>
              <a:ext cx="7128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6113520" y="4240080"/>
              <a:ext cx="3553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2" name=""/>
            <p:cNvSpPr/>
            <p:nvPr/>
          </p:nvSpPr>
          <p:spPr>
            <a:xfrm>
              <a:off x="6108480" y="3889440"/>
              <a:ext cx="1800" cy="345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83" name=""/>
            <p:cNvGrpSpPr/>
            <p:nvPr/>
          </p:nvGrpSpPr>
          <p:grpSpPr>
            <a:xfrm>
              <a:off x="6475320" y="3886200"/>
              <a:ext cx="171360" cy="190440"/>
              <a:chOff x="6475320" y="3886200"/>
              <a:chExt cx="171360" cy="190440"/>
            </a:xfrm>
          </p:grpSpPr>
          <p:sp>
            <p:nvSpPr>
              <p:cNvPr id="3684" name=""/>
              <p:cNvSpPr/>
              <p:nvPr/>
            </p:nvSpPr>
            <p:spPr>
              <a:xfrm>
                <a:off x="6475320" y="3886200"/>
                <a:ext cx="171360" cy="190440"/>
              </a:xfrm>
              <a:custGeom>
                <a:avLst/>
                <a:gdLst/>
                <a:ahLst/>
                <a:rect l="l" t="t" r="r" b="b"/>
                <a:pathLst>
                  <a:path w="217" h="239">
                    <a:moveTo>
                      <a:pt x="0" y="0"/>
                    </a:moveTo>
                    <a:lnTo>
                      <a:pt x="23" y="1"/>
                    </a:lnTo>
                    <a:lnTo>
                      <a:pt x="44" y="5"/>
                    </a:lnTo>
                    <a:lnTo>
                      <a:pt x="65" y="10"/>
                    </a:lnTo>
                    <a:lnTo>
                      <a:pt x="84" y="19"/>
                    </a:lnTo>
                    <a:lnTo>
                      <a:pt x="104" y="28"/>
                    </a:lnTo>
                    <a:lnTo>
                      <a:pt x="121" y="40"/>
                    </a:lnTo>
                    <a:lnTo>
                      <a:pt x="139" y="54"/>
                    </a:lnTo>
                    <a:lnTo>
                      <a:pt x="154" y="70"/>
                    </a:lnTo>
                    <a:lnTo>
                      <a:pt x="181" y="105"/>
                    </a:lnTo>
                    <a:lnTo>
                      <a:pt x="191" y="126"/>
                    </a:lnTo>
                    <a:lnTo>
                      <a:pt x="200" y="147"/>
                    </a:lnTo>
                    <a:lnTo>
                      <a:pt x="207" y="168"/>
                    </a:lnTo>
                    <a:lnTo>
                      <a:pt x="212" y="190"/>
                    </a:lnTo>
                    <a:lnTo>
                      <a:pt x="215" y="215"/>
                    </a:lnTo>
                    <a:lnTo>
                      <a:pt x="217" y="239"/>
                    </a:lnTo>
                    <a:lnTo>
                      <a:pt x="0" y="2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5" name=""/>
              <p:cNvSpPr/>
              <p:nvPr/>
            </p:nvSpPr>
            <p:spPr>
              <a:xfrm>
                <a:off x="6475320" y="3886200"/>
                <a:ext cx="171360" cy="190440"/>
              </a:xfrm>
              <a:custGeom>
                <a:avLst/>
                <a:gdLst/>
                <a:ahLst/>
                <a:rect l="l" t="t" r="r" b="b"/>
                <a:pathLst>
                  <a:path w="217" h="239">
                    <a:moveTo>
                      <a:pt x="0" y="0"/>
                    </a:moveTo>
                    <a:lnTo>
                      <a:pt x="23" y="1"/>
                    </a:lnTo>
                    <a:lnTo>
                      <a:pt x="44" y="5"/>
                    </a:lnTo>
                    <a:lnTo>
                      <a:pt x="65" y="10"/>
                    </a:lnTo>
                    <a:lnTo>
                      <a:pt x="84" y="19"/>
                    </a:lnTo>
                    <a:lnTo>
                      <a:pt x="104" y="28"/>
                    </a:lnTo>
                    <a:lnTo>
                      <a:pt x="121" y="40"/>
                    </a:lnTo>
                    <a:lnTo>
                      <a:pt x="139" y="54"/>
                    </a:lnTo>
                    <a:lnTo>
                      <a:pt x="154" y="70"/>
                    </a:lnTo>
                    <a:lnTo>
                      <a:pt x="181" y="105"/>
                    </a:lnTo>
                    <a:lnTo>
                      <a:pt x="191" y="126"/>
                    </a:lnTo>
                    <a:lnTo>
                      <a:pt x="200" y="147"/>
                    </a:lnTo>
                    <a:lnTo>
                      <a:pt x="207" y="168"/>
                    </a:lnTo>
                    <a:lnTo>
                      <a:pt x="212" y="190"/>
                    </a:lnTo>
                    <a:lnTo>
                      <a:pt x="215" y="215"/>
                    </a:lnTo>
                    <a:lnTo>
                      <a:pt x="217" y="23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6" name=""/>
            <p:cNvGrpSpPr/>
            <p:nvPr/>
          </p:nvGrpSpPr>
          <p:grpSpPr>
            <a:xfrm>
              <a:off x="6475320" y="4048200"/>
              <a:ext cx="171360" cy="196920"/>
              <a:chOff x="6475320" y="4048200"/>
              <a:chExt cx="171360" cy="196920"/>
            </a:xfrm>
          </p:grpSpPr>
          <p:sp>
            <p:nvSpPr>
              <p:cNvPr id="3687" name=""/>
              <p:cNvSpPr/>
              <p:nvPr/>
            </p:nvSpPr>
            <p:spPr>
              <a:xfrm>
                <a:off x="6475320" y="4048200"/>
                <a:ext cx="171360" cy="196920"/>
              </a:xfrm>
              <a:custGeom>
                <a:avLst/>
                <a:gdLst/>
                <a:ahLst/>
                <a:rect l="l" t="t" r="r" b="b"/>
                <a:pathLst>
                  <a:path w="217" h="246">
                    <a:moveTo>
                      <a:pt x="217" y="0"/>
                    </a:moveTo>
                    <a:lnTo>
                      <a:pt x="215" y="24"/>
                    </a:lnTo>
                    <a:lnTo>
                      <a:pt x="212" y="49"/>
                    </a:lnTo>
                    <a:lnTo>
                      <a:pt x="207" y="73"/>
                    </a:lnTo>
                    <a:lnTo>
                      <a:pt x="200" y="96"/>
                    </a:lnTo>
                    <a:lnTo>
                      <a:pt x="191" y="117"/>
                    </a:lnTo>
                    <a:lnTo>
                      <a:pt x="181" y="138"/>
                    </a:lnTo>
                    <a:lnTo>
                      <a:pt x="154" y="175"/>
                    </a:lnTo>
                    <a:lnTo>
                      <a:pt x="139" y="190"/>
                    </a:lnTo>
                    <a:lnTo>
                      <a:pt x="121" y="204"/>
                    </a:lnTo>
                    <a:lnTo>
                      <a:pt x="104" y="217"/>
                    </a:lnTo>
                    <a:lnTo>
                      <a:pt x="84" y="227"/>
                    </a:lnTo>
                    <a:lnTo>
                      <a:pt x="65" y="236"/>
                    </a:lnTo>
                    <a:lnTo>
                      <a:pt x="44" y="241"/>
                    </a:lnTo>
                    <a:lnTo>
                      <a:pt x="23" y="245"/>
                    </a:lnTo>
                    <a:lnTo>
                      <a:pt x="0" y="246"/>
                    </a:lnTo>
                    <a:lnTo>
                      <a:pt x="0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8" name=""/>
              <p:cNvSpPr/>
              <p:nvPr/>
            </p:nvSpPr>
            <p:spPr>
              <a:xfrm>
                <a:off x="6475320" y="4048200"/>
                <a:ext cx="171360" cy="196920"/>
              </a:xfrm>
              <a:custGeom>
                <a:avLst/>
                <a:gdLst/>
                <a:ahLst/>
                <a:rect l="l" t="t" r="r" b="b"/>
                <a:pathLst>
                  <a:path w="217" h="246">
                    <a:moveTo>
                      <a:pt x="217" y="0"/>
                    </a:moveTo>
                    <a:lnTo>
                      <a:pt x="215" y="24"/>
                    </a:lnTo>
                    <a:lnTo>
                      <a:pt x="212" y="49"/>
                    </a:lnTo>
                    <a:lnTo>
                      <a:pt x="207" y="73"/>
                    </a:lnTo>
                    <a:lnTo>
                      <a:pt x="200" y="96"/>
                    </a:lnTo>
                    <a:lnTo>
                      <a:pt x="191" y="117"/>
                    </a:lnTo>
                    <a:lnTo>
                      <a:pt x="181" y="138"/>
                    </a:lnTo>
                    <a:lnTo>
                      <a:pt x="154" y="175"/>
                    </a:lnTo>
                    <a:lnTo>
                      <a:pt x="139" y="190"/>
                    </a:lnTo>
                    <a:lnTo>
                      <a:pt x="121" y="204"/>
                    </a:lnTo>
                    <a:lnTo>
                      <a:pt x="104" y="217"/>
                    </a:lnTo>
                    <a:lnTo>
                      <a:pt x="84" y="227"/>
                    </a:lnTo>
                    <a:lnTo>
                      <a:pt x="65" y="236"/>
                    </a:lnTo>
                    <a:lnTo>
                      <a:pt x="44" y="241"/>
                    </a:lnTo>
                    <a:lnTo>
                      <a:pt x="23" y="245"/>
                    </a:lnTo>
                    <a:lnTo>
                      <a:pt x="0" y="24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9" name=""/>
            <p:cNvSpPr/>
            <p:nvPr/>
          </p:nvSpPr>
          <p:spPr>
            <a:xfrm>
              <a:off x="6646680" y="4038480"/>
              <a:ext cx="57240" cy="604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0" name=""/>
            <p:cNvSpPr/>
            <p:nvPr/>
          </p:nvSpPr>
          <p:spPr>
            <a:xfrm>
              <a:off x="5224320" y="4564080"/>
              <a:ext cx="3556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1" name=""/>
            <p:cNvSpPr/>
            <p:nvPr/>
          </p:nvSpPr>
          <p:spPr>
            <a:xfrm>
              <a:off x="5224320" y="4934160"/>
              <a:ext cx="3556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5219640" y="4570560"/>
              <a:ext cx="1440" cy="357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93" name=""/>
            <p:cNvGrpSpPr/>
            <p:nvPr/>
          </p:nvGrpSpPr>
          <p:grpSpPr>
            <a:xfrm>
              <a:off x="5586480" y="4567320"/>
              <a:ext cx="171360" cy="189000"/>
              <a:chOff x="5586480" y="4567320"/>
              <a:chExt cx="171360" cy="189000"/>
            </a:xfrm>
          </p:grpSpPr>
          <p:sp>
            <p:nvSpPr>
              <p:cNvPr id="3694" name=""/>
              <p:cNvSpPr/>
              <p:nvPr/>
            </p:nvSpPr>
            <p:spPr>
              <a:xfrm>
                <a:off x="5586480" y="4567320"/>
                <a:ext cx="171360" cy="18900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0" y="0"/>
                    </a:moveTo>
                    <a:lnTo>
                      <a:pt x="22" y="2"/>
                    </a:lnTo>
                    <a:lnTo>
                      <a:pt x="43" y="5"/>
                    </a:lnTo>
                    <a:lnTo>
                      <a:pt x="64" y="11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0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0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1" y="191"/>
                    </a:lnTo>
                    <a:lnTo>
                      <a:pt x="215" y="215"/>
                    </a:lnTo>
                    <a:lnTo>
                      <a:pt x="217" y="240"/>
                    </a:lnTo>
                    <a:lnTo>
                      <a:pt x="0" y="2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>
                <a:off x="5586480" y="4567320"/>
                <a:ext cx="171360" cy="18900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0" y="0"/>
                    </a:moveTo>
                    <a:lnTo>
                      <a:pt x="22" y="2"/>
                    </a:lnTo>
                    <a:lnTo>
                      <a:pt x="43" y="5"/>
                    </a:lnTo>
                    <a:lnTo>
                      <a:pt x="64" y="11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0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0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1" y="191"/>
                    </a:lnTo>
                    <a:lnTo>
                      <a:pt x="215" y="215"/>
                    </a:lnTo>
                    <a:lnTo>
                      <a:pt x="217" y="24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6" name=""/>
            <p:cNvGrpSpPr/>
            <p:nvPr/>
          </p:nvGrpSpPr>
          <p:grpSpPr>
            <a:xfrm>
              <a:off x="5586480" y="4745160"/>
              <a:ext cx="171360" cy="188640"/>
              <a:chOff x="5586480" y="4745160"/>
              <a:chExt cx="171360" cy="188640"/>
            </a:xfrm>
          </p:grpSpPr>
          <p:sp>
            <p:nvSpPr>
              <p:cNvPr id="3697" name=""/>
              <p:cNvSpPr/>
              <p:nvPr/>
            </p:nvSpPr>
            <p:spPr>
              <a:xfrm>
                <a:off x="5586480" y="4745160"/>
                <a:ext cx="171360" cy="1886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217" y="0"/>
                    </a:moveTo>
                    <a:lnTo>
                      <a:pt x="215" y="25"/>
                    </a:lnTo>
                    <a:lnTo>
                      <a:pt x="211" y="49"/>
                    </a:lnTo>
                    <a:lnTo>
                      <a:pt x="206" y="72"/>
                    </a:lnTo>
                    <a:lnTo>
                      <a:pt x="199" y="95"/>
                    </a:lnTo>
                    <a:lnTo>
                      <a:pt x="190" y="114"/>
                    </a:lnTo>
                    <a:lnTo>
                      <a:pt x="180" y="135"/>
                    </a:lnTo>
                    <a:lnTo>
                      <a:pt x="154" y="170"/>
                    </a:lnTo>
                    <a:lnTo>
                      <a:pt x="138" y="186"/>
                    </a:lnTo>
                    <a:lnTo>
                      <a:pt x="120" y="200"/>
                    </a:lnTo>
                    <a:lnTo>
                      <a:pt x="103" y="212"/>
                    </a:lnTo>
                    <a:lnTo>
                      <a:pt x="84" y="221"/>
                    </a:lnTo>
                    <a:lnTo>
                      <a:pt x="64" y="229"/>
                    </a:lnTo>
                    <a:lnTo>
                      <a:pt x="43" y="235"/>
                    </a:lnTo>
                    <a:lnTo>
                      <a:pt x="22" y="238"/>
                    </a:lnTo>
                    <a:lnTo>
                      <a:pt x="0" y="240"/>
                    </a:lnTo>
                    <a:lnTo>
                      <a:pt x="0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>
                <a:off x="5586480" y="4745160"/>
                <a:ext cx="171360" cy="1886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217" y="0"/>
                    </a:moveTo>
                    <a:lnTo>
                      <a:pt x="215" y="25"/>
                    </a:lnTo>
                    <a:lnTo>
                      <a:pt x="211" y="49"/>
                    </a:lnTo>
                    <a:lnTo>
                      <a:pt x="206" y="72"/>
                    </a:lnTo>
                    <a:lnTo>
                      <a:pt x="199" y="95"/>
                    </a:lnTo>
                    <a:lnTo>
                      <a:pt x="190" y="114"/>
                    </a:lnTo>
                    <a:lnTo>
                      <a:pt x="180" y="135"/>
                    </a:lnTo>
                    <a:lnTo>
                      <a:pt x="154" y="170"/>
                    </a:lnTo>
                    <a:lnTo>
                      <a:pt x="138" y="186"/>
                    </a:lnTo>
                    <a:lnTo>
                      <a:pt x="120" y="200"/>
                    </a:lnTo>
                    <a:lnTo>
                      <a:pt x="103" y="212"/>
                    </a:lnTo>
                    <a:lnTo>
                      <a:pt x="84" y="221"/>
                    </a:lnTo>
                    <a:lnTo>
                      <a:pt x="64" y="229"/>
                    </a:lnTo>
                    <a:lnTo>
                      <a:pt x="43" y="235"/>
                    </a:lnTo>
                    <a:lnTo>
                      <a:pt x="22" y="238"/>
                    </a:lnTo>
                    <a:lnTo>
                      <a:pt x="0" y="24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9" name=""/>
            <p:cNvSpPr/>
            <p:nvPr/>
          </p:nvSpPr>
          <p:spPr>
            <a:xfrm>
              <a:off x="5757840" y="4719600"/>
              <a:ext cx="57240" cy="716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0" name=""/>
            <p:cNvSpPr/>
            <p:nvPr/>
          </p:nvSpPr>
          <p:spPr>
            <a:xfrm>
              <a:off x="5957640" y="4138560"/>
              <a:ext cx="1447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1" name=""/>
            <p:cNvSpPr/>
            <p:nvPr/>
          </p:nvSpPr>
          <p:spPr>
            <a:xfrm>
              <a:off x="5952960" y="4143240"/>
              <a:ext cx="1800" cy="2955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6846840" y="4861080"/>
              <a:ext cx="2016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6837120" y="4862520"/>
              <a:ext cx="1800" cy="1890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5068800" y="5049720"/>
              <a:ext cx="17668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4841640" y="4979880"/>
              <a:ext cx="2793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4854240" y="4938840"/>
              <a:ext cx="168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\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7591320" y="474516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6846840" y="4660920"/>
              <a:ext cx="187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6702480" y="4057560"/>
              <a:ext cx="1332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0" name=""/>
            <p:cNvSpPr/>
            <p:nvPr/>
          </p:nvSpPr>
          <p:spPr>
            <a:xfrm flipH="1">
              <a:off x="6838560" y="4062600"/>
              <a:ext cx="3240" cy="598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5957640" y="3987720"/>
              <a:ext cx="1447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5068800" y="3987720"/>
              <a:ext cx="8780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4908600" y="3906720"/>
              <a:ext cx="2235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4921200" y="3867120"/>
              <a:ext cx="9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5" name=""/>
            <p:cNvSpPr/>
            <p:nvPr/>
          </p:nvSpPr>
          <p:spPr>
            <a:xfrm>
              <a:off x="6924600" y="474984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6" name=""/>
            <p:cNvSpPr/>
            <p:nvPr/>
          </p:nvSpPr>
          <p:spPr>
            <a:xfrm>
              <a:off x="6657840" y="4448160"/>
              <a:ext cx="1440" cy="295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7" name=""/>
            <p:cNvSpPr/>
            <p:nvPr/>
          </p:nvSpPr>
          <p:spPr>
            <a:xfrm>
              <a:off x="6642000" y="4730760"/>
              <a:ext cx="34920" cy="3672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8" name=""/>
            <p:cNvSpPr/>
            <p:nvPr/>
          </p:nvSpPr>
          <p:spPr>
            <a:xfrm>
              <a:off x="5813280" y="4749840"/>
              <a:ext cx="376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9" name=""/>
            <p:cNvSpPr/>
            <p:nvPr/>
          </p:nvSpPr>
          <p:spPr>
            <a:xfrm flipV="1">
              <a:off x="6475320" y="4750920"/>
              <a:ext cx="438120" cy="3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5730840" y="4125960"/>
              <a:ext cx="2127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5772960" y="4167360"/>
              <a:ext cx="90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5068800" y="4668840"/>
              <a:ext cx="1443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4908600" y="4599000"/>
              <a:ext cx="2124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4919760" y="4559400"/>
              <a:ext cx="99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5" name=""/>
            <p:cNvSpPr/>
            <p:nvPr/>
          </p:nvSpPr>
          <p:spPr>
            <a:xfrm>
              <a:off x="5068800" y="4818240"/>
              <a:ext cx="1443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6" name=""/>
            <p:cNvSpPr/>
            <p:nvPr/>
          </p:nvSpPr>
          <p:spPr>
            <a:xfrm>
              <a:off x="4908600" y="4749840"/>
              <a:ext cx="2124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7" name=""/>
            <p:cNvSpPr/>
            <p:nvPr/>
          </p:nvSpPr>
          <p:spPr>
            <a:xfrm>
              <a:off x="4921920" y="4708440"/>
              <a:ext cx="96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8" name=""/>
            <p:cNvSpPr/>
            <p:nvPr/>
          </p:nvSpPr>
          <p:spPr>
            <a:xfrm>
              <a:off x="7729560" y="4629240"/>
              <a:ext cx="24588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9" name=""/>
            <p:cNvSpPr/>
            <p:nvPr/>
          </p:nvSpPr>
          <p:spPr>
            <a:xfrm>
              <a:off x="7746840" y="4589640"/>
              <a:ext cx="79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0" name=""/>
            <p:cNvSpPr/>
            <p:nvPr/>
          </p:nvSpPr>
          <p:spPr>
            <a:xfrm>
              <a:off x="5841720" y="4783320"/>
              <a:ext cx="32400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5858280" y="4743360"/>
              <a:ext cx="146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\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2" name=""/>
            <p:cNvSpPr/>
            <p:nvPr/>
          </p:nvSpPr>
          <p:spPr>
            <a:xfrm>
              <a:off x="4886280" y="5280120"/>
              <a:ext cx="337824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4842360" y="5340240"/>
              <a:ext cx="20199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insert inverters to eliminate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double bubbles on a wi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3717720" y="2828880"/>
              <a:ext cx="6840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2728800" y="4484880"/>
              <a:ext cx="68400" cy="712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1812960" y="5248440"/>
              <a:ext cx="18493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add double bubbles to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invert output of AND g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2931120" y="4540320"/>
              <a:ext cx="90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38" name=""/>
            <p:cNvGrpSpPr/>
            <p:nvPr/>
          </p:nvGrpSpPr>
          <p:grpSpPr>
            <a:xfrm>
              <a:off x="6183720" y="4618080"/>
              <a:ext cx="302760" cy="299520"/>
              <a:chOff x="6183720" y="4618080"/>
              <a:chExt cx="302760" cy="299520"/>
            </a:xfrm>
          </p:grpSpPr>
          <p:sp>
            <p:nvSpPr>
              <p:cNvPr id="3739" name=""/>
              <p:cNvSpPr/>
              <p:nvPr/>
            </p:nvSpPr>
            <p:spPr>
              <a:xfrm>
                <a:off x="6183720" y="4618080"/>
                <a:ext cx="242640" cy="133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0" name=""/>
              <p:cNvSpPr/>
              <p:nvPr/>
            </p:nvSpPr>
            <p:spPr>
              <a:xfrm flipV="1">
                <a:off x="6183720" y="4751280"/>
                <a:ext cx="242640" cy="1663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 flipH="1">
                <a:off x="6188760" y="4618080"/>
                <a:ext cx="1080" cy="2887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 rot="5400000">
                <a:off x="6428520" y="4724640"/>
                <a:ext cx="56880" cy="58680"/>
              </a:xfrm>
              <a:prstGeom prst="ellipse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43" name=""/>
            <p:cNvSpPr/>
            <p:nvPr/>
          </p:nvSpPr>
          <p:spPr>
            <a:xfrm>
              <a:off x="5952960" y="4443480"/>
              <a:ext cx="701640" cy="64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6081-588C-4A61-B338-BD4EDE29432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4" name=""/>
          <p:cNvGrpSpPr/>
          <p:nvPr/>
        </p:nvGrpSpPr>
        <p:grpSpPr>
          <a:xfrm>
            <a:off x="685800" y="5181480"/>
            <a:ext cx="3384720" cy="1143000"/>
            <a:chOff x="685800" y="5181480"/>
            <a:chExt cx="3384720" cy="1143000"/>
          </a:xfrm>
        </p:grpSpPr>
        <p:grpSp>
          <p:nvGrpSpPr>
            <p:cNvPr id="3745" name=""/>
            <p:cNvGrpSpPr/>
            <p:nvPr/>
          </p:nvGrpSpPr>
          <p:grpSpPr>
            <a:xfrm>
              <a:off x="3117960" y="5181480"/>
              <a:ext cx="825480" cy="1143000"/>
              <a:chOff x="3117960" y="5181480"/>
              <a:chExt cx="825480" cy="1143000"/>
            </a:xfrm>
          </p:grpSpPr>
          <p:sp>
            <p:nvSpPr>
              <p:cNvPr id="3746" name=""/>
              <p:cNvSpPr/>
              <p:nvPr/>
            </p:nvSpPr>
            <p:spPr>
              <a:xfrm>
                <a:off x="3130560" y="5181480"/>
                <a:ext cx="736560" cy="1143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>
                <a:off x="3130560" y="5181480"/>
                <a:ext cx="355680" cy="571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>
                <a:off x="3130560" y="5753160"/>
                <a:ext cx="355680" cy="571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>
                <a:off x="3187800" y="5315040"/>
                <a:ext cx="2667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&amp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>
                <a:off x="3175200" y="5886360"/>
                <a:ext cx="266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&amp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>
                <a:off x="3117960" y="562608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>
                <a:off x="3117960" y="588024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3" name=""/>
              <p:cNvSpPr/>
              <p:nvPr/>
            </p:nvSpPr>
            <p:spPr>
              <a:xfrm>
                <a:off x="3117960" y="61977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4" name=""/>
              <p:cNvSpPr/>
              <p:nvPr/>
            </p:nvSpPr>
            <p:spPr>
              <a:xfrm>
                <a:off x="3930840" y="57531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>
                <a:off x="3117960" y="53085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6" name=""/>
              <p:cNvSpPr/>
              <p:nvPr/>
            </p:nvSpPr>
            <p:spPr>
              <a:xfrm>
                <a:off x="3543480" y="5594400"/>
                <a:ext cx="2538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>
                <a:off x="3867120" y="572760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8" name=""/>
            <p:cNvSpPr/>
            <p:nvPr/>
          </p:nvSpPr>
          <p:spPr>
            <a:xfrm>
              <a:off x="3003480" y="53024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3003480" y="56199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3003480" y="58737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3003480" y="61912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2" name=""/>
            <p:cNvSpPr/>
            <p:nvPr/>
          </p:nvSpPr>
          <p:spPr>
            <a:xfrm>
              <a:off x="3956040" y="57466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3" name=""/>
            <p:cNvSpPr/>
            <p:nvPr/>
          </p:nvSpPr>
          <p:spPr>
            <a:xfrm>
              <a:off x="685800" y="5442120"/>
              <a:ext cx="22226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x2 AOI g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ymb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4" name=""/>
          <p:cNvGrpSpPr/>
          <p:nvPr/>
        </p:nvGrpSpPr>
        <p:grpSpPr>
          <a:xfrm>
            <a:off x="4927680" y="5181480"/>
            <a:ext cx="3498840" cy="1143000"/>
            <a:chOff x="4927680" y="5181480"/>
            <a:chExt cx="3498840" cy="1143000"/>
          </a:xfrm>
        </p:grpSpPr>
        <p:grpSp>
          <p:nvGrpSpPr>
            <p:cNvPr id="3765" name=""/>
            <p:cNvGrpSpPr/>
            <p:nvPr/>
          </p:nvGrpSpPr>
          <p:grpSpPr>
            <a:xfrm>
              <a:off x="7473960" y="5181480"/>
              <a:ext cx="825480" cy="1143000"/>
              <a:chOff x="7473960" y="5181480"/>
              <a:chExt cx="825480" cy="1143000"/>
            </a:xfrm>
          </p:grpSpPr>
          <p:sp>
            <p:nvSpPr>
              <p:cNvPr id="3766" name=""/>
              <p:cNvSpPr/>
              <p:nvPr/>
            </p:nvSpPr>
            <p:spPr>
              <a:xfrm>
                <a:off x="7486560" y="5181480"/>
                <a:ext cx="736920" cy="1143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7" name=""/>
              <p:cNvSpPr/>
              <p:nvPr/>
            </p:nvSpPr>
            <p:spPr>
              <a:xfrm>
                <a:off x="7486560" y="5181480"/>
                <a:ext cx="355680" cy="571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7486560" y="5753160"/>
                <a:ext cx="355680" cy="571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>
                <a:off x="7543800" y="5315040"/>
                <a:ext cx="2667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&amp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>
                <a:off x="7531200" y="5886360"/>
                <a:ext cx="2667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&amp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>
                <a:off x="7473960" y="562608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2" name=""/>
              <p:cNvSpPr/>
              <p:nvPr/>
            </p:nvSpPr>
            <p:spPr>
              <a:xfrm>
                <a:off x="7473960" y="588024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3" name=""/>
              <p:cNvSpPr/>
              <p:nvPr/>
            </p:nvSpPr>
            <p:spPr>
              <a:xfrm>
                <a:off x="7473960" y="61977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4" name=""/>
              <p:cNvSpPr/>
              <p:nvPr/>
            </p:nvSpPr>
            <p:spPr>
              <a:xfrm>
                <a:off x="8286840" y="57531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5" name=""/>
              <p:cNvSpPr/>
              <p:nvPr/>
            </p:nvSpPr>
            <p:spPr>
              <a:xfrm>
                <a:off x="7473960" y="53085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>
                <a:off x="7899480" y="5594400"/>
                <a:ext cx="2541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>
                <a:off x="8223480" y="572760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78" name=""/>
            <p:cNvSpPr/>
            <p:nvPr/>
          </p:nvSpPr>
          <p:spPr>
            <a:xfrm>
              <a:off x="7359840" y="53024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9" name=""/>
            <p:cNvSpPr/>
            <p:nvPr/>
          </p:nvSpPr>
          <p:spPr>
            <a:xfrm>
              <a:off x="7359840" y="56199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0" name=""/>
            <p:cNvSpPr/>
            <p:nvPr/>
          </p:nvSpPr>
          <p:spPr>
            <a:xfrm>
              <a:off x="7359840" y="58737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1" name=""/>
            <p:cNvSpPr/>
            <p:nvPr/>
          </p:nvSpPr>
          <p:spPr>
            <a:xfrm>
              <a:off x="7359840" y="61912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2" name=""/>
            <p:cNvSpPr/>
            <p:nvPr/>
          </p:nvSpPr>
          <p:spPr>
            <a:xfrm>
              <a:off x="8312040" y="57466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3" name=""/>
            <p:cNvSpPr/>
            <p:nvPr/>
          </p:nvSpPr>
          <p:spPr>
            <a:xfrm flipH="1">
              <a:off x="7333920" y="54673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4" name=""/>
            <p:cNvSpPr/>
            <p:nvPr/>
          </p:nvSpPr>
          <p:spPr>
            <a:xfrm flipH="1">
              <a:off x="7321680" y="603900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5" name=""/>
            <p:cNvSpPr/>
            <p:nvPr/>
          </p:nvSpPr>
          <p:spPr>
            <a:xfrm>
              <a:off x="4927680" y="5442120"/>
              <a:ext cx="22226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x2 AOI g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ymb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6" name=""/>
          <p:cNvGrpSpPr/>
          <p:nvPr/>
        </p:nvGrpSpPr>
        <p:grpSpPr>
          <a:xfrm>
            <a:off x="4876920" y="2685960"/>
            <a:ext cx="3301920" cy="2095560"/>
            <a:chOff x="4876920" y="2685960"/>
            <a:chExt cx="3301920" cy="2095560"/>
          </a:xfrm>
        </p:grpSpPr>
        <p:sp>
          <p:nvSpPr>
            <p:cNvPr id="3787" name=""/>
            <p:cNvSpPr/>
            <p:nvPr/>
          </p:nvSpPr>
          <p:spPr>
            <a:xfrm>
              <a:off x="5181840" y="4388040"/>
              <a:ext cx="19047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10922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AN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7213680" y="4362480"/>
              <a:ext cx="774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ve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5143680" y="2685960"/>
              <a:ext cx="28321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ossible implemen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5238720" y="320688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1" name=""/>
            <p:cNvSpPr/>
            <p:nvPr/>
          </p:nvSpPr>
          <p:spPr>
            <a:xfrm>
              <a:off x="5238720" y="366408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5232600" y="32130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5467680" y="3214800"/>
              <a:ext cx="43128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5467320" y="3187800"/>
              <a:ext cx="43164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5886360" y="3403800"/>
              <a:ext cx="7632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5238720" y="377820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5238720" y="423540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5232600" y="37846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9" name=""/>
            <p:cNvSpPr/>
            <p:nvPr/>
          </p:nvSpPr>
          <p:spPr>
            <a:xfrm>
              <a:off x="5467680" y="3786120"/>
              <a:ext cx="43128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5467320" y="3759480"/>
              <a:ext cx="43164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1" name=""/>
            <p:cNvSpPr/>
            <p:nvPr/>
          </p:nvSpPr>
          <p:spPr>
            <a:xfrm>
              <a:off x="5886360" y="3975120"/>
              <a:ext cx="763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5810760" y="3492720"/>
              <a:ext cx="125640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5810760" y="3519360"/>
              <a:ext cx="1256400" cy="44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6382440" y="3519360"/>
              <a:ext cx="12600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6407280" y="3517560"/>
              <a:ext cx="10116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6407280" y="3594240"/>
              <a:ext cx="8892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6407280" y="3784680"/>
              <a:ext cx="889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7321680" y="3530520"/>
              <a:ext cx="2538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9" name=""/>
            <p:cNvSpPr/>
            <p:nvPr/>
          </p:nvSpPr>
          <p:spPr>
            <a:xfrm flipV="1">
              <a:off x="7321680" y="3708000"/>
              <a:ext cx="25380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7315200" y="353052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7588440" y="3683160"/>
              <a:ext cx="7596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2" name=""/>
            <p:cNvSpPr/>
            <p:nvPr/>
          </p:nvSpPr>
          <p:spPr>
            <a:xfrm>
              <a:off x="5060880" y="33339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3" name=""/>
            <p:cNvSpPr/>
            <p:nvPr/>
          </p:nvSpPr>
          <p:spPr>
            <a:xfrm>
              <a:off x="4876920" y="3219480"/>
              <a:ext cx="24120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4" name=""/>
            <p:cNvSpPr/>
            <p:nvPr/>
          </p:nvSpPr>
          <p:spPr>
            <a:xfrm>
              <a:off x="5060880" y="35244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5" name=""/>
            <p:cNvSpPr/>
            <p:nvPr/>
          </p:nvSpPr>
          <p:spPr>
            <a:xfrm>
              <a:off x="4876920" y="3409920"/>
              <a:ext cx="24120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6" name=""/>
            <p:cNvSpPr/>
            <p:nvPr/>
          </p:nvSpPr>
          <p:spPr>
            <a:xfrm>
              <a:off x="5060880" y="39052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7" name=""/>
            <p:cNvSpPr/>
            <p:nvPr/>
          </p:nvSpPr>
          <p:spPr>
            <a:xfrm>
              <a:off x="4876920" y="3791160"/>
              <a:ext cx="24120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8" name=""/>
            <p:cNvSpPr/>
            <p:nvPr/>
          </p:nvSpPr>
          <p:spPr>
            <a:xfrm>
              <a:off x="5060880" y="40957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4876920" y="3981600"/>
              <a:ext cx="24120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5962680" y="34354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6229440" y="36259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6134040" y="344160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6140520" y="36259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5962680" y="40068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5" name=""/>
            <p:cNvSpPr/>
            <p:nvPr/>
          </p:nvSpPr>
          <p:spPr>
            <a:xfrm>
              <a:off x="6229440" y="38163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6140520" y="381636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7" name=""/>
            <p:cNvSpPr/>
            <p:nvPr/>
          </p:nvSpPr>
          <p:spPr>
            <a:xfrm>
              <a:off x="6134040" y="382284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8" name=""/>
            <p:cNvSpPr/>
            <p:nvPr/>
          </p:nvSpPr>
          <p:spPr>
            <a:xfrm>
              <a:off x="7080480" y="371484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7677360" y="371484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0" name=""/>
            <p:cNvSpPr/>
            <p:nvPr/>
          </p:nvSpPr>
          <p:spPr>
            <a:xfrm>
              <a:off x="7950240" y="3600360"/>
              <a:ext cx="22860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1" name=""/>
          <p:cNvGrpSpPr/>
          <p:nvPr/>
        </p:nvGrpSpPr>
        <p:grpSpPr>
          <a:xfrm>
            <a:off x="723960" y="2724120"/>
            <a:ext cx="3213000" cy="2070000"/>
            <a:chOff x="723960" y="2724120"/>
            <a:chExt cx="3213000" cy="2070000"/>
          </a:xfrm>
        </p:grpSpPr>
        <p:sp>
          <p:nvSpPr>
            <p:cNvPr id="3832" name=""/>
            <p:cNvSpPr/>
            <p:nvPr/>
          </p:nvSpPr>
          <p:spPr>
            <a:xfrm>
              <a:off x="1015920" y="4388040"/>
              <a:ext cx="6480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3" name=""/>
            <p:cNvSpPr/>
            <p:nvPr/>
          </p:nvSpPr>
          <p:spPr>
            <a:xfrm>
              <a:off x="2095560" y="4400640"/>
              <a:ext cx="15620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7873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R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ve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4" name=""/>
            <p:cNvSpPr/>
            <p:nvPr/>
          </p:nvSpPr>
          <p:spPr>
            <a:xfrm>
              <a:off x="1447920" y="2724120"/>
              <a:ext cx="1828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ogical concep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1085760" y="3206880"/>
              <a:ext cx="4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6" name=""/>
            <p:cNvSpPr/>
            <p:nvPr/>
          </p:nvSpPr>
          <p:spPr>
            <a:xfrm>
              <a:off x="1085760" y="366408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7" name=""/>
            <p:cNvSpPr/>
            <p:nvPr/>
          </p:nvSpPr>
          <p:spPr>
            <a:xfrm flipV="1">
              <a:off x="1079640" y="320004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1302120" y="3214800"/>
              <a:ext cx="41832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9" name=""/>
            <p:cNvSpPr/>
            <p:nvPr/>
          </p:nvSpPr>
          <p:spPr>
            <a:xfrm>
              <a:off x="1301760" y="3187800"/>
              <a:ext cx="41868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0" name=""/>
            <p:cNvSpPr/>
            <p:nvPr/>
          </p:nvSpPr>
          <p:spPr>
            <a:xfrm>
              <a:off x="1085760" y="3778200"/>
              <a:ext cx="4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1085760" y="423540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2" name=""/>
            <p:cNvSpPr/>
            <p:nvPr/>
          </p:nvSpPr>
          <p:spPr>
            <a:xfrm flipV="1">
              <a:off x="1079640" y="377172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1302120" y="3786120"/>
              <a:ext cx="41832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1301760" y="3759480"/>
              <a:ext cx="41868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2026080" y="3519360"/>
              <a:ext cx="20232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6" name=""/>
            <p:cNvSpPr/>
            <p:nvPr/>
          </p:nvSpPr>
          <p:spPr>
            <a:xfrm>
              <a:off x="1442160" y="3519360"/>
              <a:ext cx="1357920" cy="44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1517400" y="3492720"/>
              <a:ext cx="128268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8" name=""/>
            <p:cNvSpPr/>
            <p:nvPr/>
          </p:nvSpPr>
          <p:spPr>
            <a:xfrm>
              <a:off x="2025720" y="3492720"/>
              <a:ext cx="20268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9" name=""/>
            <p:cNvSpPr/>
            <p:nvPr/>
          </p:nvSpPr>
          <p:spPr>
            <a:xfrm>
              <a:off x="2165400" y="362592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0" name=""/>
            <p:cNvSpPr/>
            <p:nvPr/>
          </p:nvSpPr>
          <p:spPr>
            <a:xfrm>
              <a:off x="2165400" y="381636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1" name=""/>
            <p:cNvSpPr/>
            <p:nvPr/>
          </p:nvSpPr>
          <p:spPr>
            <a:xfrm>
              <a:off x="3067200" y="3530520"/>
              <a:ext cx="2538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2" name=""/>
            <p:cNvSpPr/>
            <p:nvPr/>
          </p:nvSpPr>
          <p:spPr>
            <a:xfrm flipV="1">
              <a:off x="3067200" y="3708000"/>
              <a:ext cx="25380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3" name=""/>
            <p:cNvSpPr/>
            <p:nvPr/>
          </p:nvSpPr>
          <p:spPr>
            <a:xfrm>
              <a:off x="3060720" y="353052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4" name=""/>
            <p:cNvSpPr/>
            <p:nvPr/>
          </p:nvSpPr>
          <p:spPr>
            <a:xfrm>
              <a:off x="3333960" y="368316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5" name=""/>
            <p:cNvSpPr/>
            <p:nvPr/>
          </p:nvSpPr>
          <p:spPr>
            <a:xfrm>
              <a:off x="1708200" y="34354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6" name=""/>
            <p:cNvSpPr/>
            <p:nvPr/>
          </p:nvSpPr>
          <p:spPr>
            <a:xfrm>
              <a:off x="1987560" y="36259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7" name=""/>
            <p:cNvSpPr/>
            <p:nvPr/>
          </p:nvSpPr>
          <p:spPr>
            <a:xfrm>
              <a:off x="1898640" y="36259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8" name=""/>
            <p:cNvSpPr/>
            <p:nvPr/>
          </p:nvSpPr>
          <p:spPr>
            <a:xfrm>
              <a:off x="1892520" y="344160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9" name=""/>
            <p:cNvSpPr/>
            <p:nvPr/>
          </p:nvSpPr>
          <p:spPr>
            <a:xfrm>
              <a:off x="1708200" y="40068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0" name=""/>
            <p:cNvSpPr/>
            <p:nvPr/>
          </p:nvSpPr>
          <p:spPr>
            <a:xfrm>
              <a:off x="1987560" y="38163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1" name=""/>
            <p:cNvSpPr/>
            <p:nvPr/>
          </p:nvSpPr>
          <p:spPr>
            <a:xfrm>
              <a:off x="1898640" y="381636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2" name=""/>
            <p:cNvSpPr/>
            <p:nvPr/>
          </p:nvSpPr>
          <p:spPr>
            <a:xfrm>
              <a:off x="1892520" y="382284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3" name=""/>
            <p:cNvSpPr/>
            <p:nvPr/>
          </p:nvSpPr>
          <p:spPr>
            <a:xfrm>
              <a:off x="2800440" y="371484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4" name=""/>
            <p:cNvSpPr/>
            <p:nvPr/>
          </p:nvSpPr>
          <p:spPr>
            <a:xfrm>
              <a:off x="2889360" y="371484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5" name=""/>
            <p:cNvSpPr/>
            <p:nvPr/>
          </p:nvSpPr>
          <p:spPr>
            <a:xfrm>
              <a:off x="895320" y="33339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6" name=""/>
            <p:cNvSpPr/>
            <p:nvPr/>
          </p:nvSpPr>
          <p:spPr>
            <a:xfrm>
              <a:off x="723960" y="3219480"/>
              <a:ext cx="24120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7" name=""/>
            <p:cNvSpPr/>
            <p:nvPr/>
          </p:nvSpPr>
          <p:spPr>
            <a:xfrm>
              <a:off x="895320" y="35244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8" name=""/>
            <p:cNvSpPr/>
            <p:nvPr/>
          </p:nvSpPr>
          <p:spPr>
            <a:xfrm>
              <a:off x="723960" y="3409920"/>
              <a:ext cx="24120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9" name=""/>
            <p:cNvSpPr/>
            <p:nvPr/>
          </p:nvSpPr>
          <p:spPr>
            <a:xfrm>
              <a:off x="895320" y="39052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0" name=""/>
            <p:cNvSpPr/>
            <p:nvPr/>
          </p:nvSpPr>
          <p:spPr>
            <a:xfrm>
              <a:off x="723960" y="3791160"/>
              <a:ext cx="24120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1" name=""/>
            <p:cNvSpPr/>
            <p:nvPr/>
          </p:nvSpPr>
          <p:spPr>
            <a:xfrm>
              <a:off x="895320" y="40957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2" name=""/>
            <p:cNvSpPr/>
            <p:nvPr/>
          </p:nvSpPr>
          <p:spPr>
            <a:xfrm>
              <a:off x="723960" y="3981600"/>
              <a:ext cx="24120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3" name=""/>
            <p:cNvSpPr/>
            <p:nvPr/>
          </p:nvSpPr>
          <p:spPr>
            <a:xfrm>
              <a:off x="3435480" y="371484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4" name=""/>
            <p:cNvSpPr/>
            <p:nvPr/>
          </p:nvSpPr>
          <p:spPr>
            <a:xfrm>
              <a:off x="3708360" y="3600360"/>
              <a:ext cx="22860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ND-OR-invert gat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7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OI function:  three stages of logic —  AND, OR, Inve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gates "packaged" as a single circuit 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4AB1-0F62-4ADB-9F1E-CB4D037D584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7" name=""/>
          <p:cNvGrpSpPr/>
          <p:nvPr/>
        </p:nvGrpSpPr>
        <p:grpSpPr>
          <a:xfrm>
            <a:off x="4648320" y="4102200"/>
            <a:ext cx="2514600" cy="1307880"/>
            <a:chOff x="4648320" y="4102200"/>
            <a:chExt cx="2514600" cy="1307880"/>
          </a:xfrm>
        </p:grpSpPr>
        <p:grpSp>
          <p:nvGrpSpPr>
            <p:cNvPr id="3878" name=""/>
            <p:cNvGrpSpPr/>
            <p:nvPr/>
          </p:nvGrpSpPr>
          <p:grpSpPr>
            <a:xfrm>
              <a:off x="5505480" y="4159080"/>
              <a:ext cx="825480" cy="1143000"/>
              <a:chOff x="5505480" y="4159080"/>
              <a:chExt cx="825480" cy="1143000"/>
            </a:xfrm>
          </p:grpSpPr>
          <p:sp>
            <p:nvSpPr>
              <p:cNvPr id="3879" name=""/>
              <p:cNvSpPr/>
              <p:nvPr/>
            </p:nvSpPr>
            <p:spPr>
              <a:xfrm>
                <a:off x="5518080" y="4159080"/>
                <a:ext cx="736560" cy="1143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0" name=""/>
              <p:cNvSpPr/>
              <p:nvPr/>
            </p:nvSpPr>
            <p:spPr>
              <a:xfrm>
                <a:off x="5518080" y="4159080"/>
                <a:ext cx="355680" cy="571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1" name=""/>
              <p:cNvSpPr/>
              <p:nvPr/>
            </p:nvSpPr>
            <p:spPr>
              <a:xfrm>
                <a:off x="5518080" y="4730760"/>
                <a:ext cx="355680" cy="571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2" name=""/>
              <p:cNvSpPr/>
              <p:nvPr/>
            </p:nvSpPr>
            <p:spPr>
              <a:xfrm>
                <a:off x="5575320" y="4292640"/>
                <a:ext cx="2667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&amp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3" name=""/>
              <p:cNvSpPr/>
              <p:nvPr/>
            </p:nvSpPr>
            <p:spPr>
              <a:xfrm>
                <a:off x="5562720" y="4863960"/>
                <a:ext cx="2667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&amp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4" name=""/>
              <p:cNvSpPr/>
              <p:nvPr/>
            </p:nvSpPr>
            <p:spPr>
              <a:xfrm>
                <a:off x="5505480" y="460368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5" name=""/>
              <p:cNvSpPr/>
              <p:nvPr/>
            </p:nvSpPr>
            <p:spPr>
              <a:xfrm>
                <a:off x="5505480" y="485784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6" name=""/>
              <p:cNvSpPr/>
              <p:nvPr/>
            </p:nvSpPr>
            <p:spPr>
              <a:xfrm>
                <a:off x="5505480" y="51753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7" name=""/>
              <p:cNvSpPr/>
              <p:nvPr/>
            </p:nvSpPr>
            <p:spPr>
              <a:xfrm>
                <a:off x="6318360" y="47307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8" name=""/>
              <p:cNvSpPr/>
              <p:nvPr/>
            </p:nvSpPr>
            <p:spPr>
              <a:xfrm>
                <a:off x="5505480" y="4286160"/>
                <a:ext cx="12600" cy="12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9" name=""/>
              <p:cNvSpPr/>
              <p:nvPr/>
            </p:nvSpPr>
            <p:spPr>
              <a:xfrm>
                <a:off x="5931000" y="4572000"/>
                <a:ext cx="2538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0" name=""/>
              <p:cNvSpPr/>
              <p:nvPr/>
            </p:nvSpPr>
            <p:spPr>
              <a:xfrm>
                <a:off x="6254640" y="4705200"/>
                <a:ext cx="50760" cy="51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91" name=""/>
            <p:cNvSpPr/>
            <p:nvPr/>
          </p:nvSpPr>
          <p:spPr>
            <a:xfrm>
              <a:off x="5391000" y="42800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2" name=""/>
            <p:cNvSpPr/>
            <p:nvPr/>
          </p:nvSpPr>
          <p:spPr>
            <a:xfrm>
              <a:off x="5391000" y="45975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3" name=""/>
            <p:cNvSpPr/>
            <p:nvPr/>
          </p:nvSpPr>
          <p:spPr>
            <a:xfrm>
              <a:off x="5391000" y="48513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4" name=""/>
            <p:cNvSpPr/>
            <p:nvPr/>
          </p:nvSpPr>
          <p:spPr>
            <a:xfrm>
              <a:off x="5391000" y="51688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5" name=""/>
            <p:cNvSpPr/>
            <p:nvPr/>
          </p:nvSpPr>
          <p:spPr>
            <a:xfrm>
              <a:off x="6343560" y="47242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6" name=""/>
            <p:cNvSpPr/>
            <p:nvPr/>
          </p:nvSpPr>
          <p:spPr>
            <a:xfrm>
              <a:off x="4648320" y="4102200"/>
              <a:ext cx="6220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7" name=""/>
            <p:cNvSpPr/>
            <p:nvPr/>
          </p:nvSpPr>
          <p:spPr>
            <a:xfrm>
              <a:off x="4648320" y="4419720"/>
              <a:ext cx="6220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8" name=""/>
            <p:cNvSpPr/>
            <p:nvPr/>
          </p:nvSpPr>
          <p:spPr>
            <a:xfrm>
              <a:off x="4660920" y="4686480"/>
              <a:ext cx="5842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9" name=""/>
            <p:cNvSpPr/>
            <p:nvPr/>
          </p:nvSpPr>
          <p:spPr>
            <a:xfrm>
              <a:off x="4660920" y="5003640"/>
              <a:ext cx="5842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0" name=""/>
            <p:cNvSpPr/>
            <p:nvPr/>
          </p:nvSpPr>
          <p:spPr>
            <a:xfrm>
              <a:off x="6591240" y="4559400"/>
              <a:ext cx="571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nversion to AOI for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0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l procedure to place in AOI fo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the complement of the function in sum-of-products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grouping the 0s in the Karnaugh 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 XOR imple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xor B = A’ B  +  A 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OI for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= (A’ B’  +  A B)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A539-2569-4B93-A229-E988990361C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457200" y="2514600"/>
            <a:ext cx="6908760" cy="2895480"/>
            <a:chOff x="457200" y="2514600"/>
            <a:chExt cx="6908760" cy="2895480"/>
          </a:xfrm>
        </p:grpSpPr>
        <p:grpSp>
          <p:nvGrpSpPr>
            <p:cNvPr id="120" name=""/>
            <p:cNvGrpSpPr/>
            <p:nvPr/>
          </p:nvGrpSpPr>
          <p:grpSpPr>
            <a:xfrm>
              <a:off x="2387520" y="2895480"/>
              <a:ext cx="918720" cy="419400"/>
              <a:chOff x="2387520" y="2895480"/>
              <a:chExt cx="918720" cy="419400"/>
            </a:xfrm>
          </p:grpSpPr>
          <p:sp>
            <p:nvSpPr>
              <p:cNvPr id="121" name=""/>
              <p:cNvSpPr/>
              <p:nvPr/>
            </p:nvSpPr>
            <p:spPr>
              <a:xfrm>
                <a:off x="2387520" y="2928960"/>
                <a:ext cx="758520" cy="35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839680" y="2895480"/>
                <a:ext cx="466560" cy="41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457200" y="2903400"/>
              <a:ext cx="918720" cy="419400"/>
              <a:chOff x="457200" y="2903400"/>
              <a:chExt cx="918720" cy="419400"/>
            </a:xfrm>
          </p:grpSpPr>
          <p:sp>
            <p:nvSpPr>
              <p:cNvPr id="124" name=""/>
              <p:cNvSpPr/>
              <p:nvPr/>
            </p:nvSpPr>
            <p:spPr>
              <a:xfrm flipH="1">
                <a:off x="617040" y="2936880"/>
                <a:ext cx="758520" cy="35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457200" y="2903400"/>
                <a:ext cx="466560" cy="41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1473120" y="4876920"/>
              <a:ext cx="58928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999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' B' D  +  A' C  +  B' C 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90720" y="2971800"/>
              <a:ext cx="761760" cy="762120"/>
            </a:xfrm>
            <a:custGeom>
              <a:avLst/>
              <a:gdLst>
                <a:gd name="textAreaLeft" fmla="*/ 37080 w 761760"/>
                <a:gd name="textAreaRight" fmla="*/ 724680 w 761760"/>
                <a:gd name="textAreaTop" fmla="*/ 37080 h 762120"/>
                <a:gd name="textAreaBottom" fmla="*/ 725040 h 762120"/>
              </a:gdLst>
              <a:ahLst/>
              <a:rect l="textAreaLeft" t="textAreaTop" r="textAreaRight" b="textAreaBottom"/>
              <a:pathLst>
                <a:path w="21600" h="21610">
                  <a:moveTo>
                    <a:pt x="3600" y="0"/>
                  </a:moveTo>
                  <a:arcTo wR="3600" hR="3600" stAng="16200000" swAng="-5400000"/>
                  <a:lnTo>
                    <a:pt x="0" y="18010"/>
                  </a:lnTo>
                  <a:arcTo wR="3600" hR="3600" stAng="10800000" swAng="-5400000"/>
                  <a:lnTo>
                    <a:pt x="18000" y="216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066680" y="2514600"/>
              <a:ext cx="304920" cy="76212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762120"/>
                <a:gd name="textAreaBottom" fmla="*/ 747360 h 762120"/>
              </a:gdLst>
              <a:ahLst/>
              <a:rect l="textAreaLeft" t="textAreaTop" r="textAreaRight" b="textAreaBottom"/>
              <a:pathLst>
                <a:path w="21600" h="53949">
                  <a:moveTo>
                    <a:pt x="3600" y="0"/>
                  </a:moveTo>
                  <a:arcTo wR="3600" hR="3600" stAng="16200000" swAng="-5400000"/>
                  <a:lnTo>
                    <a:pt x="0" y="50349"/>
                  </a:lnTo>
                  <a:arcTo wR="3600" hR="3600" stAng="10800000" swAng="-5400000"/>
                  <a:lnTo>
                    <a:pt x="18000" y="539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1473120" y="1494000"/>
            <a:ext cx="6908760" cy="4678200"/>
            <a:chOff x="1473120" y="1494000"/>
            <a:chExt cx="6908760" cy="4678200"/>
          </a:xfrm>
        </p:grpSpPr>
        <p:grpSp>
          <p:nvGrpSpPr>
            <p:cNvPr id="130" name=""/>
            <p:cNvGrpSpPr/>
            <p:nvPr/>
          </p:nvGrpSpPr>
          <p:grpSpPr>
            <a:xfrm>
              <a:off x="7543800" y="1494000"/>
              <a:ext cx="426960" cy="2849040"/>
              <a:chOff x="7543800" y="1494000"/>
              <a:chExt cx="426960" cy="2849040"/>
            </a:xfrm>
          </p:grpSpPr>
          <p:grpSp>
            <p:nvGrpSpPr>
              <p:cNvPr id="131" name=""/>
              <p:cNvGrpSpPr/>
              <p:nvPr/>
            </p:nvGrpSpPr>
            <p:grpSpPr>
              <a:xfrm>
                <a:off x="7543800" y="1494000"/>
                <a:ext cx="419040" cy="918720"/>
                <a:chOff x="7543800" y="1494000"/>
                <a:chExt cx="419040" cy="918720"/>
              </a:xfrm>
            </p:grpSpPr>
            <p:sp>
              <p:nvSpPr>
                <p:cNvPr id="132" name=""/>
                <p:cNvSpPr/>
                <p:nvPr/>
              </p:nvSpPr>
              <p:spPr>
                <a:xfrm rot="16200000">
                  <a:off x="7375320" y="1855800"/>
                  <a:ext cx="758520" cy="35532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16200000">
                  <a:off x="7520040" y="1517760"/>
                  <a:ext cx="466560" cy="419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7551720" y="3424320"/>
                <a:ext cx="419040" cy="918720"/>
                <a:chOff x="7551720" y="3424320"/>
                <a:chExt cx="419040" cy="918720"/>
              </a:xfrm>
            </p:grpSpPr>
            <p:sp>
              <p:nvSpPr>
                <p:cNvPr id="135" name=""/>
                <p:cNvSpPr/>
                <p:nvPr/>
              </p:nvSpPr>
              <p:spPr>
                <a:xfrm flipH="1" rot="16200000">
                  <a:off x="7382880" y="3625920"/>
                  <a:ext cx="758520" cy="35532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flipH="1" rot="16200000">
                  <a:off x="7527960" y="3900240"/>
                  <a:ext cx="466560" cy="419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7" name=""/>
            <p:cNvSpPr/>
            <p:nvPr/>
          </p:nvSpPr>
          <p:spPr>
            <a:xfrm>
              <a:off x="1473120" y="5638680"/>
              <a:ext cx="58928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999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 C' D'  +  A C'  +  A B D'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620120" y="2057400"/>
              <a:ext cx="761760" cy="762120"/>
            </a:xfrm>
            <a:custGeom>
              <a:avLst/>
              <a:gdLst>
                <a:gd name="textAreaLeft" fmla="*/ 37080 w 761760"/>
                <a:gd name="textAreaRight" fmla="*/ 724680 w 761760"/>
                <a:gd name="textAreaTop" fmla="*/ 37080 h 762120"/>
                <a:gd name="textAreaBottom" fmla="*/ 725040 h 762120"/>
              </a:gdLst>
              <a:ahLst/>
              <a:rect l="textAreaLeft" t="textAreaTop" r="textAreaRight" b="textAreaBottom"/>
              <a:pathLst>
                <a:path w="21600" h="21610">
                  <a:moveTo>
                    <a:pt x="3600" y="0"/>
                  </a:moveTo>
                  <a:arcTo wR="3600" hR="3600" stAng="16200000" swAng="-5400000"/>
                  <a:lnTo>
                    <a:pt x="0" y="18010"/>
                  </a:lnTo>
                  <a:arcTo wR="3600" hR="3600" stAng="10800000" swAng="-5400000"/>
                  <a:lnTo>
                    <a:pt x="18000" y="216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16200000">
              <a:off x="7315200" y="1828440"/>
              <a:ext cx="304920" cy="76212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762120"/>
                <a:gd name="textAreaBottom" fmla="*/ 747360 h 762120"/>
              </a:gdLst>
              <a:ahLst/>
              <a:rect l="textAreaLeft" t="textAreaTop" r="textAreaRight" b="textAreaBottom"/>
              <a:pathLst>
                <a:path w="21600" h="53949">
                  <a:moveTo>
                    <a:pt x="3600" y="0"/>
                  </a:moveTo>
                  <a:arcTo wR="3600" hR="3600" stAng="16200000" swAng="-5400000"/>
                  <a:lnTo>
                    <a:pt x="0" y="50349"/>
                  </a:lnTo>
                  <a:arcTo wR="3600" hR="3600" stAng="10800000" swAng="-5400000"/>
                  <a:lnTo>
                    <a:pt x="18000" y="539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533520" y="4863960"/>
            <a:ext cx="88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999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999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Q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999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9880" y="4152960"/>
            <a:ext cx="18288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-map for E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90720" y="4152960"/>
            <a:ext cx="177804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-map for 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29400" y="4152960"/>
            <a:ext cx="18288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-map for G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sign example: two-bit comparator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684720" y="1749600"/>
            <a:ext cx="2760120" cy="2364840"/>
            <a:chOff x="684720" y="1749600"/>
            <a:chExt cx="2760120" cy="2364840"/>
          </a:xfrm>
        </p:grpSpPr>
        <p:sp>
          <p:nvSpPr>
            <p:cNvPr id="146" name=""/>
            <p:cNvSpPr/>
            <p:nvPr/>
          </p:nvSpPr>
          <p:spPr>
            <a:xfrm>
              <a:off x="1138320" y="207000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048040" y="206856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78120" y="197784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325960" y="198108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1868760" y="24289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78120" y="19778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95760" y="241452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860920" y="2703600"/>
              <a:ext cx="58392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84560" y="17496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63720" y="197784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11560" y="198108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954360" y="24289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30400" y="300816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40120" y="300672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878120" y="289548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25960" y="289872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868760" y="33465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411560" y="38098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963720" y="288432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817640" y="3784680"/>
              <a:ext cx="58428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63720" y="289548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11560" y="289872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954360" y="33465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4720" y="318780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3504240" y="1749600"/>
            <a:ext cx="2760120" cy="2364840"/>
            <a:chOff x="3504240" y="1749600"/>
            <a:chExt cx="2760120" cy="2364840"/>
          </a:xfrm>
        </p:grpSpPr>
        <p:sp>
          <p:nvSpPr>
            <p:cNvPr id="171" name=""/>
            <p:cNvSpPr/>
            <p:nvPr/>
          </p:nvSpPr>
          <p:spPr>
            <a:xfrm>
              <a:off x="3957840" y="207000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67560" y="206856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697640" y="197784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145480" y="198108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4688280" y="24289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697640" y="19778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615280" y="241452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680440" y="2703600"/>
              <a:ext cx="58392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104080" y="17496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783240" y="197784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231080" y="198108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3773880" y="24289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949920" y="300816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59640" y="300672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697640" y="289548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145480" y="289872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4688280" y="33465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231080" y="38098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783240" y="288432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637160" y="3784680"/>
              <a:ext cx="58428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783240" y="289548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231080" y="289872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3773880" y="33465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04240" y="318780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6777000" y="2070000"/>
            <a:ext cx="8254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86720" y="2068560"/>
            <a:ext cx="8254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516800" y="197820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964640" y="19810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7507440" y="24289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16800" y="19782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434440" y="2414520"/>
            <a:ext cx="0" cy="90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499600" y="2703600"/>
            <a:ext cx="5839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923240" y="1749600"/>
            <a:ext cx="584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602400" y="197820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50240" y="19810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593040" y="24289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769080" y="3008160"/>
            <a:ext cx="8254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678800" y="3006720"/>
            <a:ext cx="8254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516800" y="289548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964640" y="28987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507440" y="334656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50240" y="38098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602400" y="2884320"/>
            <a:ext cx="0" cy="925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456320" y="3784680"/>
            <a:ext cx="584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602400" y="289548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50240" y="28987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6593040" y="334656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323400" y="3187800"/>
            <a:ext cx="3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400800" y="5257800"/>
            <a:ext cx="264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(A xnor C) • (B xnor 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752480" y="6095880"/>
            <a:ext cx="5892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999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T and GT are similar (flip A/C and B/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473120" y="2057400"/>
            <a:ext cx="4927680" cy="3657600"/>
            <a:chOff x="1473120" y="2057400"/>
            <a:chExt cx="4927680" cy="3657600"/>
          </a:xfrm>
        </p:grpSpPr>
        <p:sp>
          <p:nvSpPr>
            <p:cNvPr id="222" name=""/>
            <p:cNvSpPr/>
            <p:nvPr/>
          </p:nvSpPr>
          <p:spPr>
            <a:xfrm>
              <a:off x="1473120" y="5257800"/>
              <a:ext cx="4927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999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' B' C' D'  +  A' B C' D  +  A B C D  +  A B' C D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09880" y="2057400"/>
              <a:ext cx="304920" cy="3049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267080" y="2514600"/>
              <a:ext cx="304920" cy="3049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724280" y="2971800"/>
              <a:ext cx="304920" cy="3049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181480" y="3429000"/>
              <a:ext cx="304920" cy="3049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A776-7AF7-4269-A5D3-CC7CAED427D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3" name=""/>
          <p:cNvSpPr/>
          <p:nvPr/>
        </p:nvSpPr>
        <p:spPr>
          <a:xfrm>
            <a:off x="2971800" y="6184800"/>
            <a:ext cx="4622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implemented in a single 2x2 AOI g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4" name=""/>
          <p:cNvSpPr/>
          <p:nvPr/>
        </p:nvSpPr>
        <p:spPr>
          <a:xfrm flipH="1" flipV="1">
            <a:off x="2508120" y="5521320"/>
            <a:ext cx="1301760" cy="65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5" name=""/>
          <p:cNvSpPr/>
          <p:nvPr/>
        </p:nvSpPr>
        <p:spPr>
          <a:xfrm flipV="1">
            <a:off x="3809880" y="5555880"/>
            <a:ext cx="462240" cy="61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6" name=""/>
          <p:cNvSpPr/>
          <p:nvPr/>
        </p:nvSpPr>
        <p:spPr>
          <a:xfrm flipV="1">
            <a:off x="3809880" y="5545080"/>
            <a:ext cx="2214720" cy="62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7" name=""/>
          <p:cNvSpPr/>
          <p:nvPr/>
        </p:nvSpPr>
        <p:spPr>
          <a:xfrm flipV="1">
            <a:off x="3809880" y="5568840"/>
            <a:ext cx="3954600" cy="60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s of using AOI gat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09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45172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A B + A C’ + B 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(A’ B’ + A’ C + B’ C)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ed by 2-input 3-stack AOI gat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(A + B) (A + C’) (B + C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[(A’ + B’) (A’ + C) (B’ + C)]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ed by 2-input 3-stack OAI gat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4-bit equality fun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= (A0 B0 + A0’ B0’)(A1 B1 + A1’ B1’)(A2 B2 + A2’ B2’)(A3 B3 + A3’ B3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18B3-E272-4670-8008-9B6189B6287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0" name=""/>
          <p:cNvSpPr/>
          <p:nvPr/>
        </p:nvSpPr>
        <p:spPr>
          <a:xfrm>
            <a:off x="5283360" y="2203560"/>
            <a:ext cx="1841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igh if A0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B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w   if A0 = 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1" name=""/>
          <p:cNvSpPr/>
          <p:nvPr/>
        </p:nvSpPr>
        <p:spPr>
          <a:xfrm>
            <a:off x="5270400" y="4705200"/>
            <a:ext cx="34927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f all inputs are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n Ai = Bi, i=0,...,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 Z is hi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2" name=""/>
          <p:cNvSpPr/>
          <p:nvPr/>
        </p:nvSpPr>
        <p:spPr>
          <a:xfrm>
            <a:off x="4648320" y="3498840"/>
            <a:ext cx="2832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servation of bub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3" name=""/>
          <p:cNvSpPr/>
          <p:nvPr/>
        </p:nvSpPr>
        <p:spPr>
          <a:xfrm flipH="1" flipV="1">
            <a:off x="2889360" y="2869920"/>
            <a:ext cx="1676160" cy="787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4" name=""/>
          <p:cNvSpPr/>
          <p:nvPr/>
        </p:nvSpPr>
        <p:spPr>
          <a:xfrm flipH="1">
            <a:off x="3282480" y="3657600"/>
            <a:ext cx="1295640" cy="44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5" name=""/>
          <p:cNvSpPr/>
          <p:nvPr/>
        </p:nvSpPr>
        <p:spPr>
          <a:xfrm flipH="1">
            <a:off x="2813040" y="2400480"/>
            <a:ext cx="2425680" cy="88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6" name=""/>
          <p:cNvSpPr/>
          <p:nvPr/>
        </p:nvSpPr>
        <p:spPr>
          <a:xfrm flipH="1" flipV="1">
            <a:off x="3765600" y="4546440"/>
            <a:ext cx="1511280" cy="330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7" name=""/>
          <p:cNvGrpSpPr/>
          <p:nvPr/>
        </p:nvGrpSpPr>
        <p:grpSpPr>
          <a:xfrm>
            <a:off x="774720" y="2355840"/>
            <a:ext cx="3695760" cy="4121280"/>
            <a:chOff x="774720" y="2355840"/>
            <a:chExt cx="3695760" cy="4121280"/>
          </a:xfrm>
        </p:grpSpPr>
        <p:sp>
          <p:nvSpPr>
            <p:cNvPr id="3918" name=""/>
            <p:cNvSpPr/>
            <p:nvPr/>
          </p:nvSpPr>
          <p:spPr>
            <a:xfrm>
              <a:off x="774720" y="2355840"/>
              <a:ext cx="57132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9" name=""/>
            <p:cNvSpPr/>
            <p:nvPr/>
          </p:nvSpPr>
          <p:spPr>
            <a:xfrm>
              <a:off x="774720" y="3422520"/>
              <a:ext cx="57132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0" name=""/>
            <p:cNvSpPr/>
            <p:nvPr/>
          </p:nvSpPr>
          <p:spPr>
            <a:xfrm>
              <a:off x="774720" y="4502160"/>
              <a:ext cx="57132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1" name=""/>
            <p:cNvSpPr/>
            <p:nvPr/>
          </p:nvSpPr>
          <p:spPr>
            <a:xfrm>
              <a:off x="774720" y="5581800"/>
              <a:ext cx="5713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2" name=""/>
            <p:cNvSpPr/>
            <p:nvPr/>
          </p:nvSpPr>
          <p:spPr>
            <a:xfrm>
              <a:off x="3244680" y="423540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3" name=""/>
            <p:cNvSpPr/>
            <p:nvPr/>
          </p:nvSpPr>
          <p:spPr>
            <a:xfrm>
              <a:off x="3244680" y="459108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4" name=""/>
            <p:cNvSpPr/>
            <p:nvPr/>
          </p:nvSpPr>
          <p:spPr>
            <a:xfrm>
              <a:off x="3238560" y="4241880"/>
              <a:ext cx="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5" name=""/>
            <p:cNvSpPr/>
            <p:nvPr/>
          </p:nvSpPr>
          <p:spPr>
            <a:xfrm>
              <a:off x="3454560" y="4249800"/>
              <a:ext cx="32976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6" name=""/>
            <p:cNvSpPr/>
            <p:nvPr/>
          </p:nvSpPr>
          <p:spPr>
            <a:xfrm>
              <a:off x="3435480" y="4243320"/>
              <a:ext cx="354960" cy="3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7" name=""/>
            <p:cNvSpPr/>
            <p:nvPr/>
          </p:nvSpPr>
          <p:spPr>
            <a:xfrm>
              <a:off x="3454200" y="4235400"/>
              <a:ext cx="33012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8" name=""/>
            <p:cNvSpPr/>
            <p:nvPr/>
          </p:nvSpPr>
          <p:spPr>
            <a:xfrm>
              <a:off x="3435120" y="4215960"/>
              <a:ext cx="35532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9" name=""/>
            <p:cNvSpPr/>
            <p:nvPr/>
          </p:nvSpPr>
          <p:spPr>
            <a:xfrm>
              <a:off x="3797280" y="4400640"/>
              <a:ext cx="50760" cy="38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0" name=""/>
            <p:cNvSpPr/>
            <p:nvPr/>
          </p:nvSpPr>
          <p:spPr>
            <a:xfrm>
              <a:off x="3238560" y="41148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1" name=""/>
            <p:cNvSpPr/>
            <p:nvPr/>
          </p:nvSpPr>
          <p:spPr>
            <a:xfrm>
              <a:off x="3238560" y="45975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2" name=""/>
            <p:cNvSpPr/>
            <p:nvPr/>
          </p:nvSpPr>
          <p:spPr>
            <a:xfrm>
              <a:off x="3168720" y="4610160"/>
              <a:ext cx="633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3" name=""/>
            <p:cNvSpPr/>
            <p:nvPr/>
          </p:nvSpPr>
          <p:spPr>
            <a:xfrm>
              <a:off x="3168720" y="4457520"/>
              <a:ext cx="63360" cy="63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3168720" y="4317840"/>
              <a:ext cx="633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5" name=""/>
            <p:cNvSpPr/>
            <p:nvPr/>
          </p:nvSpPr>
          <p:spPr>
            <a:xfrm>
              <a:off x="3168720" y="4165560"/>
              <a:ext cx="633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6" name=""/>
            <p:cNvSpPr/>
            <p:nvPr/>
          </p:nvSpPr>
          <p:spPr>
            <a:xfrm>
              <a:off x="1873080" y="556272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7" name=""/>
            <p:cNvSpPr/>
            <p:nvPr/>
          </p:nvSpPr>
          <p:spPr>
            <a:xfrm>
              <a:off x="2330280" y="5562720"/>
              <a:ext cx="457200" cy="914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8" name=""/>
            <p:cNvSpPr/>
            <p:nvPr/>
          </p:nvSpPr>
          <p:spPr>
            <a:xfrm>
              <a:off x="1873080" y="601992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9" name=""/>
            <p:cNvSpPr/>
            <p:nvPr/>
          </p:nvSpPr>
          <p:spPr>
            <a:xfrm>
              <a:off x="1968480" y="5670720"/>
              <a:ext cx="3301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1968480" y="6127920"/>
              <a:ext cx="3301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1" name=""/>
            <p:cNvSpPr/>
            <p:nvPr/>
          </p:nvSpPr>
          <p:spPr>
            <a:xfrm>
              <a:off x="2425680" y="5899320"/>
              <a:ext cx="291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2" name=""/>
            <p:cNvSpPr/>
            <p:nvPr/>
          </p:nvSpPr>
          <p:spPr>
            <a:xfrm>
              <a:off x="1797120" y="5676840"/>
              <a:ext cx="63360" cy="63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3" name=""/>
            <p:cNvSpPr/>
            <p:nvPr/>
          </p:nvSpPr>
          <p:spPr>
            <a:xfrm>
              <a:off x="1797120" y="5829120"/>
              <a:ext cx="63360" cy="63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4" name=""/>
            <p:cNvSpPr/>
            <p:nvPr/>
          </p:nvSpPr>
          <p:spPr>
            <a:xfrm>
              <a:off x="2800440" y="5981760"/>
              <a:ext cx="633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5" name=""/>
            <p:cNvSpPr/>
            <p:nvPr/>
          </p:nvSpPr>
          <p:spPr>
            <a:xfrm>
              <a:off x="1873080" y="449568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6" name=""/>
            <p:cNvSpPr/>
            <p:nvPr/>
          </p:nvSpPr>
          <p:spPr>
            <a:xfrm>
              <a:off x="2330280" y="4495680"/>
              <a:ext cx="457200" cy="914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7" name=""/>
            <p:cNvSpPr/>
            <p:nvPr/>
          </p:nvSpPr>
          <p:spPr>
            <a:xfrm>
              <a:off x="1873080" y="495288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8" name=""/>
            <p:cNvSpPr/>
            <p:nvPr/>
          </p:nvSpPr>
          <p:spPr>
            <a:xfrm>
              <a:off x="1968480" y="4603680"/>
              <a:ext cx="3301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9" name=""/>
            <p:cNvSpPr/>
            <p:nvPr/>
          </p:nvSpPr>
          <p:spPr>
            <a:xfrm>
              <a:off x="1968480" y="5060880"/>
              <a:ext cx="3301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0" name=""/>
            <p:cNvSpPr/>
            <p:nvPr/>
          </p:nvSpPr>
          <p:spPr>
            <a:xfrm>
              <a:off x="2425680" y="4832280"/>
              <a:ext cx="291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1" name=""/>
            <p:cNvSpPr/>
            <p:nvPr/>
          </p:nvSpPr>
          <p:spPr>
            <a:xfrm>
              <a:off x="1797120" y="4610160"/>
              <a:ext cx="633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2" name=""/>
            <p:cNvSpPr/>
            <p:nvPr/>
          </p:nvSpPr>
          <p:spPr>
            <a:xfrm>
              <a:off x="1797120" y="4762440"/>
              <a:ext cx="63360" cy="63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3" name=""/>
            <p:cNvSpPr/>
            <p:nvPr/>
          </p:nvSpPr>
          <p:spPr>
            <a:xfrm>
              <a:off x="2800440" y="4914720"/>
              <a:ext cx="63360" cy="63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4" name=""/>
            <p:cNvSpPr/>
            <p:nvPr/>
          </p:nvSpPr>
          <p:spPr>
            <a:xfrm>
              <a:off x="1873080" y="342900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5" name=""/>
            <p:cNvSpPr/>
            <p:nvPr/>
          </p:nvSpPr>
          <p:spPr>
            <a:xfrm>
              <a:off x="2330280" y="3429000"/>
              <a:ext cx="457200" cy="914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6" name=""/>
            <p:cNvSpPr/>
            <p:nvPr/>
          </p:nvSpPr>
          <p:spPr>
            <a:xfrm>
              <a:off x="1873080" y="388620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7" name=""/>
            <p:cNvSpPr/>
            <p:nvPr/>
          </p:nvSpPr>
          <p:spPr>
            <a:xfrm>
              <a:off x="1968480" y="3549600"/>
              <a:ext cx="3301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8" name=""/>
            <p:cNvSpPr/>
            <p:nvPr/>
          </p:nvSpPr>
          <p:spPr>
            <a:xfrm>
              <a:off x="1968480" y="4006800"/>
              <a:ext cx="3301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9" name=""/>
            <p:cNvSpPr/>
            <p:nvPr/>
          </p:nvSpPr>
          <p:spPr>
            <a:xfrm>
              <a:off x="2425680" y="3778200"/>
              <a:ext cx="291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0" name=""/>
            <p:cNvSpPr/>
            <p:nvPr/>
          </p:nvSpPr>
          <p:spPr>
            <a:xfrm>
              <a:off x="1797120" y="3556080"/>
              <a:ext cx="633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1" name=""/>
            <p:cNvSpPr/>
            <p:nvPr/>
          </p:nvSpPr>
          <p:spPr>
            <a:xfrm>
              <a:off x="1797120" y="3708360"/>
              <a:ext cx="633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2" name=""/>
            <p:cNvSpPr/>
            <p:nvPr/>
          </p:nvSpPr>
          <p:spPr>
            <a:xfrm>
              <a:off x="2800440" y="3860640"/>
              <a:ext cx="633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3" name=""/>
            <p:cNvSpPr/>
            <p:nvPr/>
          </p:nvSpPr>
          <p:spPr>
            <a:xfrm>
              <a:off x="1873080" y="236232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4" name=""/>
            <p:cNvSpPr/>
            <p:nvPr/>
          </p:nvSpPr>
          <p:spPr>
            <a:xfrm>
              <a:off x="2330280" y="2362320"/>
              <a:ext cx="457200" cy="914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5" name=""/>
            <p:cNvSpPr/>
            <p:nvPr/>
          </p:nvSpPr>
          <p:spPr>
            <a:xfrm>
              <a:off x="1873080" y="281952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6" name=""/>
            <p:cNvSpPr/>
            <p:nvPr/>
          </p:nvSpPr>
          <p:spPr>
            <a:xfrm>
              <a:off x="1968480" y="2482920"/>
              <a:ext cx="3301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7" name=""/>
            <p:cNvSpPr/>
            <p:nvPr/>
          </p:nvSpPr>
          <p:spPr>
            <a:xfrm>
              <a:off x="1968480" y="2940120"/>
              <a:ext cx="3301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8" name=""/>
            <p:cNvSpPr/>
            <p:nvPr/>
          </p:nvSpPr>
          <p:spPr>
            <a:xfrm>
              <a:off x="2425680" y="2711520"/>
              <a:ext cx="291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9" name=""/>
            <p:cNvSpPr/>
            <p:nvPr/>
          </p:nvSpPr>
          <p:spPr>
            <a:xfrm>
              <a:off x="1797120" y="2489040"/>
              <a:ext cx="633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0" name=""/>
            <p:cNvSpPr/>
            <p:nvPr/>
          </p:nvSpPr>
          <p:spPr>
            <a:xfrm>
              <a:off x="1797120" y="2641680"/>
              <a:ext cx="633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1" name=""/>
            <p:cNvSpPr/>
            <p:nvPr/>
          </p:nvSpPr>
          <p:spPr>
            <a:xfrm>
              <a:off x="2800440" y="2793960"/>
              <a:ext cx="633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2" name=""/>
            <p:cNvSpPr/>
            <p:nvPr/>
          </p:nvSpPr>
          <p:spPr>
            <a:xfrm>
              <a:off x="1720800" y="25081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3" name=""/>
            <p:cNvSpPr/>
            <p:nvPr/>
          </p:nvSpPr>
          <p:spPr>
            <a:xfrm>
              <a:off x="1720800" y="29653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4" name=""/>
            <p:cNvSpPr/>
            <p:nvPr/>
          </p:nvSpPr>
          <p:spPr>
            <a:xfrm>
              <a:off x="1339920" y="250812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5" name=""/>
            <p:cNvSpPr/>
            <p:nvPr/>
          </p:nvSpPr>
          <p:spPr>
            <a:xfrm>
              <a:off x="1714320" y="25146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6" name=""/>
            <p:cNvSpPr/>
            <p:nvPr/>
          </p:nvSpPr>
          <p:spPr>
            <a:xfrm>
              <a:off x="1701720" y="2495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7" name=""/>
            <p:cNvSpPr/>
            <p:nvPr/>
          </p:nvSpPr>
          <p:spPr>
            <a:xfrm>
              <a:off x="1720800" y="26607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8" name=""/>
            <p:cNvSpPr/>
            <p:nvPr/>
          </p:nvSpPr>
          <p:spPr>
            <a:xfrm>
              <a:off x="1720800" y="31179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9" name=""/>
            <p:cNvSpPr/>
            <p:nvPr/>
          </p:nvSpPr>
          <p:spPr>
            <a:xfrm>
              <a:off x="1568520" y="26607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0" name=""/>
            <p:cNvSpPr/>
            <p:nvPr/>
          </p:nvSpPr>
          <p:spPr>
            <a:xfrm>
              <a:off x="1339920" y="266076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1" name=""/>
            <p:cNvSpPr/>
            <p:nvPr/>
          </p:nvSpPr>
          <p:spPr>
            <a:xfrm>
              <a:off x="1568520" y="31179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2" name=""/>
            <p:cNvSpPr/>
            <p:nvPr/>
          </p:nvSpPr>
          <p:spPr>
            <a:xfrm>
              <a:off x="1562040" y="26668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3" name=""/>
            <p:cNvSpPr/>
            <p:nvPr/>
          </p:nvSpPr>
          <p:spPr>
            <a:xfrm>
              <a:off x="1549440" y="26478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4" name=""/>
            <p:cNvSpPr/>
            <p:nvPr/>
          </p:nvSpPr>
          <p:spPr>
            <a:xfrm>
              <a:off x="1720800" y="40323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5" name=""/>
            <p:cNvSpPr/>
            <p:nvPr/>
          </p:nvSpPr>
          <p:spPr>
            <a:xfrm>
              <a:off x="1339920" y="357516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6" name=""/>
            <p:cNvSpPr/>
            <p:nvPr/>
          </p:nvSpPr>
          <p:spPr>
            <a:xfrm>
              <a:off x="1714320" y="35812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7" name=""/>
            <p:cNvSpPr/>
            <p:nvPr/>
          </p:nvSpPr>
          <p:spPr>
            <a:xfrm>
              <a:off x="1720800" y="35751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8" name=""/>
            <p:cNvSpPr/>
            <p:nvPr/>
          </p:nvSpPr>
          <p:spPr>
            <a:xfrm>
              <a:off x="1720800" y="372744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9" name=""/>
            <p:cNvSpPr/>
            <p:nvPr/>
          </p:nvSpPr>
          <p:spPr>
            <a:xfrm>
              <a:off x="1720800" y="41846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0" name=""/>
            <p:cNvSpPr/>
            <p:nvPr/>
          </p:nvSpPr>
          <p:spPr>
            <a:xfrm>
              <a:off x="1568520" y="37274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1" name=""/>
            <p:cNvSpPr/>
            <p:nvPr/>
          </p:nvSpPr>
          <p:spPr>
            <a:xfrm>
              <a:off x="1339920" y="372744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2" name=""/>
            <p:cNvSpPr/>
            <p:nvPr/>
          </p:nvSpPr>
          <p:spPr>
            <a:xfrm>
              <a:off x="1568520" y="41846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3" name=""/>
            <p:cNvSpPr/>
            <p:nvPr/>
          </p:nvSpPr>
          <p:spPr>
            <a:xfrm>
              <a:off x="1562040" y="373392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4" name=""/>
            <p:cNvSpPr/>
            <p:nvPr/>
          </p:nvSpPr>
          <p:spPr>
            <a:xfrm>
              <a:off x="1549440" y="371484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5" name=""/>
            <p:cNvSpPr/>
            <p:nvPr/>
          </p:nvSpPr>
          <p:spPr>
            <a:xfrm>
              <a:off x="2863800" y="38797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6" name=""/>
            <p:cNvSpPr/>
            <p:nvPr/>
          </p:nvSpPr>
          <p:spPr>
            <a:xfrm>
              <a:off x="3092400" y="43369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7" name=""/>
            <p:cNvSpPr/>
            <p:nvPr/>
          </p:nvSpPr>
          <p:spPr>
            <a:xfrm>
              <a:off x="2933640" y="38862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8" name=""/>
            <p:cNvSpPr/>
            <p:nvPr/>
          </p:nvSpPr>
          <p:spPr>
            <a:xfrm>
              <a:off x="2940120" y="43369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9" name=""/>
            <p:cNvSpPr/>
            <p:nvPr/>
          </p:nvSpPr>
          <p:spPr>
            <a:xfrm>
              <a:off x="1720800" y="50990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0" name=""/>
            <p:cNvSpPr/>
            <p:nvPr/>
          </p:nvSpPr>
          <p:spPr>
            <a:xfrm>
              <a:off x="1339920" y="464184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1" name=""/>
            <p:cNvSpPr/>
            <p:nvPr/>
          </p:nvSpPr>
          <p:spPr>
            <a:xfrm>
              <a:off x="1714320" y="464832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2" name=""/>
            <p:cNvSpPr/>
            <p:nvPr/>
          </p:nvSpPr>
          <p:spPr>
            <a:xfrm>
              <a:off x="1720800" y="464184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3" name=""/>
            <p:cNvSpPr/>
            <p:nvPr/>
          </p:nvSpPr>
          <p:spPr>
            <a:xfrm>
              <a:off x="1720800" y="47941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4" name=""/>
            <p:cNvSpPr/>
            <p:nvPr/>
          </p:nvSpPr>
          <p:spPr>
            <a:xfrm>
              <a:off x="1720800" y="52513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5" name=""/>
            <p:cNvSpPr/>
            <p:nvPr/>
          </p:nvSpPr>
          <p:spPr>
            <a:xfrm>
              <a:off x="1568520" y="47941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6" name=""/>
            <p:cNvSpPr/>
            <p:nvPr/>
          </p:nvSpPr>
          <p:spPr>
            <a:xfrm>
              <a:off x="1339920" y="479412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7" name=""/>
            <p:cNvSpPr/>
            <p:nvPr/>
          </p:nvSpPr>
          <p:spPr>
            <a:xfrm>
              <a:off x="1568520" y="52513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8" name=""/>
            <p:cNvSpPr/>
            <p:nvPr/>
          </p:nvSpPr>
          <p:spPr>
            <a:xfrm>
              <a:off x="1562040" y="48006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9" name=""/>
            <p:cNvSpPr/>
            <p:nvPr/>
          </p:nvSpPr>
          <p:spPr>
            <a:xfrm>
              <a:off x="1549440" y="4781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0" name=""/>
            <p:cNvSpPr/>
            <p:nvPr/>
          </p:nvSpPr>
          <p:spPr>
            <a:xfrm>
              <a:off x="1720800" y="61657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1" name=""/>
            <p:cNvSpPr/>
            <p:nvPr/>
          </p:nvSpPr>
          <p:spPr>
            <a:xfrm>
              <a:off x="1339920" y="570852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2" name=""/>
            <p:cNvSpPr/>
            <p:nvPr/>
          </p:nvSpPr>
          <p:spPr>
            <a:xfrm>
              <a:off x="1714320" y="57150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3" name=""/>
            <p:cNvSpPr/>
            <p:nvPr/>
          </p:nvSpPr>
          <p:spPr>
            <a:xfrm>
              <a:off x="1720800" y="57085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4" name=""/>
            <p:cNvSpPr/>
            <p:nvPr/>
          </p:nvSpPr>
          <p:spPr>
            <a:xfrm>
              <a:off x="1720800" y="58611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5" name=""/>
            <p:cNvSpPr/>
            <p:nvPr/>
          </p:nvSpPr>
          <p:spPr>
            <a:xfrm>
              <a:off x="1720800" y="63183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6" name=""/>
            <p:cNvSpPr/>
            <p:nvPr/>
          </p:nvSpPr>
          <p:spPr>
            <a:xfrm>
              <a:off x="1568520" y="58611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7" name=""/>
            <p:cNvSpPr/>
            <p:nvPr/>
          </p:nvSpPr>
          <p:spPr>
            <a:xfrm>
              <a:off x="1339920" y="586116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8" name=""/>
            <p:cNvSpPr/>
            <p:nvPr/>
          </p:nvSpPr>
          <p:spPr>
            <a:xfrm>
              <a:off x="1568520" y="63183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9" name=""/>
            <p:cNvSpPr/>
            <p:nvPr/>
          </p:nvSpPr>
          <p:spPr>
            <a:xfrm>
              <a:off x="1562040" y="58672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0" name=""/>
            <p:cNvSpPr/>
            <p:nvPr/>
          </p:nvSpPr>
          <p:spPr>
            <a:xfrm>
              <a:off x="1549440" y="58482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1" name=""/>
            <p:cNvSpPr/>
            <p:nvPr/>
          </p:nvSpPr>
          <p:spPr>
            <a:xfrm>
              <a:off x="2863800" y="281304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2" name=""/>
            <p:cNvSpPr/>
            <p:nvPr/>
          </p:nvSpPr>
          <p:spPr>
            <a:xfrm>
              <a:off x="3092400" y="418464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3" name=""/>
            <p:cNvSpPr/>
            <p:nvPr/>
          </p:nvSpPr>
          <p:spPr>
            <a:xfrm>
              <a:off x="3085920" y="281952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4" name=""/>
            <p:cNvSpPr/>
            <p:nvPr/>
          </p:nvSpPr>
          <p:spPr>
            <a:xfrm>
              <a:off x="2940120" y="28130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5" name=""/>
            <p:cNvSpPr/>
            <p:nvPr/>
          </p:nvSpPr>
          <p:spPr>
            <a:xfrm>
              <a:off x="2863800" y="49467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6" name=""/>
            <p:cNvSpPr/>
            <p:nvPr/>
          </p:nvSpPr>
          <p:spPr>
            <a:xfrm>
              <a:off x="3092400" y="44895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7" name=""/>
            <p:cNvSpPr/>
            <p:nvPr/>
          </p:nvSpPr>
          <p:spPr>
            <a:xfrm>
              <a:off x="2940120" y="44895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8" name=""/>
            <p:cNvSpPr/>
            <p:nvPr/>
          </p:nvSpPr>
          <p:spPr>
            <a:xfrm>
              <a:off x="2933640" y="44956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9" name=""/>
            <p:cNvSpPr/>
            <p:nvPr/>
          </p:nvSpPr>
          <p:spPr>
            <a:xfrm>
              <a:off x="2863800" y="601344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0" name=""/>
            <p:cNvSpPr/>
            <p:nvPr/>
          </p:nvSpPr>
          <p:spPr>
            <a:xfrm>
              <a:off x="3092400" y="464184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1" name=""/>
            <p:cNvSpPr/>
            <p:nvPr/>
          </p:nvSpPr>
          <p:spPr>
            <a:xfrm>
              <a:off x="3085920" y="464832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2" name=""/>
            <p:cNvSpPr/>
            <p:nvPr/>
          </p:nvSpPr>
          <p:spPr>
            <a:xfrm>
              <a:off x="2940120" y="60134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3" name=""/>
            <p:cNvSpPr/>
            <p:nvPr/>
          </p:nvSpPr>
          <p:spPr>
            <a:xfrm>
              <a:off x="3803760" y="44132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4" name=""/>
            <p:cNvSpPr/>
            <p:nvPr/>
          </p:nvSpPr>
          <p:spPr>
            <a:xfrm>
              <a:off x="3276720" y="4286160"/>
              <a:ext cx="660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5" name=""/>
            <p:cNvSpPr/>
            <p:nvPr/>
          </p:nvSpPr>
          <p:spPr>
            <a:xfrm>
              <a:off x="3949560" y="4286160"/>
              <a:ext cx="520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s of using AOI gate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3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 AOI implementation of 4-bit equality fun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EAB2-15C8-4589-A17F-884D34DC8E2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ummary for multi-leve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3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s may be sma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es have smaller fan-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s may be f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difficult to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ls for optimization are not as good as for two-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 is more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0CBC-372A-4E4A-B6FE-B4E230B8A25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ime behavior of combinational network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41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80740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ization of values carried on signal wires over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ful in explaining sequences of events (changes in val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ation tools are used to create these wave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to the simulator includes gates and their conn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stimulus, that is, input signal wave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te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e delay — time for change at input to cause change at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 delay – typical/nominal delay – max de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reful designers design for the worst c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e time — time for output to transition from low to high vol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l time — time for output to transition from high to low vol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se width — time that an output stays high or stays low between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1346-ABA8-4210-B1E7-3C577BFCFD7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2" name="" descr=""/>
          <p:cNvPicPr/>
          <p:nvPr/>
        </p:nvPicPr>
        <p:blipFill>
          <a:blip r:embed="rId1"/>
          <a:stretch/>
        </p:blipFill>
        <p:spPr>
          <a:xfrm>
            <a:off x="3962520" y="3606840"/>
            <a:ext cx="5207040" cy="2006640"/>
          </a:xfrm>
          <a:prstGeom prst="rect">
            <a:avLst/>
          </a:prstGeom>
          <a:ln w="0">
            <a:noFill/>
          </a:ln>
        </p:spPr>
      </p:pic>
      <p:sp>
        <p:nvSpPr>
          <p:cNvPr id="4043" name=""/>
          <p:cNvSpPr/>
          <p:nvPr/>
        </p:nvSpPr>
        <p:spPr>
          <a:xfrm>
            <a:off x="6095880" y="5867280"/>
            <a:ext cx="30355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 is not always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lse 3 gate-delays w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4" name=""/>
          <p:cNvSpPr/>
          <p:nvPr/>
        </p:nvSpPr>
        <p:spPr>
          <a:xfrm>
            <a:off x="5276880" y="4921200"/>
            <a:ext cx="1714320" cy="304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5" name=""/>
          <p:cNvSpPr/>
          <p:nvPr/>
        </p:nvSpPr>
        <p:spPr>
          <a:xfrm>
            <a:off x="2705040" y="5740560"/>
            <a:ext cx="313704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 remains high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ree gate delays af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changes from low to hi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6" name=""/>
          <p:cNvSpPr/>
          <p:nvPr/>
        </p:nvSpPr>
        <p:spPr>
          <a:xfrm>
            <a:off x="6210360" y="5486400"/>
            <a:ext cx="476280" cy="577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7" name=""/>
          <p:cNvSpPr/>
          <p:nvPr/>
        </p:nvSpPr>
        <p:spPr>
          <a:xfrm flipH="1">
            <a:off x="4819320" y="5105520"/>
            <a:ext cx="399960" cy="641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8" name=""/>
          <p:cNvGrpSpPr/>
          <p:nvPr/>
        </p:nvGrpSpPr>
        <p:grpSpPr>
          <a:xfrm>
            <a:off x="5121360" y="2695680"/>
            <a:ext cx="4149360" cy="588960"/>
            <a:chOff x="5121360" y="2695680"/>
            <a:chExt cx="4149360" cy="588960"/>
          </a:xfrm>
        </p:grpSpPr>
        <p:sp>
          <p:nvSpPr>
            <p:cNvPr id="4049" name=""/>
            <p:cNvSpPr/>
            <p:nvPr/>
          </p:nvSpPr>
          <p:spPr>
            <a:xfrm>
              <a:off x="8728560" y="2895840"/>
              <a:ext cx="542160" cy="32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5121360" y="2695680"/>
              <a:ext cx="54216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1" name=""/>
            <p:cNvSpPr/>
            <p:nvPr/>
          </p:nvSpPr>
          <p:spPr>
            <a:xfrm>
              <a:off x="6040800" y="2695680"/>
              <a:ext cx="54216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6771600" y="2695680"/>
              <a:ext cx="56556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7514640" y="2695680"/>
              <a:ext cx="56556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8003880" y="2789640"/>
              <a:ext cx="44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8003880" y="3237480"/>
              <a:ext cx="45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7997760" y="2795760"/>
              <a:ext cx="0" cy="43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8245800" y="2802960"/>
              <a:ext cx="399600" cy="44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8227800" y="2796840"/>
              <a:ext cx="435600" cy="45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8245440" y="2790360"/>
              <a:ext cx="399960" cy="43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8227440" y="2772720"/>
              <a:ext cx="43596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7249320" y="2736720"/>
              <a:ext cx="270720" cy="17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2" name=""/>
            <p:cNvSpPr/>
            <p:nvPr/>
          </p:nvSpPr>
          <p:spPr>
            <a:xfrm flipV="1">
              <a:off x="7249320" y="2913120"/>
              <a:ext cx="270720" cy="19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7243200" y="2736720"/>
              <a:ext cx="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7531920" y="2889720"/>
              <a:ext cx="82440" cy="70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5" name=""/>
            <p:cNvSpPr/>
            <p:nvPr/>
          </p:nvSpPr>
          <p:spPr>
            <a:xfrm>
              <a:off x="6506280" y="2736720"/>
              <a:ext cx="271080" cy="17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6" name=""/>
            <p:cNvSpPr/>
            <p:nvPr/>
          </p:nvSpPr>
          <p:spPr>
            <a:xfrm flipV="1">
              <a:off x="6506280" y="2913120"/>
              <a:ext cx="271080" cy="19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6500520" y="2736720"/>
              <a:ext cx="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8" name=""/>
            <p:cNvSpPr/>
            <p:nvPr/>
          </p:nvSpPr>
          <p:spPr>
            <a:xfrm>
              <a:off x="6789240" y="2889720"/>
              <a:ext cx="70560" cy="70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9" name=""/>
            <p:cNvSpPr/>
            <p:nvPr/>
          </p:nvSpPr>
          <p:spPr>
            <a:xfrm>
              <a:off x="5751720" y="2736720"/>
              <a:ext cx="271080" cy="17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0" name=""/>
            <p:cNvSpPr/>
            <p:nvPr/>
          </p:nvSpPr>
          <p:spPr>
            <a:xfrm flipV="1">
              <a:off x="5751720" y="2913120"/>
              <a:ext cx="271080" cy="19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5745960" y="2736720"/>
              <a:ext cx="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6034680" y="2889720"/>
              <a:ext cx="70560" cy="70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7626600" y="2919240"/>
              <a:ext cx="1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7814880" y="2919240"/>
              <a:ext cx="1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5" name=""/>
            <p:cNvSpPr/>
            <p:nvPr/>
          </p:nvSpPr>
          <p:spPr>
            <a:xfrm>
              <a:off x="5563440" y="2919240"/>
              <a:ext cx="1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7814880" y="3107880"/>
              <a:ext cx="1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7" name=""/>
            <p:cNvSpPr/>
            <p:nvPr/>
          </p:nvSpPr>
          <p:spPr>
            <a:xfrm>
              <a:off x="7808760" y="3113640"/>
              <a:ext cx="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8" name=""/>
            <p:cNvSpPr/>
            <p:nvPr/>
          </p:nvSpPr>
          <p:spPr>
            <a:xfrm>
              <a:off x="5563440" y="3284640"/>
              <a:ext cx="223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9" name=""/>
            <p:cNvSpPr/>
            <p:nvPr/>
          </p:nvSpPr>
          <p:spPr>
            <a:xfrm>
              <a:off x="5557320" y="2925360"/>
              <a:ext cx="0" cy="35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0" name=""/>
            <p:cNvSpPr/>
            <p:nvPr/>
          </p:nvSpPr>
          <p:spPr>
            <a:xfrm>
              <a:off x="5280120" y="2919240"/>
              <a:ext cx="27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1" name=""/>
            <p:cNvSpPr/>
            <p:nvPr/>
          </p:nvSpPr>
          <p:spPr>
            <a:xfrm>
              <a:off x="5533920" y="2895840"/>
              <a:ext cx="58680" cy="4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2" name=""/>
            <p:cNvSpPr/>
            <p:nvPr/>
          </p:nvSpPr>
          <p:spPr>
            <a:xfrm>
              <a:off x="8663760" y="3013200"/>
              <a:ext cx="1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3" name=""/>
            <p:cNvSpPr/>
            <p:nvPr/>
          </p:nvSpPr>
          <p:spPr>
            <a:xfrm>
              <a:off x="6883560" y="2919240"/>
              <a:ext cx="1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4" name=""/>
            <p:cNvSpPr/>
            <p:nvPr/>
          </p:nvSpPr>
          <p:spPr>
            <a:xfrm>
              <a:off x="7072560" y="2919240"/>
              <a:ext cx="16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6129000" y="2919240"/>
              <a:ext cx="1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6318000" y="2919240"/>
              <a:ext cx="1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mentary changes in outpu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8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be useful — pulse shaping circu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be a problem — incorrect circuit operation (glitches/hazard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pulse shaping circu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 • A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s m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ACF2-C765-4A69-A3CF-67FCBF5E555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9" name="" descr=""/>
          <p:cNvPicPr/>
          <p:nvPr/>
        </p:nvPicPr>
        <p:blipFill>
          <a:blip r:embed="rId1"/>
          <a:stretch/>
        </p:blipFill>
        <p:spPr>
          <a:xfrm>
            <a:off x="647640" y="4444920"/>
            <a:ext cx="8153640" cy="1638360"/>
          </a:xfrm>
          <a:prstGeom prst="rect">
            <a:avLst/>
          </a:prstGeom>
          <a:ln w="0">
            <a:noFill/>
          </a:ln>
        </p:spPr>
      </p:pic>
      <p:sp>
        <p:nvSpPr>
          <p:cNvPr id="4090" name=""/>
          <p:cNvSpPr/>
          <p:nvPr/>
        </p:nvSpPr>
        <p:spPr>
          <a:xfrm>
            <a:off x="1378080" y="5251320"/>
            <a:ext cx="342720" cy="101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1" name=""/>
          <p:cNvSpPr/>
          <p:nvPr/>
        </p:nvSpPr>
        <p:spPr>
          <a:xfrm>
            <a:off x="1378080" y="5543640"/>
            <a:ext cx="711000" cy="101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2" name=""/>
          <p:cNvSpPr/>
          <p:nvPr/>
        </p:nvSpPr>
        <p:spPr>
          <a:xfrm>
            <a:off x="1378080" y="5835600"/>
            <a:ext cx="1066680" cy="101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3" name=""/>
          <p:cNvSpPr/>
          <p:nvPr/>
        </p:nvSpPr>
        <p:spPr>
          <a:xfrm>
            <a:off x="2019240" y="3822840"/>
            <a:ext cx="118116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ll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defi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4" name=""/>
          <p:cNvSpPr/>
          <p:nvPr/>
        </p:nvSpPr>
        <p:spPr>
          <a:xfrm>
            <a:off x="596880" y="3314880"/>
            <a:ext cx="1587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se 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5" name=""/>
          <p:cNvSpPr/>
          <p:nvPr/>
        </p:nvSpPr>
        <p:spPr>
          <a:xfrm>
            <a:off x="3708360" y="3924360"/>
            <a:ext cx="15368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 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6" name=""/>
          <p:cNvSpPr/>
          <p:nvPr/>
        </p:nvSpPr>
        <p:spPr>
          <a:xfrm>
            <a:off x="1136520" y="3664080"/>
            <a:ext cx="203400" cy="736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7" name=""/>
          <p:cNvSpPr/>
          <p:nvPr/>
        </p:nvSpPr>
        <p:spPr>
          <a:xfrm flipH="1">
            <a:off x="2216160" y="4387680"/>
            <a:ext cx="101520" cy="1486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8" name=""/>
          <p:cNvSpPr/>
          <p:nvPr/>
        </p:nvSpPr>
        <p:spPr>
          <a:xfrm flipH="1">
            <a:off x="1860480" y="4387680"/>
            <a:ext cx="457200" cy="1168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9" name=""/>
          <p:cNvSpPr/>
          <p:nvPr/>
        </p:nvSpPr>
        <p:spPr>
          <a:xfrm flipH="1">
            <a:off x="1593360" y="4375080"/>
            <a:ext cx="723960" cy="876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0" name=""/>
          <p:cNvSpPr/>
          <p:nvPr/>
        </p:nvSpPr>
        <p:spPr>
          <a:xfrm flipH="1">
            <a:off x="2914560" y="4210200"/>
            <a:ext cx="812880" cy="672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1" name=""/>
          <p:cNvGrpSpPr/>
          <p:nvPr/>
        </p:nvGrpSpPr>
        <p:grpSpPr>
          <a:xfrm>
            <a:off x="4267080" y="1587600"/>
            <a:ext cx="4343400" cy="1917720"/>
            <a:chOff x="4267080" y="1587600"/>
            <a:chExt cx="4343400" cy="1917720"/>
          </a:xfrm>
        </p:grpSpPr>
        <p:sp>
          <p:nvSpPr>
            <p:cNvPr id="4102" name=""/>
            <p:cNvSpPr/>
            <p:nvPr/>
          </p:nvSpPr>
          <p:spPr>
            <a:xfrm>
              <a:off x="5334120" y="1587600"/>
              <a:ext cx="2286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5423040" y="186048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5429160" y="1962000"/>
              <a:ext cx="3816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5" name=""/>
            <p:cNvSpPr/>
            <p:nvPr/>
          </p:nvSpPr>
          <p:spPr>
            <a:xfrm flipH="1">
              <a:off x="5352480" y="1987560"/>
              <a:ext cx="12708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5365800" y="2038320"/>
              <a:ext cx="10152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7" name=""/>
            <p:cNvSpPr/>
            <p:nvPr/>
          </p:nvSpPr>
          <p:spPr>
            <a:xfrm flipH="1">
              <a:off x="5352480" y="2102040"/>
              <a:ext cx="12708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5365800" y="2165400"/>
              <a:ext cx="10152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 flipH="1">
              <a:off x="5352480" y="2216160"/>
              <a:ext cx="12708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5365800" y="2279520"/>
              <a:ext cx="5076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5423040" y="2317680"/>
              <a:ext cx="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2" name=""/>
            <p:cNvSpPr/>
            <p:nvPr/>
          </p:nvSpPr>
          <p:spPr>
            <a:xfrm flipV="1">
              <a:off x="5130720" y="30286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5111640" y="3029040"/>
              <a:ext cx="1800" cy="12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4" name=""/>
            <p:cNvSpPr/>
            <p:nvPr/>
          </p:nvSpPr>
          <p:spPr>
            <a:xfrm flipV="1">
              <a:off x="5130720" y="27367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5111640" y="2838600"/>
              <a:ext cx="1800" cy="12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5035680" y="2851200"/>
              <a:ext cx="8856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5035680" y="3429000"/>
              <a:ext cx="17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5073480" y="346716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5111640" y="350532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5130720" y="34038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5130720" y="314316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5130720" y="3232080"/>
              <a:ext cx="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5423040" y="235584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5403960" y="2533680"/>
              <a:ext cx="37800" cy="381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5130720" y="2546280"/>
              <a:ext cx="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5137200" y="254016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4267080" y="2679840"/>
              <a:ext cx="7365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pen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wit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4483080" y="2006640"/>
              <a:ext cx="9144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is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5626080" y="2286000"/>
              <a:ext cx="5842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8026200" y="2311560"/>
              <a:ext cx="5842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6108840" y="2692440"/>
              <a:ext cx="6094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6934320" y="2946600"/>
              <a:ext cx="6094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7435800" y="240048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7435800" y="2882880"/>
              <a:ext cx="49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7429320" y="240660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7696440" y="2414520"/>
              <a:ext cx="43128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7677360" y="2408400"/>
              <a:ext cx="46944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7696080" y="2400120"/>
              <a:ext cx="43164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7677000" y="2381040"/>
              <a:ext cx="46980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6622920" y="2736720"/>
              <a:ext cx="292320" cy="19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1" name=""/>
            <p:cNvSpPr/>
            <p:nvPr/>
          </p:nvSpPr>
          <p:spPr>
            <a:xfrm flipV="1">
              <a:off x="6622920" y="2927160"/>
              <a:ext cx="29232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6616800" y="273672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6927840" y="2901960"/>
              <a:ext cx="889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5823000" y="2736720"/>
              <a:ext cx="291960" cy="19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5" name=""/>
            <p:cNvSpPr/>
            <p:nvPr/>
          </p:nvSpPr>
          <p:spPr>
            <a:xfrm flipV="1">
              <a:off x="5823000" y="2927160"/>
              <a:ext cx="29196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5816520" y="273672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6127560" y="2901960"/>
              <a:ext cx="763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7029360" y="254016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7232760" y="254016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7232760" y="274320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7226280" y="274968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5149800" y="2540160"/>
              <a:ext cx="20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5423040" y="294012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8248680" y="262908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6229440" y="293364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6432480" y="29336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5429160" y="293364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5619600" y="293364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9" name=""/>
            <p:cNvSpPr/>
            <p:nvPr/>
          </p:nvSpPr>
          <p:spPr>
            <a:xfrm>
              <a:off x="8159760" y="2597040"/>
              <a:ext cx="763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7029360" y="293364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5429160" y="3327480"/>
              <a:ext cx="290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8356680" y="263520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6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Oscillatory behavio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6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other pulse shaping circu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7AB2-B6E4-4C1C-A61D-E1CAA966B3A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ardware description languag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cribe hardware at varying levels of abstr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ctural descri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ual replacement for schem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erarchical composition of modules from primi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havioral/functional descri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what module does, not 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thesis generates circuit for 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ulation seman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0EA5-6E19-4E05-91C8-1B40F2E2537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DL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4000"/>
          </a:bodyPr>
          <a:p>
            <a:pPr marL="326880" indent="-3268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el (circa 1983) - developed by Data-I/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ed to programmable logic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good for much more than state mach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P (circa 1977) - research project at C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ion, but no 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log (circa 1985) - developed by Gateway (absorbed by Cad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Pascal and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ays is only interaction with sim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irly efficient and easy to w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HDL (circa 1987) - DoD sponsored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Ada (emphasis on re-use and maintainabil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ion semantics vi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general but verb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97B6-F6FC-45ED-8816-368E847D3DC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Verilo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orts structural and behavioral descrip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ctu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icit structure of the 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each logic gate instantiated and connected to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havio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 describes input/output behavior of 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structural implementations could have same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different implementation of one Boolean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’ll mostly be using behavioral Verilog in Aldec ActiveHD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y on schematic when we want structural descri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814E-31DE-49D5-9802-BEED08967D5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1" name=""/>
          <p:cNvSpPr/>
          <p:nvPr/>
        </p:nvSpPr>
        <p:spPr>
          <a:xfrm>
            <a:off x="1143000" y="1981080"/>
            <a:ext cx="723888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module xor_gate (out, a, b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input     a, b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output    out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wire      abar, bbar, t1, t2;</a:t>
            </a:r>
            <a:br>
              <a:rPr sz="2100"/>
            </a:b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inverter invA (abar, a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inverter invB (bbar, b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and_gate and1 (t1, a, bbar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and_gate and2 (t2, b, abar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or_gate  or1 (out, t1, t2)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tructural mode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149A-30ED-49AC-BEDF-E79E7CFC9D67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5562720" y="2514600"/>
            <a:ext cx="24890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wo altern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plementations of E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th and without X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72280" y="5130720"/>
            <a:ext cx="30985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NOR is implemented wit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 least 3 simple g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36560" y="1670040"/>
            <a:ext cx="3987720" cy="4578120"/>
            <a:chOff x="736560" y="1670040"/>
            <a:chExt cx="3987720" cy="4578120"/>
          </a:xfrm>
        </p:grpSpPr>
        <p:sp>
          <p:nvSpPr>
            <p:cNvPr id="230" name=""/>
            <p:cNvSpPr/>
            <p:nvPr/>
          </p:nvSpPr>
          <p:spPr>
            <a:xfrm>
              <a:off x="2508120" y="267336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508120" y="29779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2502000" y="26668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502000" y="257796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67240" y="268740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60760" y="268128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666880" y="267336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660400" y="266688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883600" y="3652560"/>
              <a:ext cx="88776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877120" y="3646440"/>
              <a:ext cx="900720" cy="29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289680" y="3652560"/>
              <a:ext cx="75600" cy="25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83560" y="3646440"/>
              <a:ext cx="87840" cy="26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883240" y="3638520"/>
              <a:ext cx="88812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876760" y="3632400"/>
              <a:ext cx="901080" cy="29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89320" y="3638520"/>
              <a:ext cx="7596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283200" y="3632400"/>
              <a:ext cx="88200" cy="29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333600" y="3714480"/>
              <a:ext cx="1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333600" y="3841560"/>
              <a:ext cx="1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3327480" y="39114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327480" y="353052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333600" y="55944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333600" y="58989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3327480" y="55879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492720" y="560844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86240" y="56023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492360" y="559440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485880" y="55879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108160" y="5352840"/>
              <a:ext cx="91404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101680" y="5346360"/>
              <a:ext cx="92700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108520" y="5367240"/>
              <a:ext cx="91368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102040" y="5360760"/>
              <a:ext cx="92664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502360" y="5367240"/>
              <a:ext cx="126000" cy="25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495880" y="5360760"/>
              <a:ext cx="138960" cy="26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502360" y="5352840"/>
              <a:ext cx="1260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495520" y="5346360"/>
              <a:ext cx="13932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029040" y="547344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439000" y="5367240"/>
              <a:ext cx="126000" cy="25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432520" y="5360760"/>
              <a:ext cx="138960" cy="26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439000" y="5352840"/>
              <a:ext cx="1260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432160" y="5346360"/>
              <a:ext cx="13932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08120" y="54291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508120" y="555624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2178000" y="226044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63880" y="226044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2050560" y="22539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165400" y="24508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1797120" y="226044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682640" y="226044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1669680" y="22539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784160" y="2450880"/>
              <a:ext cx="5112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1415880" y="226044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301760" y="226044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1289160" y="2253960"/>
              <a:ext cx="26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403280" y="24508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1035000" y="226044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920880" y="226044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907560" y="22539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022400" y="24508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08120" y="33084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508120" y="36129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2502000" y="33019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502000" y="321300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667240" y="332244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660760" y="33163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666880" y="330840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60400" y="33019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508120" y="394308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508120" y="424800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2502000" y="39369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502000" y="384804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667240" y="395748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660760" y="395100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666880" y="394344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660400" y="393696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08120" y="457812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508120" y="48830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02000" y="45720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502000" y="448308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67240" y="459252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60760" y="45860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666880" y="45784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660400" y="457200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108160" y="5860800"/>
              <a:ext cx="91404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101680" y="5854320"/>
              <a:ext cx="92700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108520" y="5875200"/>
              <a:ext cx="91368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102040" y="5868720"/>
              <a:ext cx="92664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502360" y="5875200"/>
              <a:ext cx="126000" cy="25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495880" y="5868720"/>
              <a:ext cx="138960" cy="26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502360" y="5860800"/>
              <a:ext cx="1260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495520" y="5854320"/>
              <a:ext cx="13932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029040" y="59814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439000" y="5875200"/>
              <a:ext cx="126000" cy="25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432520" y="5868720"/>
              <a:ext cx="138960" cy="26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439000" y="5860800"/>
              <a:ext cx="1260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432160" y="5854320"/>
              <a:ext cx="13932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508120" y="59371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508120" y="606420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952720" y="28256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206880" y="35877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079800" y="28256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200400" y="2832120"/>
              <a:ext cx="0" cy="74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952720" y="40957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206880" y="38415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079800" y="38415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073320" y="384804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952720" y="47307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206880" y="39686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200400" y="3975120"/>
              <a:ext cx="0" cy="74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079800" y="47307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778200" y="37782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778200" y="57466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041480" y="21333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381040" y="39052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381040" y="45399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381040" y="54291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57160" y="21272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8080" y="21142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51040" y="19429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51040" y="2133360"/>
              <a:ext cx="0" cy="176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38080" y="38923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51040" y="3911400"/>
              <a:ext cx="0" cy="6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38080" y="452736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51040" y="4546440"/>
              <a:ext cx="0" cy="87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38080" y="541656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51040" y="5435640"/>
              <a:ext cx="0" cy="81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57160" y="3905280"/>
              <a:ext cx="151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57160" y="4539960"/>
              <a:ext cx="151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57160" y="5429160"/>
              <a:ext cx="151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803240" y="21333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381040" y="4159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381040" y="47941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381040" y="5556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619280" y="21272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600200" y="21142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12800" y="19429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612800" y="2133360"/>
              <a:ext cx="0" cy="201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600200" y="41464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612800" y="4165560"/>
              <a:ext cx="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600200" y="4781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612800" y="4800600"/>
              <a:ext cx="0" cy="74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600200" y="55432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612800" y="556236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619280" y="415908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619280" y="479412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619280" y="555624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206880" y="56829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079800" y="54925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200400" y="549900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041480" y="25146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028520" y="262260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381040" y="26352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381040" y="3270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041480" y="2641320"/>
              <a:ext cx="0" cy="6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028520" y="32572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041480" y="3276360"/>
              <a:ext cx="0" cy="297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47600" y="263520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047600" y="327024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803240" y="25146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381040" y="28890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381040" y="35240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803240" y="2641320"/>
              <a:ext cx="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90640" y="28764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803240" y="2895480"/>
              <a:ext cx="0" cy="6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790640" y="351144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803240" y="3530520"/>
              <a:ext cx="0" cy="27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809720" y="288900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809720" y="352404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206880" y="37144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952720" y="34606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73320" y="3466800"/>
              <a:ext cx="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079800" y="37144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422360" y="25146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381040" y="27622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381040" y="46670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422360" y="26413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409760" y="27493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422360" y="2768400"/>
              <a:ext cx="0" cy="189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409760" y="465444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422360" y="4673520"/>
              <a:ext cx="0" cy="157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428840" y="2762280"/>
              <a:ext cx="93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428840" y="4667040"/>
              <a:ext cx="93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184480" y="25146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381040" y="3016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381040" y="49212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184480" y="264132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171520" y="30034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184480" y="3022560"/>
              <a:ext cx="0" cy="18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171520" y="490860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84480" y="4927320"/>
              <a:ext cx="0" cy="132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190600" y="30160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90600" y="49212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422360" y="21333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381040" y="33969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381040" y="40320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381040" y="59371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238040" y="21272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219320" y="211428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231920" y="19429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231920" y="2133360"/>
              <a:ext cx="0" cy="125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219320" y="338436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231920" y="3403440"/>
              <a:ext cx="0" cy="6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9320" y="401940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231920" y="4038480"/>
              <a:ext cx="0" cy="18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219320" y="592452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231920" y="594360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238040" y="3396960"/>
              <a:ext cx="1130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238040" y="4032000"/>
              <a:ext cx="1130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238040" y="5937120"/>
              <a:ext cx="1130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184480" y="21333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381040" y="36511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381040" y="42861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381040" y="60642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000160" y="21272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981080" y="21142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994040" y="19429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994040" y="2133360"/>
              <a:ext cx="0" cy="151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81080" y="3638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994040" y="3657600"/>
              <a:ext cx="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981080" y="427356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94040" y="4292640"/>
              <a:ext cx="0" cy="176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981080" y="605160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994040" y="60703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000160" y="365112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000160" y="428616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000160" y="606420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206880" y="58100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079800" y="60004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200400" y="58165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36560" y="1670040"/>
              <a:ext cx="17398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393840"/>
                  <a:tab algn="l" pos="73656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962520" y="3638520"/>
              <a:ext cx="761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393840"/>
                  <a:tab algn="l" pos="73656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924360" y="5619600"/>
              <a:ext cx="761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393840"/>
                  <a:tab algn="l" pos="73656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6039000" y="4070160"/>
            <a:ext cx="1765080" cy="826560"/>
            <a:chOff x="6039000" y="4070160"/>
            <a:chExt cx="1765080" cy="826560"/>
          </a:xfrm>
        </p:grpSpPr>
        <p:sp>
          <p:nvSpPr>
            <p:cNvPr id="462" name=""/>
            <p:cNvSpPr/>
            <p:nvPr/>
          </p:nvSpPr>
          <p:spPr>
            <a:xfrm>
              <a:off x="6483240" y="407664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483240" y="43815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6477120" y="4070160"/>
              <a:ext cx="0" cy="31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642360" y="409104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635880" y="40845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642000" y="407700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635520" y="4083120"/>
              <a:ext cx="29196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058080" y="4597560"/>
              <a:ext cx="86292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051600" y="4591440"/>
              <a:ext cx="875880" cy="29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058440" y="4611600"/>
              <a:ext cx="86256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051960" y="4605480"/>
              <a:ext cx="875520" cy="29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451920" y="4611600"/>
              <a:ext cx="75600" cy="25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445800" y="4605480"/>
              <a:ext cx="87840" cy="26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476760" y="4610880"/>
              <a:ext cx="50760" cy="25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471000" y="4604040"/>
              <a:ext cx="62640" cy="26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483240" y="46735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483240" y="48006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934320" y="4724280"/>
              <a:ext cx="38160" cy="38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927840" y="47181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144200" y="4351320"/>
              <a:ext cx="138960" cy="26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737760" y="4351320"/>
              <a:ext cx="95184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787800" y="4336920"/>
              <a:ext cx="90180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143840" y="4336920"/>
              <a:ext cx="13932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245360" y="441972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245360" y="454644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356520" y="41655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337440" y="415296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356520" y="46735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039000" y="416556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350040" y="417204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356520" y="42926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356520" y="48006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229440" y="42926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039000" y="4800600"/>
              <a:ext cx="17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210360" y="47880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229440" y="48006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222960" y="4299120"/>
              <a:ext cx="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118280" y="45464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991200" y="4737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112160" y="45529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927840" y="42292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118280" y="44197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112160" y="423540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054920" y="422928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689960" y="44830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sign example: two-bit comparator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FE02-BC61-48D7-A866-CFA45BD6186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3" name=""/>
          <p:cNvSpPr/>
          <p:nvPr/>
        </p:nvSpPr>
        <p:spPr>
          <a:xfrm>
            <a:off x="762120" y="2590920"/>
            <a:ext cx="7734240" cy="29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module xor_gate (out, a, b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input         a, b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output        out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reg           out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assign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#6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ut = a ^ b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imple behavioral mode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7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inuous assig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6" name=""/>
          <p:cNvSpPr/>
          <p:nvPr/>
        </p:nvSpPr>
        <p:spPr>
          <a:xfrm>
            <a:off x="4648320" y="5052960"/>
            <a:ext cx="3031920" cy="580680"/>
          </a:xfrm>
          <a:prstGeom prst="borderCallout1">
            <a:avLst>
              <a:gd name="adj1" fmla="val 18750"/>
              <a:gd name="adj2" fmla="val -8333"/>
              <a:gd name="adj3" fmla="val -96157"/>
              <a:gd name="adj4" fmla="val -7245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lay from input chang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o output 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7" name=""/>
          <p:cNvSpPr/>
          <p:nvPr/>
        </p:nvSpPr>
        <p:spPr>
          <a:xfrm>
            <a:off x="6248520" y="3276720"/>
            <a:ext cx="2438280" cy="916920"/>
          </a:xfrm>
          <a:prstGeom prst="borderCallout1">
            <a:avLst>
              <a:gd name="adj1" fmla="val 18750"/>
              <a:gd name="adj2" fmla="val -8333"/>
              <a:gd name="adj3" fmla="val 49134"/>
              <a:gd name="adj4" fmla="val -8963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mulation register - keeps track of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lue of sig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FBC4-7C0D-4247-9205-C9C81C94549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8" name=""/>
          <p:cNvSpPr/>
          <p:nvPr/>
        </p:nvSpPr>
        <p:spPr>
          <a:xfrm>
            <a:off x="685800" y="2209680"/>
            <a:ext cx="858528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module xor_gate (out, a, b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input         a, b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output        out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reg           out;</a:t>
            </a:r>
            <a:br>
              <a:rPr sz="2100"/>
            </a:b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always @(a or b) 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#6 out = a ^ b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imple behavioral mode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8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ways blo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1" name=""/>
          <p:cNvSpPr/>
          <p:nvPr/>
        </p:nvSpPr>
        <p:spPr>
          <a:xfrm>
            <a:off x="4638600" y="5105520"/>
            <a:ext cx="4105440" cy="642600"/>
          </a:xfrm>
          <a:prstGeom prst="borderCallout1">
            <a:avLst>
              <a:gd name="adj1" fmla="val 18750"/>
              <a:gd name="adj2" fmla="val -8333"/>
              <a:gd name="adj3" fmla="val -157222"/>
              <a:gd name="adj4" fmla="val -26291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ies when block is execute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e. triggered by which sig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F111-362E-491E-A9EB-8AC90A5DAF0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2" name=""/>
          <p:cNvSpPr/>
          <p:nvPr/>
        </p:nvSpPr>
        <p:spPr>
          <a:xfrm>
            <a:off x="609480" y="1523880"/>
            <a:ext cx="5499360" cy="52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module testbench (x, y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output        x, y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reg [1:0]     cnt;</a:t>
            </a:r>
            <a:br>
              <a:rPr sz="2100"/>
            </a:b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initial begin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cnt = 0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repeat (4) begin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#10 cnt = cnt + 1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$display ("@ time=%d, x=%b, y=%b, cnt=%b",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$time, x, y, cnt); end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#10 $finish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end</a:t>
            </a:r>
            <a:br>
              <a:rPr sz="2100"/>
            </a:b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assign x = cnt[1]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assign y = cnt[0]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3" name=""/>
          <p:cNvSpPr/>
          <p:nvPr/>
        </p:nvSpPr>
        <p:spPr>
          <a:xfrm>
            <a:off x="5689440" y="2451240"/>
            <a:ext cx="2184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riving a simulation through a “testbench”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85" name=""/>
          <p:cNvSpPr/>
          <p:nvPr/>
        </p:nvSpPr>
        <p:spPr>
          <a:xfrm>
            <a:off x="5486400" y="1779480"/>
            <a:ext cx="1544760" cy="411480"/>
          </a:xfrm>
          <a:prstGeom prst="borderCallout1">
            <a:avLst>
              <a:gd name="adj1" fmla="val 18750"/>
              <a:gd name="adj2" fmla="val -8333"/>
              <a:gd name="adj3" fmla="val 132689"/>
              <a:gd name="adj4" fmla="val -10141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-bit v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6" name=""/>
          <p:cNvSpPr/>
          <p:nvPr/>
        </p:nvSpPr>
        <p:spPr>
          <a:xfrm>
            <a:off x="5486400" y="2666880"/>
            <a:ext cx="2895480" cy="916920"/>
          </a:xfrm>
          <a:prstGeom prst="borderCallout1">
            <a:avLst>
              <a:gd name="adj1" fmla="val 18750"/>
              <a:gd name="adj2" fmla="val -8333"/>
              <a:gd name="adj3" fmla="val 33277"/>
              <a:gd name="adj4" fmla="val -81351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l block execute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ly once at star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f 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7" name=""/>
          <p:cNvSpPr/>
          <p:nvPr/>
        </p:nvSpPr>
        <p:spPr>
          <a:xfrm>
            <a:off x="5562720" y="5715000"/>
            <a:ext cx="2187360" cy="642600"/>
          </a:xfrm>
          <a:prstGeom prst="borderCallout1">
            <a:avLst>
              <a:gd name="adj1" fmla="val 18750"/>
              <a:gd name="adj2" fmla="val -8333"/>
              <a:gd name="adj3" fmla="val -131185"/>
              <a:gd name="adj4" fmla="val -10318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rective to stop 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8" name=""/>
          <p:cNvSpPr/>
          <p:nvPr/>
        </p:nvSpPr>
        <p:spPr>
          <a:xfrm>
            <a:off x="6248520" y="4829040"/>
            <a:ext cx="2187360" cy="368280"/>
          </a:xfrm>
          <a:prstGeom prst="borderCallout1">
            <a:avLst>
              <a:gd name="adj1" fmla="val 18750"/>
              <a:gd name="adj2" fmla="val -8333"/>
              <a:gd name="adj3" fmla="val -29976"/>
              <a:gd name="adj4" fmla="val -7575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nt to a cons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81DE-EED1-4010-BDEF-3CFE4CFF6B7D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lete simulation 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9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antiate stimulus component and device to test in a schemat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1" name="" descr=""/>
          <p:cNvPicPr/>
          <p:nvPr/>
        </p:nvPicPr>
        <p:blipFill>
          <a:blip r:embed="rId1"/>
          <a:stretch/>
        </p:blipFill>
        <p:spPr>
          <a:xfrm>
            <a:off x="1822320" y="2963880"/>
            <a:ext cx="5410440" cy="1407960"/>
          </a:xfrm>
          <a:prstGeom prst="rect">
            <a:avLst/>
          </a:prstGeom>
          <a:ln w="0">
            <a:noFill/>
          </a:ln>
        </p:spPr>
      </p:pic>
      <p:sp>
        <p:nvSpPr>
          <p:cNvPr id="4192" name=""/>
          <p:cNvSpPr/>
          <p:nvPr/>
        </p:nvSpPr>
        <p:spPr>
          <a:xfrm>
            <a:off x="4944600" y="3116160"/>
            <a:ext cx="308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3" name=""/>
          <p:cNvSpPr/>
          <p:nvPr/>
        </p:nvSpPr>
        <p:spPr>
          <a:xfrm>
            <a:off x="4946760" y="3841920"/>
            <a:ext cx="311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4" name=""/>
          <p:cNvSpPr/>
          <p:nvPr/>
        </p:nvSpPr>
        <p:spPr>
          <a:xfrm>
            <a:off x="4946760" y="3554280"/>
            <a:ext cx="304560" cy="20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5" name=""/>
          <p:cNvSpPr/>
          <p:nvPr/>
        </p:nvSpPr>
        <p:spPr>
          <a:xfrm>
            <a:off x="6743880" y="3193920"/>
            <a:ext cx="311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6" name=""/>
          <p:cNvSpPr/>
          <p:nvPr/>
        </p:nvSpPr>
        <p:spPr>
          <a:xfrm>
            <a:off x="2192400" y="3489480"/>
            <a:ext cx="2328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-be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7" name=""/>
          <p:cNvSpPr/>
          <p:nvPr/>
        </p:nvSpPr>
        <p:spPr>
          <a:xfrm>
            <a:off x="4266720" y="3282840"/>
            <a:ext cx="300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8" name=""/>
          <p:cNvSpPr/>
          <p:nvPr/>
        </p:nvSpPr>
        <p:spPr>
          <a:xfrm>
            <a:off x="4267080" y="3573360"/>
            <a:ext cx="298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B8C6-655D-4BAC-8329-1C092B74C103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9" name=""/>
          <p:cNvSpPr/>
          <p:nvPr/>
        </p:nvSpPr>
        <p:spPr>
          <a:xfrm>
            <a:off x="533520" y="2057400"/>
            <a:ext cx="807696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module Compare1 (Equal, Alarger, Blarger, A, B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input     A, B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output    Equal, Alarger, Blarger;</a:t>
            </a:r>
            <a:br>
              <a:rPr sz="2100"/>
            </a:b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assign #5 Equal = (A &amp; B) | (~A &amp; ~B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assign #3 Alarger = (A &amp; ~B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assign #3 Blarge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= (~A &amp; B)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2100"/>
            </a:b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arator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C3C3-D133-4070-8CE9-21A258B1B16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1" name=""/>
          <p:cNvSpPr/>
          <p:nvPr/>
        </p:nvSpPr>
        <p:spPr>
          <a:xfrm>
            <a:off x="457200" y="1663560"/>
            <a:ext cx="8458200" cy="51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dule life (n0, n1, n2, n3, n4, n5, n6, n7, self, out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input     n0, n1, n2, n3, n4, n5, n6, n7, self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output    ou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reg       ou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reg [7:0] neighbor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g [3:0] coun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reg [3:0] i;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assign neighbors = {n7, n6, n5, n4, n3, n2, n1, n0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lways @(neighbors or self) beg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count = 0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for (i = 0; i &lt; 8; i = i+1) count = count + neighbors[i]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out = (count == 3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out = out | ((self == 1) &amp; (count == 2)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end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re complex behavioral mode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BF63-90E8-49F3-A7BC-745CD99B8CF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ardware description languages vs. programming languag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0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ntiation of multiple components of the same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y interconnections between modules via schem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archy of modules (only leaves can be HDL in Aldec ActiveHD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ous assignment (logic always compu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agation delay (computation takes ti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ing of signals is important (when does computation have its effec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 explicitly spelled out - no dynamic structu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poi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ware is naturally parallel (must support multiple thre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gnments can occur in parallel (not just sequential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0209-680C-4C33-8A50-C45F840F847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ardware description languages and combination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0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ules - specification of inputs, outputs, bidirectional, and internal sign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inuous assignment - a gate’s output is a function of its inputs at all times (doesn’t need to wait to be "called"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agation delay- concept of time and delay in input affecting gate outp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osition - connecting modules together with wi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erarchy - modules encapsulate functional bloc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E125-7E13-47EC-8076-246A8E913B4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orking with combinational logic summar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08" name="PlaceHolder 2"/>
          <p:cNvSpPr>
            <a:spLocks noGrp="1"/>
          </p:cNvSpPr>
          <p:nvPr>
            <p:ph/>
          </p:nvPr>
        </p:nvSpPr>
        <p:spPr>
          <a:xfrm>
            <a:off x="463680" y="1493640"/>
            <a:ext cx="829296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 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ling in truth 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mpletely specified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fying two-leve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lizing two-level 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ND and NOR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s of Boolean functions and their time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me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rdware description langu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al logic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design cas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EF91-BC1A-48DE-98BC-EFAA358C9BD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1701720" y="4597560"/>
            <a:ext cx="176544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lock dia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uth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334120" y="5587920"/>
            <a:ext cx="22352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-variable K-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 each of the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794120" y="1994040"/>
            <a:ext cx="321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97760" y="1784520"/>
            <a:ext cx="0" cy="353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794120" y="2819520"/>
            <a:ext cx="321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844880" y="3632040"/>
            <a:ext cx="3124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844880" y="4457880"/>
            <a:ext cx="3149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800600" y="1778040"/>
            <a:ext cx="3276720" cy="37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8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4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sign example: 2x2-bit multipli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1143000" y="2654280"/>
            <a:ext cx="2590920" cy="1359000"/>
            <a:chOff x="1143000" y="2654280"/>
            <a:chExt cx="2590920" cy="1359000"/>
          </a:xfrm>
        </p:grpSpPr>
        <p:sp>
          <p:nvSpPr>
            <p:cNvPr id="518" name=""/>
            <p:cNvSpPr/>
            <p:nvPr/>
          </p:nvSpPr>
          <p:spPr>
            <a:xfrm>
              <a:off x="3429000" y="2717640"/>
              <a:ext cx="3049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981440" y="2654280"/>
              <a:ext cx="838080" cy="1359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819520" y="28828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819520" y="31878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819520" y="34923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819520" y="37846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143000" y="2717640"/>
              <a:ext cx="3049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447920" y="28828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447920" y="31878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447920" y="34923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447920" y="37846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22B0-314A-48CD-AF9F-73146940AEA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2616120" y="1625760"/>
            <a:ext cx="17272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-map for P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749840" y="1600200"/>
            <a:ext cx="17272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-map for P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641680" y="4140360"/>
            <a:ext cx="17017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-map for 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749840" y="4140360"/>
            <a:ext cx="17272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-map for 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sign example: 2x2-bit multiplier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6026040" y="1447920"/>
            <a:ext cx="2828880" cy="2365200"/>
            <a:chOff x="6026040" y="1447920"/>
            <a:chExt cx="2828880" cy="2365200"/>
          </a:xfrm>
        </p:grpSpPr>
        <p:sp>
          <p:nvSpPr>
            <p:cNvPr id="535" name=""/>
            <p:cNvSpPr/>
            <p:nvPr/>
          </p:nvSpPr>
          <p:spPr>
            <a:xfrm>
              <a:off x="6548400" y="17683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458120" y="17668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288200" y="16765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736040" y="16794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7278840" y="21272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288200" y="16765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8205840" y="2112840"/>
              <a:ext cx="0" cy="90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271000" y="24019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694640" y="14479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373800" y="16765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821640" y="16794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6364440" y="21272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540480" y="270684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450200" y="27050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288200" y="25938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736040" y="25970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>
              <a:off x="7278840" y="30448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821640" y="35082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373800" y="258300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227720" y="34830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373800" y="25938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821640" y="25970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6364440" y="30448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026040" y="2886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6010200" y="3962520"/>
            <a:ext cx="2828880" cy="2365200"/>
            <a:chOff x="6010200" y="3962520"/>
            <a:chExt cx="2828880" cy="2365200"/>
          </a:xfrm>
        </p:grpSpPr>
        <p:sp>
          <p:nvSpPr>
            <p:cNvPr id="560" name=""/>
            <p:cNvSpPr/>
            <p:nvPr/>
          </p:nvSpPr>
          <p:spPr>
            <a:xfrm>
              <a:off x="6532560" y="42829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442280" y="42814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272360" y="41911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719840" y="41940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7262640" y="4641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272360" y="41911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8190000" y="4627440"/>
              <a:ext cx="0" cy="90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8255160" y="49165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678800" y="39625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357960" y="41911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805440" y="41940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6348240" y="4641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524640" y="522144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434360" y="52196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272360" y="51084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719840" y="51116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7262640" y="55594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805440" y="60228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357960" y="509760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211880" y="59976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357960" y="51084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805440" y="51116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>
              <a:off x="6348240" y="55594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010200" y="54007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523800" y="3962520"/>
            <a:ext cx="2844720" cy="2365200"/>
            <a:chOff x="523800" y="3962520"/>
            <a:chExt cx="2844720" cy="2365200"/>
          </a:xfrm>
        </p:grpSpPr>
        <p:sp>
          <p:nvSpPr>
            <p:cNvPr id="585" name=""/>
            <p:cNvSpPr/>
            <p:nvPr/>
          </p:nvSpPr>
          <p:spPr>
            <a:xfrm>
              <a:off x="1062000" y="42829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71720" y="42814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801800" y="41911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249640" y="41940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1792440" y="4641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801800" y="41911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719440" y="4627440"/>
              <a:ext cx="0" cy="90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784600" y="49165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208240" y="39625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887400" y="41911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335240" y="41940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878040" y="4641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054080" y="522144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963800" y="52196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801800" y="51084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249640" y="51116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1792440" y="55594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335240" y="60228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887400" y="509760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741320" y="59976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87400" y="51084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335240" y="51116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878040" y="55594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23800" y="54007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523800" y="1447920"/>
            <a:ext cx="2844720" cy="2365200"/>
            <a:chOff x="523800" y="1447920"/>
            <a:chExt cx="2844720" cy="2365200"/>
          </a:xfrm>
        </p:grpSpPr>
        <p:sp>
          <p:nvSpPr>
            <p:cNvPr id="610" name=""/>
            <p:cNvSpPr/>
            <p:nvPr/>
          </p:nvSpPr>
          <p:spPr>
            <a:xfrm>
              <a:off x="1062000" y="17683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971720" y="17668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801800" y="16765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249640" y="16794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1792440" y="21272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801800" y="16765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719440" y="2112840"/>
              <a:ext cx="0" cy="90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784600" y="24019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208240" y="14479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87400" y="16765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335240" y="16794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878040" y="21272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054080" y="270684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963800" y="27050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801800" y="25938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249640" y="25970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1792440" y="30448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335240" y="35082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87400" y="258300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741320" y="34830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887400" y="25938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335240" y="25970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878040" y="30448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23800" y="2886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4" name=""/>
          <p:cNvSpPr/>
          <p:nvPr/>
        </p:nvSpPr>
        <p:spPr>
          <a:xfrm>
            <a:off x="2771640" y="2898720"/>
            <a:ext cx="19051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8 = A2A1B2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873080" y="2682720"/>
            <a:ext cx="304920" cy="304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893960" y="4708440"/>
            <a:ext cx="728640" cy="289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403280" y="5638680"/>
            <a:ext cx="762120" cy="304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317680" y="4724280"/>
            <a:ext cx="316080" cy="762120"/>
          </a:xfrm>
          <a:custGeom>
            <a:avLst/>
            <a:gdLst>
              <a:gd name="textAreaLeft" fmla="*/ 15120 w 316080"/>
              <a:gd name="textAreaRight" fmla="*/ 300960 w 316080"/>
              <a:gd name="textAreaTop" fmla="*/ 15120 h 762120"/>
              <a:gd name="textAreaBottom" fmla="*/ 747000 h 762120"/>
            </a:gdLst>
            <a:ahLst/>
            <a:rect l="textAreaLeft" t="textAreaTop" r="textAreaRight" b="textAreaBottom"/>
            <a:pathLst>
              <a:path w="21600" h="52046">
                <a:moveTo>
                  <a:pt x="3600" y="0"/>
                </a:moveTo>
                <a:arcTo wR="3600" hR="3600" stAng="16200000" swAng="-5400000"/>
                <a:lnTo>
                  <a:pt x="0" y="48446"/>
                </a:lnTo>
                <a:arcTo wR="3600" hR="3600" stAng="10800000" swAng="-5400000"/>
                <a:lnTo>
                  <a:pt x="18000" y="520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415880" y="5181480"/>
            <a:ext cx="304920" cy="76212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762120"/>
              <a:gd name="textAreaBottom" fmla="*/ 747360 h 762120"/>
            </a:gdLst>
            <a:ahLst/>
            <a:rect l="textAreaLeft" t="textAreaTop" r="textAreaRight" b="textAreaBottom"/>
            <a:pathLst>
              <a:path w="21600" h="53949">
                <a:moveTo>
                  <a:pt x="3600" y="0"/>
                </a:moveTo>
                <a:arcTo wR="3600" hR="3600" stAng="16200000" swAng="-5400000"/>
                <a:lnTo>
                  <a:pt x="0" y="50349"/>
                </a:lnTo>
                <a:arcTo wR="3600" hR="3600" stAng="10800000" swAng="-5400000"/>
                <a:lnTo>
                  <a:pt x="18000" y="539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869160" y="4708440"/>
            <a:ext cx="789120" cy="7891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7350120" y="2685960"/>
            <a:ext cx="761760" cy="761760"/>
            <a:chOff x="7350120" y="2685960"/>
            <a:chExt cx="761760" cy="761760"/>
          </a:xfrm>
        </p:grpSpPr>
        <p:sp>
          <p:nvSpPr>
            <p:cNvPr id="642" name=""/>
            <p:cNvSpPr/>
            <p:nvPr/>
          </p:nvSpPr>
          <p:spPr>
            <a:xfrm rot="16200000">
              <a:off x="7578720" y="2914560"/>
              <a:ext cx="761760" cy="30456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rot="16200000">
              <a:off x="7578720" y="2901960"/>
              <a:ext cx="304560" cy="761760"/>
            </a:xfrm>
            <a:custGeom>
              <a:avLst/>
              <a:gdLst>
                <a:gd name="textAreaLeft" fmla="*/ 14760 w 304560"/>
                <a:gd name="textAreaRight" fmla="*/ 289800 w 304560"/>
                <a:gd name="textAreaTop" fmla="*/ 14760 h 761760"/>
                <a:gd name="textAreaBottom" fmla="*/ 747000 h 761760"/>
              </a:gdLst>
              <a:ahLst/>
              <a:rect l="textAreaLeft" t="textAreaTop" r="textAreaRight" b="textAreaBottom"/>
              <a:pathLst>
                <a:path w="21600" h="53987">
                  <a:moveTo>
                    <a:pt x="3600" y="0"/>
                  </a:moveTo>
                  <a:arcTo wR="3600" hR="3600" stAng="16200000" swAng="-5400000"/>
                  <a:lnTo>
                    <a:pt x="0" y="50387"/>
                  </a:lnTo>
                  <a:arcTo wR="3600" hR="3600" stAng="10800000" swAng="-5400000"/>
                  <a:lnTo>
                    <a:pt x="18000" y="539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4" name=""/>
          <p:cNvSpPr/>
          <p:nvPr/>
        </p:nvSpPr>
        <p:spPr>
          <a:xfrm>
            <a:off x="4543560" y="2063880"/>
            <a:ext cx="173988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4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= A2B2B1'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+ A2A1'B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17640" y="5369040"/>
            <a:ext cx="170208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= A2'A1B2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+ A1B2B1'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+ A2B2'B1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+ A2A1'B1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648320" y="4546440"/>
            <a:ext cx="16509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1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= A1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H="1" flipV="1">
            <a:off x="1726920" y="5472000"/>
            <a:ext cx="1662120" cy="162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 flipV="1">
            <a:off x="2163240" y="5811840"/>
            <a:ext cx="1047960" cy="158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H="1" flipV="1">
            <a:off x="2163240" y="5003640"/>
            <a:ext cx="1047960" cy="111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H="1" flipV="1">
            <a:off x="2501640" y="5487840"/>
            <a:ext cx="709560" cy="889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278400" y="2260440"/>
            <a:ext cx="1067040" cy="9842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278400" y="2517840"/>
            <a:ext cx="1533600" cy="4363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BC1B-71FD-4D7C-B47F-D414FEC6075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4626000" y="2114640"/>
            <a:ext cx="3632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435720" y="1905120"/>
            <a:ext cx="0" cy="330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708440" y="1898640"/>
            <a:ext cx="3772080" cy="33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8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4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8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4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241280" y="4807080"/>
            <a:ext cx="176544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lock dia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uth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873680" y="5556240"/>
            <a:ext cx="32256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-variable K-map for each of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4 output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965160" y="2808360"/>
            <a:ext cx="2590920" cy="1359000"/>
            <a:chOff x="965160" y="2808360"/>
            <a:chExt cx="2590920" cy="1359000"/>
          </a:xfrm>
        </p:grpSpPr>
        <p:sp>
          <p:nvSpPr>
            <p:cNvPr id="659" name=""/>
            <p:cNvSpPr/>
            <p:nvPr/>
          </p:nvSpPr>
          <p:spPr>
            <a:xfrm>
              <a:off x="3251160" y="2871720"/>
              <a:ext cx="3049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803600" y="2808360"/>
              <a:ext cx="838080" cy="1359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641680" y="30369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641680" y="33418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641680" y="364644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641680" y="39387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965160" y="2871720"/>
              <a:ext cx="3049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270080" y="30369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270080" y="33418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270080" y="364644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270080" y="39387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sign example: BCD increment by 1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5952-E5E9-4D66-BDB3-EDF7AB6C769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1" name=""/>
          <p:cNvGrpSpPr/>
          <p:nvPr/>
        </p:nvGrpSpPr>
        <p:grpSpPr>
          <a:xfrm>
            <a:off x="693720" y="1580040"/>
            <a:ext cx="8070840" cy="4828680"/>
            <a:chOff x="693720" y="1580040"/>
            <a:chExt cx="8070840" cy="4828680"/>
          </a:xfrm>
        </p:grpSpPr>
        <p:grpSp>
          <p:nvGrpSpPr>
            <p:cNvPr id="672" name=""/>
            <p:cNvGrpSpPr/>
            <p:nvPr/>
          </p:nvGrpSpPr>
          <p:grpSpPr>
            <a:xfrm>
              <a:off x="6428880" y="2722680"/>
              <a:ext cx="662040" cy="450720"/>
              <a:chOff x="6428880" y="2722680"/>
              <a:chExt cx="662040" cy="450720"/>
            </a:xfrm>
          </p:grpSpPr>
          <p:sp>
            <p:nvSpPr>
              <p:cNvPr id="673" name=""/>
              <p:cNvSpPr/>
              <p:nvPr/>
            </p:nvSpPr>
            <p:spPr>
              <a:xfrm flipH="1">
                <a:off x="6525720" y="2754360"/>
                <a:ext cx="565200" cy="37080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>
                <a:off x="6428880" y="2722680"/>
                <a:ext cx="209520" cy="45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1555920" y="1580040"/>
              <a:ext cx="917640" cy="2334960"/>
              <a:chOff x="1555920" y="1580040"/>
              <a:chExt cx="917640" cy="2334960"/>
            </a:xfrm>
          </p:grpSpPr>
          <p:grpSp>
            <p:nvGrpSpPr>
              <p:cNvPr id="676" name=""/>
              <p:cNvGrpSpPr/>
              <p:nvPr/>
            </p:nvGrpSpPr>
            <p:grpSpPr>
              <a:xfrm>
                <a:off x="1568880" y="1580040"/>
                <a:ext cx="904680" cy="661320"/>
                <a:chOff x="1568880" y="1580040"/>
                <a:chExt cx="904680" cy="661320"/>
              </a:xfrm>
            </p:grpSpPr>
            <p:sp>
              <p:nvSpPr>
                <p:cNvPr id="677" name=""/>
                <p:cNvSpPr/>
                <p:nvPr/>
              </p:nvSpPr>
              <p:spPr>
                <a:xfrm rot="16200000">
                  <a:off x="1722600" y="1586520"/>
                  <a:ext cx="564840" cy="744480"/>
                </a:xfrm>
                <a:custGeom>
                  <a:avLst/>
                  <a:gdLst>
                    <a:gd name="textAreaLeft" fmla="*/ 27360 w 564840"/>
                    <a:gd name="textAreaRight" fmla="*/ 537480 w 564840"/>
                    <a:gd name="textAreaTop" fmla="*/ 27360 h 744480"/>
                    <a:gd name="textAreaBottom" fmla="*/ 717120 h 744480"/>
                  </a:gdLst>
                  <a:ahLst/>
                  <a:rect l="textAreaLeft" t="textAreaTop" r="textAreaRight" b="textAreaBottom"/>
                  <a:pathLst>
                    <a:path w="21600" h="28465">
                      <a:moveTo>
                        <a:pt x="3600" y="0"/>
                      </a:moveTo>
                      <a:arcTo wR="3600" hR="3600" stAng="16200000" swAng="-5400000"/>
                      <a:lnTo>
                        <a:pt x="0" y="24865"/>
                      </a:lnTo>
                      <a:arcTo wR="3600" hR="3600" stAng="10800000" swAng="-5400000"/>
                      <a:lnTo>
                        <a:pt x="18000" y="2846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 rot="16200000">
                  <a:off x="1916640" y="1232280"/>
                  <a:ext cx="209160" cy="904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9" name=""/>
              <p:cNvGrpSpPr/>
              <p:nvPr/>
            </p:nvGrpSpPr>
            <p:grpSpPr>
              <a:xfrm>
                <a:off x="1555920" y="3252960"/>
                <a:ext cx="904680" cy="662040"/>
                <a:chOff x="1555920" y="3252960"/>
                <a:chExt cx="904680" cy="662040"/>
              </a:xfrm>
            </p:grpSpPr>
            <p:sp>
              <p:nvSpPr>
                <p:cNvPr id="680" name=""/>
                <p:cNvSpPr/>
                <p:nvPr/>
              </p:nvSpPr>
              <p:spPr>
                <a:xfrm flipH="1" rot="16200000">
                  <a:off x="1709640" y="3163320"/>
                  <a:ext cx="565200" cy="744480"/>
                </a:xfrm>
                <a:custGeom>
                  <a:avLst/>
                  <a:gdLst>
                    <a:gd name="textAreaLeft" fmla="*/ 27360 w 565200"/>
                    <a:gd name="textAreaRight" fmla="*/ 537840 w 565200"/>
                    <a:gd name="textAreaTop" fmla="*/ 27360 h 744480"/>
                    <a:gd name="textAreaBottom" fmla="*/ 717120 h 744480"/>
                  </a:gdLst>
                  <a:ahLst/>
                  <a:rect l="textAreaLeft" t="textAreaTop" r="textAreaRight" b="textAreaBottom"/>
                  <a:pathLst>
                    <a:path w="21600" h="28447">
                      <a:moveTo>
                        <a:pt x="3600" y="0"/>
                      </a:moveTo>
                      <a:arcTo wR="3600" hR="3600" stAng="16200000" swAng="-5400000"/>
                      <a:lnTo>
                        <a:pt x="0" y="24847"/>
                      </a:lnTo>
                      <a:arcTo wR="3600" hR="3600" stAng="10800000" swAng="-5400000"/>
                      <a:lnTo>
                        <a:pt x="18000" y="2844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 flipH="1" rot="16200000">
                  <a:off x="1902960" y="3357720"/>
                  <a:ext cx="209520" cy="904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82" name=""/>
            <p:cNvGrpSpPr/>
            <p:nvPr/>
          </p:nvGrpSpPr>
          <p:grpSpPr>
            <a:xfrm>
              <a:off x="8102520" y="2728800"/>
              <a:ext cx="662040" cy="451080"/>
              <a:chOff x="8102520" y="2728800"/>
              <a:chExt cx="662040" cy="451080"/>
            </a:xfrm>
          </p:grpSpPr>
          <p:sp>
            <p:nvSpPr>
              <p:cNvPr id="683" name=""/>
              <p:cNvSpPr/>
              <p:nvPr/>
            </p:nvSpPr>
            <p:spPr>
              <a:xfrm>
                <a:off x="8102520" y="2760840"/>
                <a:ext cx="565200" cy="37116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555040" y="2728800"/>
                <a:ext cx="209520" cy="45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5" name=""/>
            <p:cNvGrpSpPr/>
            <p:nvPr/>
          </p:nvGrpSpPr>
          <p:grpSpPr>
            <a:xfrm>
              <a:off x="7151760" y="3228840"/>
              <a:ext cx="887400" cy="646200"/>
              <a:chOff x="7151760" y="3228840"/>
              <a:chExt cx="887400" cy="646200"/>
            </a:xfrm>
          </p:grpSpPr>
          <p:sp>
            <p:nvSpPr>
              <p:cNvPr id="686" name=""/>
              <p:cNvSpPr/>
              <p:nvPr/>
            </p:nvSpPr>
            <p:spPr>
              <a:xfrm>
                <a:off x="7183440" y="3228840"/>
                <a:ext cx="822240" cy="58104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151760" y="3697200"/>
                <a:ext cx="88740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"/>
            <p:cNvGrpSpPr/>
            <p:nvPr/>
          </p:nvGrpSpPr>
          <p:grpSpPr>
            <a:xfrm>
              <a:off x="6708600" y="3994200"/>
              <a:ext cx="1808280" cy="693360"/>
              <a:chOff x="6708600" y="3994200"/>
              <a:chExt cx="1808280" cy="693360"/>
            </a:xfrm>
          </p:grpSpPr>
          <p:sp>
            <p:nvSpPr>
              <p:cNvPr id="689" name=""/>
              <p:cNvSpPr/>
              <p:nvPr/>
            </p:nvSpPr>
            <p:spPr>
              <a:xfrm flipV="1">
                <a:off x="6740640" y="4155480"/>
                <a:ext cx="1726920" cy="5317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flipV="1">
                <a:off x="6708600" y="3994200"/>
                <a:ext cx="1808280" cy="241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1" name=""/>
            <p:cNvGrpSpPr/>
            <p:nvPr/>
          </p:nvGrpSpPr>
          <p:grpSpPr>
            <a:xfrm>
              <a:off x="6715080" y="5699160"/>
              <a:ext cx="1808280" cy="709560"/>
              <a:chOff x="6715080" y="5699160"/>
              <a:chExt cx="1808280" cy="709560"/>
            </a:xfrm>
          </p:grpSpPr>
          <p:sp>
            <p:nvSpPr>
              <p:cNvPr id="692" name=""/>
              <p:cNvSpPr/>
              <p:nvPr/>
            </p:nvSpPr>
            <p:spPr>
              <a:xfrm>
                <a:off x="6746760" y="5699160"/>
                <a:ext cx="1727280" cy="5317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6715080" y="6167520"/>
                <a:ext cx="1808280" cy="241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4" name=""/>
            <p:cNvSpPr/>
            <p:nvPr/>
          </p:nvSpPr>
          <p:spPr>
            <a:xfrm>
              <a:off x="3117960" y="2646360"/>
              <a:ext cx="3243240" cy="16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O8 = I4 I2 I1 + I8 I1'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O4 = I4 I2' + I4 I1' + I4’ I2 I1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O2 = I8’ I2’ I1 + I2 I1'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O1 = I1'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162080" y="2776680"/>
              <a:ext cx="758880" cy="3553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93720" y="4778280"/>
              <a:ext cx="824040" cy="3556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93720" y="5699160"/>
              <a:ext cx="1711440" cy="3538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199280" y="1873080"/>
              <a:ext cx="790560" cy="806760"/>
            </a:xfrm>
            <a:custGeom>
              <a:avLst/>
              <a:gdLst>
                <a:gd name="textAreaLeft" fmla="*/ 38520 w 790560"/>
                <a:gd name="textAreaRight" fmla="*/ 752040 w 790560"/>
                <a:gd name="textAreaTop" fmla="*/ 38520 h 806760"/>
                <a:gd name="textAreaBottom" fmla="*/ 768240 h 806760"/>
              </a:gdLst>
              <a:ahLst/>
              <a:rect l="textAreaLeft" t="textAreaTop" r="textAreaRight" b="textAreaBottom"/>
              <a:pathLst>
                <a:path w="21600" h="22042">
                  <a:moveTo>
                    <a:pt x="3600" y="0"/>
                  </a:moveTo>
                  <a:arcTo wR="3600" hR="3600" stAng="16200000" swAng="-5400000"/>
                  <a:lnTo>
                    <a:pt x="0" y="18442"/>
                  </a:lnTo>
                  <a:arcTo wR="3600" hR="3600" stAng="10800000" swAng="-5400000"/>
                  <a:lnTo>
                    <a:pt x="18000" y="2204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9" name=""/>
            <p:cNvGrpSpPr/>
            <p:nvPr/>
          </p:nvGrpSpPr>
          <p:grpSpPr>
            <a:xfrm>
              <a:off x="7145280" y="1587960"/>
              <a:ext cx="887400" cy="645480"/>
              <a:chOff x="7145280" y="1587960"/>
              <a:chExt cx="887400" cy="645480"/>
            </a:xfrm>
          </p:grpSpPr>
          <p:sp>
            <p:nvSpPr>
              <p:cNvPr id="700" name=""/>
              <p:cNvSpPr/>
              <p:nvPr/>
            </p:nvSpPr>
            <p:spPr>
              <a:xfrm flipV="1">
                <a:off x="7176960" y="1652400"/>
                <a:ext cx="822240" cy="58068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V="1">
                <a:off x="7145280" y="1587600"/>
                <a:ext cx="887400" cy="177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2" name=""/>
          <p:cNvSpPr/>
          <p:nvPr/>
        </p:nvSpPr>
        <p:spPr>
          <a:xfrm>
            <a:off x="2571840" y="1739880"/>
            <a:ext cx="6350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O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305400" y="1749600"/>
            <a:ext cx="5842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O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581200" y="4184640"/>
            <a:ext cx="5842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O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305400" y="4197240"/>
            <a:ext cx="5590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O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sign example: BCD increment by 1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290520" y="1589040"/>
            <a:ext cx="2835000" cy="2365200"/>
            <a:chOff x="290520" y="1589040"/>
            <a:chExt cx="2835000" cy="2365200"/>
          </a:xfrm>
        </p:grpSpPr>
        <p:sp>
          <p:nvSpPr>
            <p:cNvPr id="708" name=""/>
            <p:cNvSpPr/>
            <p:nvPr/>
          </p:nvSpPr>
          <p:spPr>
            <a:xfrm>
              <a:off x="819000" y="19094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728720" y="190800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558800" y="18176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06640" y="18205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1549440" y="22683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558800" y="18176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476440" y="2253960"/>
              <a:ext cx="0" cy="90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541600" y="254304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965240" y="15890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44400" y="18176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092240" y="18205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635040" y="22683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811080" y="284796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720800" y="284616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558800" y="27349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006640" y="27381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1549440" y="31860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092240" y="36493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44400" y="272412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498320" y="36241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44400" y="27349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092240" y="27381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635040" y="31860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90520" y="3027240"/>
              <a:ext cx="36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290520" y="4054320"/>
            <a:ext cx="2835000" cy="2365200"/>
            <a:chOff x="290520" y="4054320"/>
            <a:chExt cx="2835000" cy="2365200"/>
          </a:xfrm>
        </p:grpSpPr>
        <p:sp>
          <p:nvSpPr>
            <p:cNvPr id="733" name=""/>
            <p:cNvSpPr/>
            <p:nvPr/>
          </p:nvSpPr>
          <p:spPr>
            <a:xfrm>
              <a:off x="819000" y="43747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728720" y="43732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558800" y="42829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006640" y="42858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1549440" y="47336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558800" y="42829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476440" y="4719240"/>
              <a:ext cx="0" cy="90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541600" y="50083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965240" y="40543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44400" y="42829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092240" y="42858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635040" y="47336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811080" y="531324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720800" y="53114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558800" y="52002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006640" y="52034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1549440" y="56512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092240" y="61146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44400" y="518940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498320" y="60894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44400" y="52002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092240" y="52034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635040" y="56512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0520" y="5492520"/>
              <a:ext cx="36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6338880" y="1589040"/>
            <a:ext cx="2835000" cy="2365200"/>
            <a:chOff x="6338880" y="1589040"/>
            <a:chExt cx="2835000" cy="2365200"/>
          </a:xfrm>
        </p:grpSpPr>
        <p:sp>
          <p:nvSpPr>
            <p:cNvPr id="758" name=""/>
            <p:cNvSpPr/>
            <p:nvPr/>
          </p:nvSpPr>
          <p:spPr>
            <a:xfrm>
              <a:off x="6867360" y="19094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777080" y="190800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607160" y="18176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8055000" y="18205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7597800" y="22683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607160" y="18176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8524800" y="2253960"/>
              <a:ext cx="0" cy="90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8589960" y="254304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8013600" y="15890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692760" y="18176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140600" y="18205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6683400" y="22683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859440" y="284796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769160" y="284616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607160" y="27349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8055000" y="27381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7597800" y="31860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140600" y="36493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692760" y="272412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546680" y="36241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692760" y="27349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140600" y="27381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6683400" y="31860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338880" y="3027240"/>
              <a:ext cx="36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2" name=""/>
          <p:cNvGrpSpPr/>
          <p:nvPr/>
        </p:nvGrpSpPr>
        <p:grpSpPr>
          <a:xfrm>
            <a:off x="6340680" y="4054320"/>
            <a:ext cx="2835000" cy="2365200"/>
            <a:chOff x="6340680" y="4054320"/>
            <a:chExt cx="2835000" cy="2365200"/>
          </a:xfrm>
        </p:grpSpPr>
        <p:sp>
          <p:nvSpPr>
            <p:cNvPr id="783" name=""/>
            <p:cNvSpPr/>
            <p:nvPr/>
          </p:nvSpPr>
          <p:spPr>
            <a:xfrm>
              <a:off x="6869160" y="43747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778880" y="43732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608960" y="42829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8056800" y="42858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7599600" y="47336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608960" y="42829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8526600" y="4719240"/>
              <a:ext cx="0" cy="90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8591760" y="50083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8015400" y="40543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694560" y="42829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142400" y="42858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6685200" y="47336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861240" y="531324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770960" y="53114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08960" y="52002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8056800" y="52034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>
              <a:off x="7599600" y="56512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142400" y="61146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694560" y="518940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548480" y="60894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694560" y="52002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142400" y="52034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6685200" y="56512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340680" y="5492520"/>
              <a:ext cx="36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F9CE-0E77-4283-9D6C-662CFCD499B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finition of terms for two-level simplific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535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ic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element of ON-set or DC-set or any group of these elements that can be combined to form a sub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e implic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icant that can't be combined with another to form a larger sub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sential prime implic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e implicant is essential if it alone covers an element of ON-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participate in ALL possible covers of the ON-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C-set used to form prime implicants but not to make implicant ess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 implicant into prime implica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inimize literals per ter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ver the ON-set with as few prime implicants as possib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inimize number of product ter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F293-0200-4657-8B1E-D9C58510E0C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1:31:29Z</dcterms:created>
  <dc:creator>Gaetano Borriello</dc:creator>
  <dc:description/>
  <dc:language>en-US</dc:language>
  <cp:lastModifiedBy>Gaetano Borriello</cp:lastModifiedBy>
  <cp:lastPrinted>2000-09-30T01:10:40Z</cp:lastPrinted>
  <dcterms:modified xsi:type="dcterms:W3CDTF">2005-01-24T06:58:56Z</dcterms:modified>
  <cp:revision>42</cp:revision>
  <dc:subject/>
  <dc:title>Combinational Logic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education/courses/cse370/99sp/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gaetano\Edu\cse370_s99\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